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  <p:custShowLst>
    <p:custShow name="自定义放映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4BC-EDC7-4FED-9EA0-A9D3A3BD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427-F97A-4519-84B3-35D2C606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818-4ABE-4CFB-822C-CC7EF5F0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7A9-1736-4C30-B410-36F84877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063D-CCE3-4C70-8D15-6198A7C6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63D9-F66B-4AD6-BD19-F45E3CB5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18F7-4E77-48FB-AC07-6DDA9432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1AC6-CE07-429D-9DBD-1FC74FCB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24A5-A19B-4203-9DA0-8A21C9DB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4292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D0D4-9DFE-4B41-A93F-ACE98FC3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AF40-34F1-49A1-8B54-0A6B014F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F68-FEAE-4178-B485-ABFCC987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15ED-FA3C-4211-A122-B17C897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2148-ECBA-414C-8645-4AB76610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AA5-10EC-4FD3-9C2D-B664EB6D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1BB8-54AB-48BA-B019-1A8BF24B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DAF1-0FFE-49A2-80BB-58553981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CBF3-29B1-4936-BAED-3480F987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7377A-CC77-4C8D-804D-518807BB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1F7D-D88C-4C2E-BFA1-E263F8C9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8C2D-08EE-4E04-A076-DF42C3D3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7A60-7A44-475C-AD76-90975F2F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101-16BF-4581-9B08-2B536B6B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4292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30CE-7953-4AC2-9D06-13764FE6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8A41-B1EF-40A1-890E-C52D480E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78CD-0185-44FF-B881-D1B2EBA6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E3D8-A25F-4595-8F0F-A71E1D1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D2BD-E8DE-406A-B80B-CE7153F1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01CD-2F64-41C1-836F-64E57572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4AD5-606D-408D-962F-81A193BA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B61C-1FCA-492A-A10D-CC661D1A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9B9A0-95D0-4FAB-BD69-86B68057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720B-393D-4575-A69F-46A9FA6B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84A-E685-410E-AD28-D0108AF4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6404-A8AC-41EB-9D76-9A799BC6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0DDD-6CC8-46A1-9929-B73C7831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4292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EA3D2-774E-4D9F-A52F-FF8F0C9E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03A8-4AE0-4C3C-AE7A-FDD49E1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6F090-D6EA-4527-B6D4-33529C32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51FA-D4FC-4E41-93FF-57F19C90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1A98-605D-4B75-B790-09B28E14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E53D-558A-4F2A-8B37-E69DF1A0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43200"/>
            <a:ext cx="264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027A-0066-47DD-B2DC-28E73E7F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673-033C-4A02-9881-39C2F884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4292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BBC-B909-4B34-AC8C-091DFC68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CE6-7912-4870-AB53-60C9BA0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4320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DF9-3323-498E-BE6D-FF09271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5B6-5CDD-4BF0-A0AA-4204C89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封面内页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6436-2B2C-4E5A-AED9-1B2262E5F9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图片1.jpg"/>
          <p:cNvPicPr/>
          <p:nvPr/>
        </p:nvPicPr>
        <p:blipFill>
          <a:blip r:embed="rId2"/>
          <a:srcRect l="676" t="647" r="731" b="782"/>
          <a:stretch/>
        </p:blipFill>
        <p:spPr>
          <a:xfrm>
            <a:off x="0" y="0"/>
            <a:ext cx="914868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AB42-A67A-4492-AF8F-60C8D234C3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封底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7D6F-32E0-4411-B157-37116A5AE4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封面内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00EB-04CA-49A2-BF49-2ADBC4CF2E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480" y="6453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4760" y="6237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5060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eeece1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eeece1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eeece1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eeece1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6:30:00Z</dcterms:created>
  <dc:creator>IdeaPPT</dc:creator>
  <dc:description/>
  <dc:language>en-US</dc:language>
  <cp:lastModifiedBy>微软用户</cp:lastModifiedBy>
  <cp:lastPrinted>1899-12-30T00:00:00Z</cp:lastPrinted>
  <dcterms:modified xsi:type="dcterms:W3CDTF">2014-05-25T05:29:16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