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1AD8-F206-4849-BF6D-74A734204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CED8-1725-46E7-BDAE-52F8E0A63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3605-0EAA-4783-A81B-47B58E473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14EB-07FE-429D-BFE0-B2A301A28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71B30-D867-4381-900E-707E0E737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6861C-7EFC-4E54-880B-D0AAEE614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A9A03-640D-4F38-A982-4C5458076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1197C-37AF-45F0-B425-D5B3E722C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A1A3D-26F8-45AC-81AE-4B28201DC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3C865-A73C-4CBA-BB49-2AA510E23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23F07-A6B9-494C-B359-EF3DE4F33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412F-D65F-44B4-BA97-6AE7C33B9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B854F-65C3-49A6-9993-E55FE6A0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9F98F-D921-4236-83E6-8D3201906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A4BE1-CD5B-4DFF-9D0D-A308D9E94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78572-1460-4E8D-90C1-41FEA2D11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FBCF9-85B9-4BF5-9460-388E3B789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322A-00B4-483E-821D-5D8D3C7FC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3156-1C4C-45D2-9804-8D8E143EA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F04B-6566-4DEF-BECC-D0CD3672F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2415-88E9-48D7-9BFD-03651D711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9CC3-0901-43EC-8E05-F40FE20D0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6813-9520-4FC8-B6BE-FF55D75A3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8005-59A8-442F-905F-B7ECBD4C1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17368-3DD5-47D3-AD70-2E4025D00E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008FF-971D-4172-8CE4-422DD1D594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48440" y="6426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573560" y="618336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06:17:00Z</dcterms:created>
  <dc:creator>David Chou</dc:creator>
  <dc:description/>
  <dc:language>en-US</dc:language>
  <cp:lastModifiedBy>Luca Ghersi</cp:lastModifiedBy>
  <cp:lastPrinted>1899-12-30T00:00:00Z</cp:lastPrinted>
  <dcterms:modified xsi:type="dcterms:W3CDTF">2014-05-15T06:51:40Z</dcterms:modified>
  <cp:revision>162</cp:revision>
  <dc:subject/>
  <dc:title>Windows Azure Platfor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