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26F-1458-45EA-BBC4-4C6592EC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BEE-3DA4-4A6B-B46A-3B20925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B61-2BA7-43EB-B614-1DADCB4C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C47-351E-4B73-A6F4-4983B91D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552-F4F7-443E-838D-88D234C7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9E78-4A1D-49A3-88FF-093F3631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8963-FC9A-49C8-BED1-2E9C025A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FD7F-4A3E-45ED-BAC7-BCEA9582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E6CD-F4C9-4FE3-96EC-745DFB82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EFB5-2932-43C2-8E75-BE5863B8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B7C-DAA0-4455-998E-535D4473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08C7-1E22-41B1-8C79-5536FAF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3861-EB4B-499C-B9BC-7FA27822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C474-BFC7-490B-91D8-C62F31D4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B0D5-01F1-494A-B50A-142C9B01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8BBA-B87F-47D6-95A5-BC110D69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404A-73D2-4E53-B558-0E1EB6C0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72D8-4FE3-44B6-9EB4-B6C1AC0A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F521D-2043-4AD5-B5BB-DFA0C6B5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F40F4-4BEE-426C-A7B6-22C191D9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17E8-34CF-4B8B-A127-D61182DB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332-D88C-4B20-A08A-D4574EFD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541F-BD27-4C06-82D6-766AF77E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B1F6-4A22-476C-AFB2-92A7D774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2B31-7C19-4DF5-99D0-8008AF91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89B8-EA55-44F7-87B3-D1D1E1C1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0A3E-D26D-46AE-B9B8-CB606061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4573-037D-44BA-8D0B-91EE8E54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6B44-819D-43B0-94A3-B2CAD095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F04A-689E-42F5-A9A3-2C73266D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4036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864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4036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888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4643-9DE1-4DFA-9AF2-A3851652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5FC-795A-4C01-914E-A0FFB79C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8640" y="27432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C59-E308-42C3-BCCD-9EA65E81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57A-938A-43AA-9620-EFB8A32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32F-9A5B-46E1-979E-5291A282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86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436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8640" y="3963600"/>
            <a:ext cx="8226720" cy="215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BF9-5366-4211-B685-8421B4D2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0"/>
            <a:ext cx="9144000" cy="1417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999A-5A9D-445A-9BCB-E2FA355FA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31680" y="0"/>
            <a:ext cx="9175680" cy="3886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149720"/>
            <a:ext cx="77724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50720"/>
            <a:ext cx="646200" cy="6098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85160" y="685800"/>
            <a:ext cx="5112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54880" y="6922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61400" y="301680"/>
            <a:ext cx="511200" cy="51264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39040" y="333360"/>
            <a:ext cx="513000" cy="51120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22320"/>
            <a:ext cx="9144000" cy="428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4D4C-86EE-42B0-AC2B-99B04752A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126120"/>
            <a:ext cx="9144000" cy="731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02520" y="6346800"/>
            <a:ext cx="358920" cy="3589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85160" y="658800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39040" y="658800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78680" y="6237360"/>
            <a:ext cx="23508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39040" y="6235560"/>
            <a:ext cx="236520" cy="2365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8640" y="1598760"/>
            <a:ext cx="8226720" cy="45273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rmAutofit/>
          </a:bodyPr>
          <a:p>
            <a:pPr marL="336600" indent="-336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7200" indent="-2793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9240" indent="-22392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6720" indent="-22356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14560" indent="-22392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864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2640" y="624492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4880" y="6244920"/>
            <a:ext cx="2130480" cy="476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5DB6-2317-4C6E-9331-750BEC5B6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60240" y="174456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毕业答辩通用模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演讲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4520" y="4780080"/>
            <a:ext cx="14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00600" y="520704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801880" y="934920"/>
            <a:ext cx="284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4640" y="2143080"/>
            <a:ext cx="576360" cy="57636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79840" y="2711520"/>
            <a:ext cx="2303280" cy="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44640" y="2846520"/>
            <a:ext cx="576360" cy="5760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79840" y="3414600"/>
            <a:ext cx="2303280" cy="180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36720" y="3533760"/>
            <a:ext cx="576360" cy="577800"/>
          </a:xfrm>
          <a:prstGeom prst="pentagon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95680" y="4094280"/>
            <a:ext cx="2303640" cy="1440"/>
          </a:xfrm>
          <a:prstGeom prst="line">
            <a:avLst/>
          </a:prstGeom>
          <a:ln w="255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33840" y="4222800"/>
            <a:ext cx="576000" cy="577800"/>
          </a:xfrm>
          <a:prstGeom prst="pentagon">
            <a:avLst/>
          </a:pr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68680" y="4791240"/>
            <a:ext cx="2303640" cy="1440"/>
          </a:xfrm>
          <a:prstGeom prst="line">
            <a:avLst/>
          </a:prstGeom>
          <a:ln w="255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1 /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文内容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1960" y="838080"/>
            <a:ext cx="77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882720"/>
            <a:ext cx="35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二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19280" y="692280"/>
            <a:ext cx="16048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cc00"/>
                </a:solidFill>
                <a:latin typeface="Arial"/>
                <a:ea typeface="微软雅黑"/>
              </a:rPr>
              <a:t>数据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Rectangle 3"/>
          <p:cNvGraphicFramePr/>
          <p:nvPr/>
        </p:nvGraphicFramePr>
        <p:xfrm>
          <a:off x="1403280" y="1701720"/>
          <a:ext cx="6203880" cy="34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1720"/>
                    <a:ext cx="6203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7164360" y="57340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70240" y="2773440"/>
            <a:ext cx="387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cc00"/>
                </a:solidFill>
                <a:latin typeface="Arial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154240" y="3870360"/>
            <a:ext cx="4913280" cy="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827680" y="1849320"/>
            <a:ext cx="1239840" cy="2053800"/>
            <a:chOff x="5827680" y="1849320"/>
            <a:chExt cx="1239840" cy="2053800"/>
          </a:xfrm>
        </p:grpSpPr>
        <p:grpSp>
          <p:nvGrpSpPr>
            <p:cNvPr id="206" name=""/>
            <p:cNvGrpSpPr/>
            <p:nvPr/>
          </p:nvGrpSpPr>
          <p:grpSpPr>
            <a:xfrm>
              <a:off x="5827680" y="1849320"/>
              <a:ext cx="1239840" cy="2053800"/>
              <a:chOff x="5827680" y="1849320"/>
              <a:chExt cx="1239840" cy="2053800"/>
            </a:xfrm>
          </p:grpSpPr>
          <p:sp>
            <p:nvSpPr>
              <p:cNvPr id="207" name=""/>
              <p:cNvSpPr/>
              <p:nvPr/>
            </p:nvSpPr>
            <p:spPr>
              <a:xfrm>
                <a:off x="6126480" y="1849320"/>
                <a:ext cx="644760" cy="6458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43120" y="2378160"/>
                <a:ext cx="410040" cy="11160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91840" y="25340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曲线 235"/>
              <p:cNvSpPr/>
              <p:nvPr/>
            </p:nvSpPr>
            <p:spPr>
              <a:xfrm rot="20520000">
                <a:off x="6515280" y="2658240"/>
                <a:ext cx="464040" cy="38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cubicBezTo>
                      <a:pt x="1394" y="18084"/>
                      <a:pt x="3963" y="7704"/>
                      <a:pt x="8286" y="3852"/>
                    </a:cubicBezTo>
                    <a:cubicBezTo>
                      <a:pt x="12609" y="0"/>
                      <a:pt x="18975" y="1530"/>
                      <a:pt x="21600" y="2321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曲线 238"/>
              <p:cNvSpPr/>
              <p:nvPr/>
            </p:nvSpPr>
            <p:spPr>
              <a:xfrm rot="660000">
                <a:off x="5915520" y="2459520"/>
                <a:ext cx="498240" cy="3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cubicBezTo>
                      <a:pt x="4212" y="3699"/>
                      <a:pt x="16289" y="11134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27680" y="2305440"/>
                <a:ext cx="175680" cy="1760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302160" y="3480840"/>
                <a:ext cx="11160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501600" y="3467520"/>
                <a:ext cx="135360" cy="234360"/>
              </a:xfrm>
              <a:prstGeom prst="line">
                <a:avLst/>
              </a:prstGeom>
              <a:ln w="507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6540000">
                <a:off x="6193080" y="366444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4020000">
                <a:off x="6584040" y="3657960"/>
                <a:ext cx="176400" cy="23400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rot="6300000">
              <a:off x="6369480" y="2294640"/>
              <a:ext cx="96840" cy="9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73360" y="2069640"/>
              <a:ext cx="7596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46600" y="2118960"/>
              <a:ext cx="75960" cy="7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505160" y="6021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LHCan</cp:lastModifiedBy>
  <dcterms:modified xsi:type="dcterms:W3CDTF">2014-05-21T14:39:2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