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24F-82D6-4AF1-A1AC-C83C317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42E-CC43-4B65-93B1-D1AAC20B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C6B-6897-4A72-B65F-87D7A8A3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5B5-2488-4CD8-A492-3C281EF4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03AB-B62C-45F6-B989-07B5212C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8010-74EB-479F-87A3-0CFA8676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3D6D-B908-438C-855D-3C140980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7CB4-574B-4BB9-9F5B-06EECD85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CC13-A6D8-405C-836F-E31BE534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4120-8A63-47BF-A830-F2A747D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0E1F-17BE-4D40-B2EB-BC67AF9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EA2-EEA0-48E7-9AC3-EB0447D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934-6AC1-48D6-91FF-CEF7579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32CA-FBD6-46E5-A1D9-D753C71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8328-563B-440C-BA02-6C1975FE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E404-6BD4-45AB-8991-1308B432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34D-6C9A-449A-9BF5-0EF5577A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1A3-B035-48D8-845C-9E2A679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06B-8E61-4EA5-8D66-14464258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282-276F-4391-BFD1-DB75743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398-6C88-4B70-AFB0-D6FCECE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5C8-C6C3-459E-84AF-C28E2393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ADE-B8FA-431D-9988-94EF9D4C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816-DDB8-4FFA-8701-A2CF8AB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77D1-6085-4639-8B25-F22586FC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310-F547-4ED1-BC73-03AA89967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5244" r="0" b="0"/>
          <a:stretch/>
        </p:blipFill>
        <p:spPr>
          <a:xfrm>
            <a:off x="0" y="4622760"/>
            <a:ext cx="9144000" cy="22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5920" y="35812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19:06Z</dcterms:created>
  <dc:creator/>
  <dc:description/>
  <dc:language>en-US</dc:language>
  <cp:lastModifiedBy>MC SYSTEM</cp:lastModifiedBy>
  <dcterms:modified xsi:type="dcterms:W3CDTF">2014-05-29T06:41:1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