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4FE-0D73-4FE1-85E2-2F437CD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ED7-66A8-434D-B6B1-24F005D2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E27-3D8E-4761-B43B-6D92AE29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FFE-C47A-4AA6-987B-99736001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75BB-0BE2-4661-88E2-E3F05A4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F71D-E558-4C51-9578-70D175A9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D8F9-EC1B-41ED-A08C-64C989F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C90D-22E7-44FD-97C8-D96156A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49E-11C3-453D-BCDB-5A95E64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7F9D-14EF-47FA-A72C-347E3E2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241D-B395-4720-B97D-93EB150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21F-6657-48ED-A562-52D8067A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77B1-B57B-45CF-B9FE-FB273D7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4E1-C82B-4AA9-92A7-C29F91F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E122-7829-418E-A841-D0F8AB2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B017-5C2B-4792-8FFF-FEF09F00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9F2-2DEE-46EB-997D-6A4816F5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8B8-DF0F-4FFD-8552-5510BE7D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4AB-EC2B-497A-945F-0F20FE1E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061-90ED-474F-8188-D6CE63D3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708-2FB5-49C4-A826-1CFD699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AC8-D4DF-4076-89EC-C47490F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E03-A90E-4608-B4BD-C1E7945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A3B-55E1-4E09-8D8E-79953B5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C32-371A-406A-BA4B-BD4F00CA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9C66-28A8-4A2A-8566-D5637B1C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09960" y="55054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22960" y="546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001400" y="2876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厨具模板（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7:28:30Z</dcterms:created>
  <dc:creator>Administrator</dc:creator>
  <dc:description/>
  <dc:language>en-US</dc:language>
  <cp:lastModifiedBy/>
  <cp:lastPrinted>1899-12-30T00:00:00Z</cp:lastPrinted>
  <dcterms:modified xsi:type="dcterms:W3CDTF">2014-06-06T08:02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