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39A-F0B1-4F96-BAA6-CEDE4D98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4B1-C45B-4026-9ACD-24D8B805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A78-433A-48A0-8C12-2F45B0F7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1828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92216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41828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92216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AC4-75FD-4747-8C76-B7087253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FB76-A24A-4125-8F5F-D5437A4E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2930-49C1-4DFC-8943-EFB83D4A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0F0D-C0BA-4AF4-B979-F14D7260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5DA0-3178-4628-9FFF-2D7533A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7854-D6C9-4CF4-AA7E-965B1D53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365040"/>
            <a:ext cx="10363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20B8-37C6-483C-B602-0901BDE1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40F8-CA8A-457F-A390-92F0429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E96-E596-45AD-9693-492A6368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EA04-C1F9-42D3-8F6B-D13FD69A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4811-E5AA-4D76-B1B1-2D4764DD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B15A-2742-495F-9E75-7CDABE2F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19F5-CA2C-49CF-ABF2-2FB5A0F7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1828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2216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41828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2216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D281-F7A6-4CAC-B45E-BEB4B709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5165-DA27-4474-B1EB-A7219E3F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1514-784D-4018-948B-FE2C9FA5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0775-E1AC-4F27-B4C2-6917CD6E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8C7D-2C4E-4682-8BA7-BCCA5429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2C14-D9C0-482C-A774-D4CFADB2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55C-BDC9-499C-A660-57F090A0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040" y="365040"/>
            <a:ext cx="10363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C687-B280-4A27-A45D-57CA2D61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21D7-57D9-4AA5-8118-2668660B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9DC4-2637-42E4-9E63-AA48B122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43BC-6DF2-4C9B-9300-3A92C14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854E-C1AA-49D4-8011-5A9FACBD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795E-3C21-48DA-ACA3-F2400987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828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2216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04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41828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2216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B09F-3860-4CA0-B102-099F7A52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2A7-AE4E-4312-8BF5-ABF72A3B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74A-3B30-44D1-9484-74C3EDC8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365040"/>
            <a:ext cx="10363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532-8258-45A1-94B6-3078E1FD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7AE-8744-481D-ACCD-A08A72C6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B9C-4757-4A39-AA07-DD7E808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E34-B4AB-419A-A590-E30FB7FB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8"/>
          <p:cNvSpPr/>
          <p:nvPr/>
        </p:nvSpPr>
        <p:spPr>
          <a:xfrm>
            <a:off x="0" y="836640"/>
            <a:ext cx="1219212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836640"/>
            <a:ext cx="12192120" cy="5586480"/>
          </a:xfrm>
          <a:prstGeom prst="rect">
            <a:avLst/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6527880"/>
            <a:ext cx="12192120" cy="156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0" y="6527880"/>
            <a:ext cx="12192120" cy="156960"/>
          </a:xfrm>
          <a:prstGeom prst="rect">
            <a:avLst/>
          </a:prstGeom>
          <a:blipFill rotWithShape="0">
            <a:blip r:embed="rId4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0" y="6453360"/>
            <a:ext cx="12192120" cy="44280"/>
          </a:xfrm>
          <a:prstGeom prst="rect">
            <a:avLst/>
          </a:prstGeom>
          <a:solidFill>
            <a:srgbClr val="c2e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008000"/>
            <a:ext cx="1051560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99cb38"/>
              </a:buClr>
              <a:buSzPct val="9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0C29-FB9C-43E0-B5A3-726D5E749C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9144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04172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53452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032D-92BE-431B-9DB8-AB8AC198BE34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28520" y="0"/>
            <a:ext cx="12063600" cy="6858000"/>
            <a:chOff x="128520" y="0"/>
            <a:chExt cx="12063600" cy="6858000"/>
          </a:xfrm>
        </p:grpSpPr>
        <p:pic>
          <p:nvPicPr>
            <p:cNvPr id="91" name="Flowchart: Manual Input 8" descr=""/>
            <p:cNvPicPr/>
            <p:nvPr/>
          </p:nvPicPr>
          <p:blipFill>
            <a:blip r:embed="rId3"/>
            <a:stretch/>
          </p:blipFill>
          <p:spPr>
            <a:xfrm>
              <a:off x="129600" y="0"/>
              <a:ext cx="12062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16200000">
              <a:off x="2731320" y="-2602440"/>
              <a:ext cx="6858000" cy="120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0" y="0"/>
            <a:ext cx="6808680" cy="6858000"/>
            <a:chOff x="0" y="0"/>
            <a:chExt cx="6808680" cy="6858000"/>
          </a:xfrm>
        </p:grpSpPr>
        <p:pic>
          <p:nvPicPr>
            <p:cNvPr id="94" name="Diagonal Stripe 9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08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10800000">
              <a:off x="0" y="234720"/>
              <a:ext cx="6578640" cy="66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008000"/>
            <a:ext cx="1051560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99cb38"/>
              </a:buClr>
              <a:buSzPct val="9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2C4D-F1BA-4461-BAA8-74B54A70BA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2"/>
          <a:stretch/>
        </p:blipFill>
        <p:spPr>
          <a:xfrm>
            <a:off x="1523880" y="1042920"/>
            <a:ext cx="9468000" cy="2754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057960" y="6202440"/>
            <a:ext cx="268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652320" y="0"/>
            <a:ext cx="10704600" cy="969840"/>
            <a:chOff x="652320" y="0"/>
            <a:chExt cx="10704600" cy="969840"/>
          </a:xfrm>
        </p:grpSpPr>
        <p:pic>
          <p:nvPicPr>
            <p:cNvPr id="140" name="Title 1" descr=""/>
            <p:cNvPicPr/>
            <p:nvPr/>
          </p:nvPicPr>
          <p:blipFill>
            <a:blip r:embed="rId1"/>
            <a:stretch/>
          </p:blipFill>
          <p:spPr>
            <a:xfrm>
              <a:off x="652320" y="0"/>
              <a:ext cx="10704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652320" y="0"/>
              <a:ext cx="10704600" cy="9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 txBox="1"/>
          <p:nvPr/>
        </p:nvSpPr>
        <p:spPr>
          <a:xfrm>
            <a:off x="838080" y="1008000"/>
            <a:ext cx="1051560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99cb38"/>
              </a:buClr>
              <a:buSzPct val="9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99cb38"/>
              </a:buClr>
              <a:buSzPct val="9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3432240"/>
            <a:ext cx="12192120" cy="3425760"/>
            <a:chOff x="0" y="3432240"/>
            <a:chExt cx="12192120" cy="3425760"/>
          </a:xfrm>
        </p:grpSpPr>
        <p:pic>
          <p:nvPicPr>
            <p:cNvPr id="144" name="Rectangle 4" descr=""/>
            <p:cNvPicPr/>
            <p:nvPr/>
          </p:nvPicPr>
          <p:blipFill>
            <a:blip r:embed="rId1"/>
            <a:stretch/>
          </p:blipFill>
          <p:spPr>
            <a:xfrm>
              <a:off x="0" y="3435120"/>
              <a:ext cx="12192120" cy="34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3432240"/>
              <a:ext cx="12192120" cy="34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Rectangle 3"/>
          <p:cNvSpPr/>
          <p:nvPr/>
        </p:nvSpPr>
        <p:spPr>
          <a:xfrm>
            <a:off x="0" y="0"/>
            <a:ext cx="12192120" cy="4616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2017800" y="785880"/>
            <a:ext cx="6218280" cy="23907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7" descr=""/>
          <p:cNvPicPr/>
          <p:nvPr/>
        </p:nvPicPr>
        <p:blipFill>
          <a:blip r:embed="rId3"/>
          <a:stretch/>
        </p:blipFill>
        <p:spPr>
          <a:xfrm>
            <a:off x="2000160" y="2517840"/>
            <a:ext cx="6253200" cy="463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03800" y="40035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b8803"/>
                </a:solidFill>
                <a:uFillTx/>
                <a:latin typeface="华文新魏"/>
                <a:ea typeface="华文新魏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51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2:14:28Z</dcterms:created>
  <dc:creator>邹恩栋</dc:creator>
  <dc:description/>
  <cp:keywords>XS-宽屏 16：9;SC-淡绿色;BG-浅色;DH-静态</cp:keywords>
  <dc:language>en-US</dc:language>
  <cp:lastModifiedBy>D13001</cp:lastModifiedBy>
  <dcterms:modified xsi:type="dcterms:W3CDTF">2014-06-08T05:20:53Z</dcterms:modified>
  <cp:revision>4</cp:revision>
  <dc:subject>TP-通用纹理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