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F553-6A57-43BA-8903-57AA3C39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2120" y="16308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625760"/>
            <a:ext cx="866448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4201200"/>
            <a:ext cx="866448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16D-1B96-486E-B2F2-58271D54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2120" y="16308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625760"/>
            <a:ext cx="42282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1560" y="1625760"/>
            <a:ext cx="42282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4201200"/>
            <a:ext cx="42282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1560" y="4201200"/>
            <a:ext cx="42282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6570-CB37-4411-A582-D3811389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2120" y="16308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625760"/>
            <a:ext cx="278964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1360" y="1625760"/>
            <a:ext cx="278964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0680" y="1625760"/>
            <a:ext cx="278964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4201200"/>
            <a:ext cx="278964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1360" y="4201200"/>
            <a:ext cx="278964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0680" y="4201200"/>
            <a:ext cx="278964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CC77-ADA8-47A4-BA48-BA79FC43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2120" y="16308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625760"/>
            <a:ext cx="866448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8019-4E1E-4031-881D-8EAFBE0B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2120" y="16308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625760"/>
            <a:ext cx="866448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4267-D549-4DB9-8C3C-2483CFFC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2120" y="16308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625760"/>
            <a:ext cx="42282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1560" y="1625760"/>
            <a:ext cx="42282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D2A7-A7F7-4E26-97DC-4C3DDA98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2120" y="16308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4B3B-0EE7-44CB-971D-C8E05228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2120" y="163080"/>
            <a:ext cx="8147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F830-9B57-43E6-ADCE-20AFABD6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2120" y="16308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625760"/>
            <a:ext cx="42282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1560" y="1625760"/>
            <a:ext cx="42282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4201200"/>
            <a:ext cx="42282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2FCD-066B-427E-88FF-0A6EDAB0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2120" y="16308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625760"/>
            <a:ext cx="42282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1560" y="1625760"/>
            <a:ext cx="42282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1560" y="4201200"/>
            <a:ext cx="42282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56AF-A2B0-4657-AC6D-377F3386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2120" y="16308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625760"/>
            <a:ext cx="42282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1560" y="1625760"/>
            <a:ext cx="42282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4201200"/>
            <a:ext cx="866448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3B43-6BCC-45E8-9868-223C7424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Hexagon BG.wmv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2120" y="16308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1680" y="1625760"/>
            <a:ext cx="866448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5977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532C-E063-437B-ACC5-06A8058DFE01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219320" y="6597720"/>
            <a:ext cx="6705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57840" y="6597720"/>
            <a:ext cx="609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32B8-8B13-4FFE-B1DF-21F8A5034D2D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7200" y="1893960"/>
            <a:ext cx="8956800" cy="325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Hexagon 9"/>
          <p:cNvSpPr/>
          <p:nvPr/>
        </p:nvSpPr>
        <p:spPr>
          <a:xfrm rot="16200000">
            <a:off x="-916200" y="2800800"/>
            <a:ext cx="3260520" cy="1436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83920" y="1738080"/>
            <a:ext cx="7581960" cy="19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标题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83920" y="3736800"/>
            <a:ext cx="7581960" cy="13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请在此处输入可选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693756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3622680"/>
            <a:ext cx="9144000" cy="213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Hexagon 9"/>
          <p:cNvSpPr/>
          <p:nvPr/>
        </p:nvSpPr>
        <p:spPr>
          <a:xfrm rot="16200000">
            <a:off x="-1048320" y="3856320"/>
            <a:ext cx="3740040" cy="1665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5360" y="4422600"/>
            <a:ext cx="683892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节分割线版式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5360" y="3563640"/>
            <a:ext cx="683892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请在此处输入可选副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08F8-57F1-4171-8DB4-26B553818B18}" type="slidenum">
              <a:t>2</a:t>
            </a:fld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8"/>
          <p:cNvSpPr/>
          <p:nvPr/>
        </p:nvSpPr>
        <p:spPr>
          <a:xfrm>
            <a:off x="101520" y="0"/>
            <a:ext cx="9042480" cy="134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Hexagon 9"/>
          <p:cNvSpPr/>
          <p:nvPr/>
        </p:nvSpPr>
        <p:spPr>
          <a:xfrm rot="16200000">
            <a:off x="-342360" y="337680"/>
            <a:ext cx="1346040" cy="669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27320" y="163080"/>
            <a:ext cx="767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标题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1680" y="1612800"/>
            <a:ext cx="86644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占位符文本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占位符文本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占位符文本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4"/>
          <p:cNvSpPr/>
          <p:nvPr/>
        </p:nvSpPr>
        <p:spPr>
          <a:xfrm rot="20384400">
            <a:off x="613440" y="2599200"/>
            <a:ext cx="7950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选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框架背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3756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101520" y="0"/>
            <a:ext cx="9042480" cy="134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Hexagon 9"/>
          <p:cNvSpPr/>
          <p:nvPr/>
        </p:nvSpPr>
        <p:spPr>
          <a:xfrm rot="16200000">
            <a:off x="-342360" y="337680"/>
            <a:ext cx="1346040" cy="669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52120" y="16308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默认配色方案）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508040" y="6284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4"/>
          <p:cNvSpPr/>
          <p:nvPr/>
        </p:nvSpPr>
        <p:spPr>
          <a:xfrm>
            <a:off x="341280" y="1824120"/>
            <a:ext cx="85248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28440" y="63165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d20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4297-9D04-4E5E-9209-3F6D0A4A0E32}" type="slidenum">
              <a:t>5</a:t>
            </a:fld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d2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d2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d2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5:44:28Z</dcterms:created>
  <dc:creator>Administrator</dc:creator>
  <dc:description/>
  <dc:language>en-US</dc:language>
  <cp:lastModifiedBy/>
  <cp:lastPrinted>1899-12-30T00:00:00Z</cp:lastPrinted>
  <dcterms:modified xsi:type="dcterms:W3CDTF">2014-06-02T14:26:5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_TemplateID">
    <vt:lpwstr>TC027279929991</vt:lpwstr>
  </property>
</Properties>
</file>