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C58-CB47-453F-B7D4-5A0BF12D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392-B1B7-4CEA-90B9-6D0E3E16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FB3-2E8E-4146-BA65-53AA209F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7AE-5149-4669-AB88-50AE899D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77D-B51E-4D56-B29B-5397BED0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1C1-32D2-48F5-AEB8-9B662D23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08C-1209-4D80-A3DB-2A31D646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340-DCBB-4831-87C7-F6D1206F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43C-0D79-4D46-8996-C0954778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09A-9B92-49F1-BFD8-B617E56E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8C7-0363-4715-A41C-160EAA98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AB0-1139-4B5C-B73D-09691231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4FE6-7477-4E92-869F-60D2EB3E4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4920" y="1828800"/>
            <a:ext cx="4495680" cy="17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>
                    <a:alpha val="76000"/>
                  </a:srgbClr>
                </a:solidFill>
                <a:latin typeface="隶书"/>
              </a:rPr>
              <a:t>春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>
                  <a:alpha val="76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97920" y="62485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-454320" y="457200"/>
            <a:ext cx="2511720" cy="5257800"/>
            <a:chOff x="-454320" y="457200"/>
            <a:chExt cx="2511720" cy="5257800"/>
          </a:xfrm>
        </p:grpSpPr>
        <p:sp>
          <p:nvSpPr>
            <p:cNvPr id="80" name=""/>
            <p:cNvSpPr/>
            <p:nvPr/>
          </p:nvSpPr>
          <p:spPr>
            <a:xfrm>
              <a:off x="-454320" y="457200"/>
              <a:ext cx="152100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依然十里杏花红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06720" y="457200"/>
              <a:ext cx="85068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又是一年芳草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305920" y="6019920"/>
            <a:ext cx="6858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31680" y="457200"/>
            <a:ext cx="2511720" cy="5257800"/>
            <a:chOff x="1831680" y="457200"/>
            <a:chExt cx="2511720" cy="5257800"/>
          </a:xfrm>
        </p:grpSpPr>
        <p:sp>
          <p:nvSpPr>
            <p:cNvPr id="84" name=""/>
            <p:cNvSpPr/>
            <p:nvPr/>
          </p:nvSpPr>
          <p:spPr>
            <a:xfrm>
              <a:off x="1831680" y="457200"/>
              <a:ext cx="152100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日照神州百业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22400" y="457200"/>
              <a:ext cx="152100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春回大地千山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194000" y="457200"/>
            <a:ext cx="2511720" cy="5257800"/>
            <a:chOff x="4194000" y="457200"/>
            <a:chExt cx="2511720" cy="5257800"/>
          </a:xfrm>
        </p:grpSpPr>
        <p:sp>
          <p:nvSpPr>
            <p:cNvPr id="87" name=""/>
            <p:cNvSpPr/>
            <p:nvPr/>
          </p:nvSpPr>
          <p:spPr>
            <a:xfrm>
              <a:off x="4194000" y="457200"/>
              <a:ext cx="152100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和睦人家幸福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84720" y="457200"/>
              <a:ext cx="152100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勤劳门第春光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074000" y="457200"/>
            <a:ext cx="1841400" cy="5257800"/>
            <a:chOff x="7074000" y="457200"/>
            <a:chExt cx="1841400" cy="5257800"/>
          </a:xfrm>
        </p:grpSpPr>
        <p:sp>
          <p:nvSpPr>
            <p:cNvPr id="90" name=""/>
            <p:cNvSpPr/>
            <p:nvPr/>
          </p:nvSpPr>
          <p:spPr>
            <a:xfrm>
              <a:off x="7074000" y="457200"/>
              <a:ext cx="85068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竹  报  岁  平  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4720" y="457200"/>
              <a:ext cx="85068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梅  开  春  烂  漫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29600" y="5943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7360" y="685800"/>
            <a:ext cx="182628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依然十里杏花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63960" y="685800"/>
            <a:ext cx="100332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又是一年芳草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29600" y="5943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61440" y="762120"/>
            <a:ext cx="182628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日照神州百业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5040" y="762120"/>
            <a:ext cx="182628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春回大地千山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60" y="62485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29600" y="5943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18640" y="762120"/>
            <a:ext cx="182628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和睦人家幸福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5920" y="762120"/>
            <a:ext cx="182628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勤劳门第春光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229600" y="5943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66360" y="1295280"/>
            <a:ext cx="1826280" cy="4114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竹报岁平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47440" y="1295280"/>
            <a:ext cx="1826280" cy="4114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梅开春烂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14479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如果下功夫背诵一批名联，就能帮助我们感受到其中的声律美，领略祖国语言的无穷奥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314080" y="685800"/>
            <a:ext cx="1826280" cy="5410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红桃开口贺新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8200" y="685800"/>
            <a:ext cx="1826280" cy="5410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绿柳舒眉辞旧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60020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风送福                           礼貌服务顾客盈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家和睦一家福                 喜气临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明经商财源茂盛              勤勤恳恳做园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兢兢业业育桃李                  四季平安四季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1981080"/>
            <a:ext cx="312444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657600" y="1981080"/>
            <a:ext cx="1523880" cy="152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35268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819520"/>
            <a:ext cx="312408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07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0280" y="304920"/>
            <a:ext cx="1642680" cy="4495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学海无涯苦作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39000" y="304920"/>
            <a:ext cx="1642680" cy="4495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书山有路勤为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648320"/>
            <a:ext cx="8458200" cy="2209680"/>
          </a:xfrm>
          <a:prstGeom prst="horizontalScroll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每一位同学在学习之路上，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刻苦勤奋，都能通过自己的努力，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得更多的学习成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1523880"/>
            <a:ext cx="2057400" cy="1905120"/>
          </a:xfrm>
          <a:prstGeom prst="diamond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24200" y="162864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66680" y="144792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星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背诵课文中引用的五副春联，并能简单地说说它们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星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搜集两三副课外的春联，并在小组内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三星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当一次小作家，自己试着写一副春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43000" y="7621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ff"/>
                </a:solidFill>
                <a:latin typeface="隶书"/>
              </a:rPr>
              <a:t>课后拓展：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隶书"/>
              <a:ea typeface="隶书"/>
            </a:endParaRPr>
          </a:p>
        </p:txBody>
      </p:sp>
      <p:sp>
        <p:nvSpPr>
          <p:cNvPr id="129" name=""/>
          <p:cNvSpPr/>
          <p:nvPr/>
        </p:nvSpPr>
        <p:spPr>
          <a:xfrm>
            <a:off x="165060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95280" y="8377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增添    浏览    歌颂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和睦    声律    奥妙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气氛   揣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4038480"/>
            <a:ext cx="1371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 ē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114800"/>
            <a:ext cx="1371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 ē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增添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浏览    歌颂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和睦    声律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奥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妙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气氛   揣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4038480"/>
            <a:ext cx="1371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 ē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144684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万紫千红   欣欣向荣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抑扬顿挫    开卷有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2438280" y="1447920"/>
            <a:ext cx="51588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600200" y="266688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048120" y="1066680"/>
            <a:ext cx="15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ǎ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12552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9720" y="10666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卷起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4114800" y="41148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开卷有益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029200"/>
            <a:ext cx="3124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167652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人们常说“开卷有益”，其实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读读春联也是一种很好的学习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907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90600" y="254160"/>
            <a:ext cx="4762800" cy="634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981080" y="0"/>
            <a:ext cx="51818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67652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600200" y="0"/>
            <a:ext cx="57913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47920" y="0"/>
            <a:ext cx="61722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1397160" y="0"/>
            <a:ext cx="63496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143000" y="0"/>
            <a:ext cx="70102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380880" y="0"/>
            <a:ext cx="815364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304920" y="0"/>
            <a:ext cx="830556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浏览着各种各样的春联，就像是漫游在万紫千红的百花园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浏览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各种各样的春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就像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漫游在万紫千红的百花园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07:58:30Z</dcterms:created>
  <dc:creator/>
  <dc:description/>
  <dc:language>en-US</dc:language>
  <cp:lastModifiedBy>user</cp:lastModifiedBy>
  <dcterms:modified xsi:type="dcterms:W3CDTF">2014-06-05T08:16:1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