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2A0-E645-4F35-AE1A-D60803F5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613-F1F9-4895-B125-0AB46CD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5D0-2339-4601-B35E-AB34FEA8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270-06F7-40C1-A4AC-C1529F94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FCC-E6F3-4017-9B34-A4BEB5BE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4E0C-BBFD-419C-A25D-67C99969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8528-0E64-4E51-850E-BD1D1161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1431-1E18-4D3F-80E2-97CED837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B593-AC6E-4341-8A44-D794DC1C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E9B1-4454-4C48-8E5C-D5D26117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A333-D06B-46C4-A42B-CEA001FA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9C6-E930-450F-8C3E-D02DA306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035B-0844-48EB-BF8B-8782D4BF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CB5E-8BDC-4F67-92A9-FBD5CCFE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C8F9-A5BC-435D-B95E-097DAFB3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22BD-D2C9-4216-91E8-E30E5609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62B2-8B10-46F6-A76A-D944BEE8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673-928B-4790-92D1-D0EAE13E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0D2-23B4-42B1-A93C-736D004B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FC8-5242-4746-B449-FB7172E9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A1C-6037-471D-B7D7-7A97DB51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C93-4FD5-476C-8A4B-7A207453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2CB-7B7E-4635-9591-A6A6C7B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D33-7D20-4BFF-A8EE-89C50D6C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ccccff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8667-BC28-4DF8-AC09-1FDFEC2C5612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9F70-01F7-4911-B39E-E42BEAE6B6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ccccff"/>
              </a:solidFill>
              <a:latin typeface="微软雅黑"/>
            </a:endParaRPr>
          </a:p>
          <a:p>
            <a:pPr lvl="2" marL="914400" algn="ctr">
              <a:spcBef>
                <a:spcPts val="451"/>
              </a:spcBef>
              <a:buClr>
                <a:srgbClr val="ccccff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ccccff"/>
              </a:solidFill>
              <a:latin typeface="微软雅黑"/>
            </a:endParaRPr>
          </a:p>
          <a:p>
            <a:pPr lvl="3" marL="1371600" algn="ctr">
              <a:spcBef>
                <a:spcPts val="400"/>
              </a:spcBef>
              <a:buClr>
                <a:srgbClr val="ccccff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微软雅黑"/>
              </a:rPr>
              <a:t>Fourth Outline Level</a:t>
            </a:r>
            <a:endParaRPr b="0" lang="en-US" sz="1600" spc="-1" strike="noStrike">
              <a:solidFill>
                <a:srgbClr val="ccccff"/>
              </a:solidFill>
              <a:latin typeface="微软雅黑"/>
            </a:endParaRPr>
          </a:p>
          <a:p>
            <a:pPr lvl="4" marL="1828800" algn="ctr">
              <a:spcBef>
                <a:spcPts val="400"/>
              </a:spcBef>
              <a:buClr>
                <a:srgbClr val="ccccff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微软雅黑"/>
              </a:rPr>
              <a:t>Fifth Outline Level</a:t>
            </a:r>
            <a:endParaRPr b="0" lang="en-US" sz="1600" spc="-1" strike="noStrike">
              <a:solidFill>
                <a:srgbClr val="ccccff"/>
              </a:solidFill>
              <a:latin typeface="微软雅黑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微软雅黑"/>
              </a:rPr>
              <a:t>Sixth Outline Level</a:t>
            </a:r>
            <a:endParaRPr b="0" lang="en-US" sz="1600" spc="-1" strike="noStrike">
              <a:solidFill>
                <a:srgbClr val="ccccff"/>
              </a:solidFill>
              <a:latin typeface="微软雅黑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微软雅黑"/>
              </a:rPr>
              <a:t>Seventh Outline Level</a:t>
            </a:r>
            <a:endParaRPr b="0" lang="en-US" sz="1600" spc="-1" strike="noStrike">
              <a:solidFill>
                <a:srgbClr val="cccc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360" y="4869000"/>
            <a:ext cx="77752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"/>
          <p:cNvSpPr/>
          <p:nvPr/>
        </p:nvSpPr>
        <p:spPr>
          <a:xfrm>
            <a:off x="6878880" y="60213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87" name=""/>
          <p:cNvSpPr/>
          <p:nvPr/>
        </p:nvSpPr>
        <p:spPr>
          <a:xfrm>
            <a:off x="1213920" y="623736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7:12:06Z</dcterms:created>
  <dc:creator>keke</dc:creator>
  <dc:description/>
  <dc:language>en-US</dc:language>
  <cp:lastModifiedBy>king</cp:lastModifiedBy>
  <cp:lastPrinted>1899-12-30T00:00:00Z</cp:lastPrinted>
  <dcterms:modified xsi:type="dcterms:W3CDTF">2014-05-24T09:16:0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