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79B77-CFC5-4C3F-9C7E-9F7F0379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35CBC-D503-4022-80E7-08EF635F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158AF-E344-4B97-A30A-13A1EBD4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B34AB-DD11-430D-9FA5-34F3AC88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14117-6EEC-4DBD-80CF-74A84AA4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D0FD6-AEA6-4B77-987B-C2D70219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4D2CC-C066-4D52-849F-74E19CBA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B27A9-D146-4AD2-9085-FDFE1021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B2AEF-D17F-4712-AF7C-51779624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AA6AC-5A20-4FCB-B1F3-B6046175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87139-1693-4570-8F51-1E008FE8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4AF1A-E451-47CC-836E-63DF4CA3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64000" y="2493720"/>
            <a:ext cx="525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8E49-ABCA-4B4A-AB4E-D52E5EF89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64000" y="2493720"/>
            <a:ext cx="525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8588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656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在【格式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幻灯片设计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配色方案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修改在【视图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母版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幻灯片母版】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括标题和文本格式的设置在【视图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母版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64000" y="2493720"/>
            <a:ext cx="525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感谢您的关注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作者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7824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80808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80808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80808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80808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/>
  <dc:description/>
  <dc:language>en-US</dc:language>
  <cp:lastModifiedBy>小田</cp:lastModifiedBy>
  <cp:lastPrinted>1899-12-30T00:00:00Z</cp:lastPrinted>
  <dcterms:modified xsi:type="dcterms:W3CDTF">2014-05-30T07:27:59Z</dcterms:modified>
  <cp:revision>5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