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8D9-9E8E-4ADD-9B3A-A7FCDEC3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495-62C5-4295-93D0-5365698B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9DB-DCEC-4287-863E-61700D81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152-FAB6-4159-A002-4CDF19E9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83FD-83C3-4A8A-BF72-E1A23F65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FFA1-AD50-4C52-8783-5072942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772E-1161-4A7D-ABED-4431833A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54F-6B44-4F56-A7AF-555CCAE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86BC-4EB1-43C9-9AFB-DB92615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166A-6D3D-493F-ACCA-9E517799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09AD-1020-43F3-B165-888CAB4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5E6-78D2-421C-A5F8-FA12D968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7243-1B08-4834-BD01-1655490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6B9C-6A76-4740-8F59-AF479B7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0BF4-A581-401C-A8F2-80E0441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CE5-733B-4960-BC07-59D740A3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B5D9-8EE7-4226-AC8A-1E2E2C93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052-50E7-49BA-B87F-29C756E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435-EE45-4836-BE45-91359C9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607-14DE-4FAD-998B-F2B4C4A6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4F6-8864-4FCB-8983-700B3B4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5CB-533A-446F-B1F1-E7EC7091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8BE-D767-49AF-8610-DA82C17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280-26A8-4AF6-A226-1DBD4680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94B-22A3-4482-B313-59668CFA96F5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350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350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22F-C8ED-4D5F-9555-461A6782940B}" type="slidenum">
              <a:rPr b="0" lang="en-US" sz="1200" spc="-1" strike="noStrike">
                <a:solidFill>
                  <a:srgbClr val="4b350d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4b350d"/>
              </a:solidFill>
              <a:latin typeface="宋体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b350d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350d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6310440"/>
            <a:ext cx="67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8Z</dcterms:created>
  <dc:creator/>
  <dc:description/>
  <dc:language>en-US</dc:language>
  <cp:lastModifiedBy/>
  <dcterms:modified xsi:type="dcterms:W3CDTF">2014-11-05T01:16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  <property fmtid="{D5CDD505-2E9C-101B-9397-08002B2CF9AE}" pid="3" name="_TemplateID">
    <vt:lpwstr>TC103626582052</vt:lpwstr>
  </property>
</Properties>
</file>