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4B7-7A50-47EB-9F7E-B877CDB2D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539-1398-4791-B2F4-252647C8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DD5-C89F-4D63-BA6D-5D518D32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9008-3317-4437-8517-4A471BDC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5C34-DDDF-49E7-A4D0-706169A0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3A17-65B9-4A47-8380-052B8510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9B9-D6B2-4BF2-83AF-D9BF7AD6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EFB-E565-4AD4-85D7-D64E28D7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5D61-25B7-4F39-90DF-59EF399D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F01-E259-4CE6-9291-A915FA1F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DAD-47E7-416D-AE42-BBC8A6B78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43E8-0E35-4FAA-B736-CA7B685A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15560" y="115920"/>
            <a:ext cx="8812440" cy="436680"/>
            <a:chOff x="115560" y="115920"/>
            <a:chExt cx="8812440" cy="436680"/>
          </a:xfrm>
        </p:grpSpPr>
        <p:sp>
          <p:nvSpPr>
            <p:cNvPr id="1" name="Rectangle 111"/>
            <p:cNvSpPr/>
            <p:nvPr/>
          </p:nvSpPr>
          <p:spPr>
            <a:xfrm>
              <a:off x="1834920" y="189000"/>
              <a:ext cx="5616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2" name="Rectangle 112"/>
            <p:cNvSpPr/>
            <p:nvPr/>
          </p:nvSpPr>
          <p:spPr>
            <a:xfrm>
              <a:off x="115560" y="135000"/>
              <a:ext cx="167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Dotum"/>
                  <a:ea typeface="Dotum"/>
                </a:rPr>
                <a:t>Powerdiagram</a:t>
              </a:r>
              <a:endParaRPr b="0" lang="en-US" sz="16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179280" y="549360"/>
              <a:ext cx="8748720" cy="1440"/>
              <a:chOff x="179280" y="549360"/>
              <a:chExt cx="8748720" cy="1440"/>
            </a:xfrm>
          </p:grpSpPr>
          <p:sp>
            <p:nvSpPr>
              <p:cNvPr id="4" name="Line 113"/>
              <p:cNvSpPr/>
              <p:nvPr/>
            </p:nvSpPr>
            <p:spPr>
              <a:xfrm>
                <a:off x="179280" y="54936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5" name=""/>
              <p:cNvSpPr txBox="1"/>
              <p:nvPr/>
            </p:nvSpPr>
            <p:spPr>
              <a:xfrm>
                <a:off x="179280" y="54936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179280" y="115920"/>
              <a:ext cx="8748720" cy="1440"/>
              <a:chOff x="179280" y="115920"/>
              <a:chExt cx="8748720" cy="1440"/>
            </a:xfrm>
          </p:grpSpPr>
          <p:sp>
            <p:nvSpPr>
              <p:cNvPr id="7" name="Line 114"/>
              <p:cNvSpPr/>
              <p:nvPr/>
            </p:nvSpPr>
            <p:spPr>
              <a:xfrm>
                <a:off x="179280" y="115920"/>
                <a:ext cx="8748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8" name=""/>
              <p:cNvSpPr txBox="1"/>
              <p:nvPr/>
            </p:nvSpPr>
            <p:spPr>
              <a:xfrm>
                <a:off x="179280" y="115920"/>
                <a:ext cx="87487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763640" y="189000"/>
              <a:ext cx="1440" cy="287280"/>
              <a:chOff x="1763640" y="189000"/>
              <a:chExt cx="1440" cy="287280"/>
            </a:xfrm>
          </p:grpSpPr>
          <p:sp>
            <p:nvSpPr>
              <p:cNvPr id="10" name="Line 115"/>
              <p:cNvSpPr/>
              <p:nvPr/>
            </p:nvSpPr>
            <p:spPr>
              <a:xfrm>
                <a:off x="1763640" y="189000"/>
                <a:ext cx="1440" cy="28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1" name=""/>
              <p:cNvSpPr txBox="1"/>
              <p:nvPr/>
            </p:nvSpPr>
            <p:spPr>
              <a:xfrm>
                <a:off x="1763640" y="189000"/>
                <a:ext cx="144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sp>
        <p:nvSpPr>
          <p:cNvPr id="12" name="矩形 2"/>
          <p:cNvSpPr/>
          <p:nvPr/>
        </p:nvSpPr>
        <p:spPr>
          <a:xfrm>
            <a:off x="1685520" y="8388360"/>
            <a:ext cx="58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宋体"/>
              </a:rPr>
              <a:t>更多精彩，请移步：让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Gulim"/>
                <a:ea typeface="宋体"/>
              </a:rPr>
              <a:t>飞起来丨</a:t>
            </a: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http://pptshare.qzone.qq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D4A6-2002-4629-BEC4-81A1102C30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3776"/>
          <p:cNvSpPr/>
          <p:nvPr/>
        </p:nvSpPr>
        <p:spPr>
          <a:xfrm>
            <a:off x="6008760" y="2262240"/>
            <a:ext cx="792000" cy="79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AutoShape 3806"/>
          <p:cNvSpPr/>
          <p:nvPr/>
        </p:nvSpPr>
        <p:spPr>
          <a:xfrm>
            <a:off x="3255840" y="2022480"/>
            <a:ext cx="2952720" cy="647640"/>
          </a:xfrm>
          <a:prstGeom prst="bevel">
            <a:avLst>
              <a:gd name="adj" fmla="val 11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AutoShape 3771"/>
          <p:cNvSpPr/>
          <p:nvPr/>
        </p:nvSpPr>
        <p:spPr>
          <a:xfrm>
            <a:off x="888840" y="2168640"/>
            <a:ext cx="3672000" cy="3671640"/>
          </a:xfrm>
          <a:prstGeom prst="rtTriangl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AutoShape 3779"/>
          <p:cNvSpPr/>
          <p:nvPr/>
        </p:nvSpPr>
        <p:spPr>
          <a:xfrm>
            <a:off x="1879560" y="2022480"/>
            <a:ext cx="1295280" cy="649440"/>
          </a:xfrm>
          <a:prstGeom prst="rightArrowCallout">
            <a:avLst>
              <a:gd name="adj1" fmla="val 25076"/>
              <a:gd name="adj2" fmla="val 25000"/>
              <a:gd name="adj3" fmla="val 34718"/>
              <a:gd name="adj4" fmla="val 66667"/>
            </a:avLst>
          </a:prstGeom>
          <a:solidFill>
            <a:srgbClr val="eaeae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AutoShape 3785"/>
          <p:cNvSpPr/>
          <p:nvPr/>
        </p:nvSpPr>
        <p:spPr>
          <a:xfrm>
            <a:off x="6829560" y="3127320"/>
            <a:ext cx="792000" cy="7923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AutoShape 3786"/>
          <p:cNvSpPr/>
          <p:nvPr/>
        </p:nvSpPr>
        <p:spPr>
          <a:xfrm>
            <a:off x="4075200" y="2887560"/>
            <a:ext cx="2952720" cy="647640"/>
          </a:xfrm>
          <a:prstGeom prst="bevel">
            <a:avLst>
              <a:gd name="adj" fmla="val 11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AutoShape 3787"/>
          <p:cNvSpPr/>
          <p:nvPr/>
        </p:nvSpPr>
        <p:spPr>
          <a:xfrm>
            <a:off x="2700360" y="2887560"/>
            <a:ext cx="1295280" cy="649440"/>
          </a:xfrm>
          <a:prstGeom prst="rightArrowCallout">
            <a:avLst>
              <a:gd name="adj1" fmla="val 25076"/>
              <a:gd name="adj2" fmla="val 25000"/>
              <a:gd name="adj3" fmla="val 34691"/>
              <a:gd name="adj4" fmla="val 66667"/>
            </a:avLst>
          </a:prstGeom>
          <a:solidFill>
            <a:srgbClr val="eaeae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AutoShape 3793"/>
          <p:cNvSpPr/>
          <p:nvPr/>
        </p:nvSpPr>
        <p:spPr>
          <a:xfrm>
            <a:off x="7648560" y="3990960"/>
            <a:ext cx="792000" cy="792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AutoShape 3795"/>
          <p:cNvSpPr/>
          <p:nvPr/>
        </p:nvSpPr>
        <p:spPr>
          <a:xfrm>
            <a:off x="3519360" y="3751200"/>
            <a:ext cx="1295640" cy="649440"/>
          </a:xfrm>
          <a:prstGeom prst="rightArrowCallout">
            <a:avLst>
              <a:gd name="adj1" fmla="val 25076"/>
              <a:gd name="adj2" fmla="val 25000"/>
              <a:gd name="adj3" fmla="val 34700"/>
              <a:gd name="adj4" fmla="val 66667"/>
            </a:avLst>
          </a:prstGeom>
          <a:solidFill>
            <a:srgbClr val="eaeae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AutoShape 3802"/>
          <p:cNvSpPr/>
          <p:nvPr/>
        </p:nvSpPr>
        <p:spPr>
          <a:xfrm>
            <a:off x="5713560" y="4614840"/>
            <a:ext cx="2952720" cy="647640"/>
          </a:xfrm>
          <a:prstGeom prst="bevel">
            <a:avLst>
              <a:gd name="adj" fmla="val 11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AutoShape 3803"/>
          <p:cNvSpPr/>
          <p:nvPr/>
        </p:nvSpPr>
        <p:spPr>
          <a:xfrm>
            <a:off x="4338720" y="4614840"/>
            <a:ext cx="1295280" cy="649440"/>
          </a:xfrm>
          <a:prstGeom prst="rightArrowCallout">
            <a:avLst>
              <a:gd name="adj1" fmla="val 25076"/>
              <a:gd name="adj2" fmla="val 25000"/>
              <a:gd name="adj3" fmla="val 34691"/>
              <a:gd name="adj4" fmla="val 66667"/>
            </a:avLst>
          </a:prstGeom>
          <a:solidFill>
            <a:srgbClr val="eaeaea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AutoShape 3769"/>
          <p:cNvSpPr/>
          <p:nvPr/>
        </p:nvSpPr>
        <p:spPr>
          <a:xfrm>
            <a:off x="4894200" y="3751200"/>
            <a:ext cx="2952720" cy="647640"/>
          </a:xfrm>
          <a:prstGeom prst="bevel">
            <a:avLst>
              <a:gd name="adj" fmla="val 11028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Rectangle 3810"/>
          <p:cNvSpPr/>
          <p:nvPr/>
        </p:nvSpPr>
        <p:spPr>
          <a:xfrm>
            <a:off x="1795320" y="1954080"/>
            <a:ext cx="98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otum"/>
              </a:rPr>
              <a:t>Company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Rectangle 3811"/>
          <p:cNvSpPr/>
          <p:nvPr/>
        </p:nvSpPr>
        <p:spPr>
          <a:xfrm>
            <a:off x="2629080" y="2816280"/>
            <a:ext cx="863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otum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Rectangle 3812"/>
          <p:cNvSpPr/>
          <p:nvPr/>
        </p:nvSpPr>
        <p:spPr>
          <a:xfrm>
            <a:off x="3442680" y="3675240"/>
            <a:ext cx="74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otum"/>
              </a:rPr>
              <a:t>Client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Rectangle 3813"/>
          <p:cNvSpPr/>
          <p:nvPr/>
        </p:nvSpPr>
        <p:spPr>
          <a:xfrm>
            <a:off x="4246920" y="4548240"/>
            <a:ext cx="899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otum"/>
              </a:rPr>
              <a:t>Partners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Rectangle 3816"/>
          <p:cNvSpPr/>
          <p:nvPr/>
        </p:nvSpPr>
        <p:spPr>
          <a:xfrm>
            <a:off x="3355200" y="2088360"/>
            <a:ext cx="2571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Batang"/>
              <a:buChar char="-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</a:rPr>
              <a:t>Company's new low-cost and easy-to-use.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Batang"/>
              <a:buChar char="-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Batang"/>
              <a:buChar char="-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</a:rPr>
              <a:t>Design tool will help entrepreneurs spiff up.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Rectangle 3817"/>
          <p:cNvSpPr/>
          <p:nvPr/>
        </p:nvSpPr>
        <p:spPr>
          <a:xfrm>
            <a:off x="4154760" y="2958120"/>
            <a:ext cx="28458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Batang"/>
              <a:buChar char="-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</a:rPr>
              <a:t>An ad-industry veteran and entrepreneur shares.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Batang"/>
              <a:buChar char="-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</a:rPr>
              <a:t>About the best ways for small outfits to get.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Rectangle 3818"/>
          <p:cNvSpPr/>
          <p:nvPr/>
        </p:nvSpPr>
        <p:spPr>
          <a:xfrm>
            <a:off x="5000400" y="3815280"/>
            <a:ext cx="28260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</a:rPr>
              <a:t>-Covansys Completes Stock Purchase Agreement.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</a:rPr>
              <a:t>-Systems Following Favorable Shareholder Vote.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Rectangle 3820"/>
          <p:cNvSpPr/>
          <p:nvPr/>
        </p:nvSpPr>
        <p:spPr>
          <a:xfrm>
            <a:off x="5803200" y="4676040"/>
            <a:ext cx="2571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Batang"/>
              <a:buChar char="-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</a:rPr>
              <a:t>Company's new low-cost and easy-to-use.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Batang"/>
              <a:buChar char="-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Batang"/>
              <a:buChar char="-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Dotum"/>
              </a:rPr>
              <a:t>Design tool will help entrepreneurs spiff up.</a:t>
            </a:r>
            <a:endParaRPr b="0" lang="en-US" sz="9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Freeform 3821"/>
          <p:cNvSpPr/>
          <p:nvPr/>
        </p:nvSpPr>
        <p:spPr>
          <a:xfrm>
            <a:off x="4354560" y="4851360"/>
            <a:ext cx="392040" cy="39384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Freeform 3822"/>
          <p:cNvSpPr/>
          <p:nvPr/>
        </p:nvSpPr>
        <p:spPr>
          <a:xfrm>
            <a:off x="3541680" y="3998880"/>
            <a:ext cx="384120" cy="38268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4" name="Freeform 3823"/>
          <p:cNvSpPr/>
          <p:nvPr/>
        </p:nvSpPr>
        <p:spPr>
          <a:xfrm>
            <a:off x="2717640" y="3130560"/>
            <a:ext cx="382680" cy="38412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Freeform 3824"/>
          <p:cNvSpPr/>
          <p:nvPr/>
        </p:nvSpPr>
        <p:spPr>
          <a:xfrm>
            <a:off x="1898640" y="2238480"/>
            <a:ext cx="412920" cy="409320"/>
          </a:xfrm>
          <a:prstGeom prst="pie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Text Box 3825"/>
          <p:cNvSpPr/>
          <p:nvPr/>
        </p:nvSpPr>
        <p:spPr>
          <a:xfrm>
            <a:off x="2383200" y="2263680"/>
            <a:ext cx="30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33cc"/>
                </a:solidFill>
                <a:latin typeface="Dotum"/>
              </a:rPr>
              <a:t>01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Text Box 3826"/>
          <p:cNvSpPr/>
          <p:nvPr/>
        </p:nvSpPr>
        <p:spPr>
          <a:xfrm>
            <a:off x="3216600" y="3129120"/>
            <a:ext cx="30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8000"/>
                </a:solidFill>
                <a:latin typeface="Dotum"/>
              </a:rPr>
              <a:t>02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Text Box 3827"/>
          <p:cNvSpPr/>
          <p:nvPr/>
        </p:nvSpPr>
        <p:spPr>
          <a:xfrm>
            <a:off x="4032360" y="3987720"/>
            <a:ext cx="30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9900"/>
                </a:solidFill>
                <a:latin typeface="Dotum"/>
              </a:rPr>
              <a:t>03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Text Box 3828"/>
          <p:cNvSpPr/>
          <p:nvPr/>
        </p:nvSpPr>
        <p:spPr>
          <a:xfrm>
            <a:off x="4862880" y="4856040"/>
            <a:ext cx="30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0066"/>
                </a:solidFill>
                <a:latin typeface="Dotum"/>
              </a:rPr>
              <a:t>04</a:t>
            </a:r>
            <a:endParaRPr b="0" lang="en-US" sz="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Rectangle 3829"/>
          <p:cNvSpPr/>
          <p:nvPr/>
        </p:nvSpPr>
        <p:spPr>
          <a:xfrm>
            <a:off x="729000" y="4961160"/>
            <a:ext cx="3085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An ad-industry veteran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and entrepreneur shares 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algn="r"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ulim"/>
              </a:rPr>
              <a:t>his insights about the best.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2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7:17:00Z</dcterms:created>
  <dc:creator>VitaminD</dc:creator>
  <dc:description>更多精彩_x005F_x000d_
让PPT飞起来_x005F_x000d_
http://pptshare.qzone.qq.com</dc:description>
  <dc:language>en-US</dc:language>
  <cp:lastModifiedBy>a</cp:lastModifiedBy>
  <dcterms:modified xsi:type="dcterms:W3CDTF">2014-10-28T01:08:55Z</dcterms:modified>
  <cp:revision>112</cp:revision>
  <dc:subject/>
  <dc:title>PowerDiagram数据分析类PPT图表50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