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92E-26FF-4D44-BC6A-5D431C1E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491-D96B-46E4-B486-7A4C8C18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5CB-7F42-41C4-A7C1-D2219BC7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C5D-21A1-4B16-9FF3-F3AD3FA9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FE14-0C59-47DA-A01A-48B2DCAB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E82E-E32F-4C30-890B-9C2932EC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8AAF-8A46-414B-8794-CFA651B2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940E-A07B-4A44-8D82-5EBCF2E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DF88-CA72-463A-B076-4C2CC045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7CFF-E1C3-4FBC-B32F-FFBCB3A8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4EFD-709F-4BA8-ADD3-1E029D9A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A81-6C77-4672-8ACF-5C4C0D14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4A59-EA49-46F4-887D-AC25678D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F793-3968-42DF-9061-1DA4AB2D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DFB3-277D-4B4A-91A6-7D2F666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2A29-5DEF-44F6-9556-C43BDE70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2B11-EE24-4DA7-85F8-0A25B65D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84E4-001E-49DF-A250-59383D78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E1FD-6FB7-447D-912D-0E4B49CF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55BA-E9CC-493E-B0C5-E7E6CC5D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2BCA-59EE-449B-BF5E-9FD84A20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0D87-FA0B-453E-A5F0-C47726FF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A3A-2099-4C8F-AD55-0138918D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F034D-8FF3-43BA-9900-15B813A8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0A09-FD6C-45FB-9D0E-4BB1D88E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6280-1A55-4EFC-8FEA-4683261B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4BDB0-18E3-41AC-A2BD-4D280ED7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A318-59D8-4E1F-9BBF-276F08BB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FC20-D2A6-4D9E-9DE3-E2687172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FCD7-E52D-45BB-8090-DD744DB1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2A6-8305-490D-8A90-1DAF6182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3A5-CC1D-4CFA-93B3-E88C02DF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BDF-BC74-4213-A9A6-B6C46B2C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9A1-E667-4645-8284-485EBB1C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4B8-8A52-41D1-AED9-D48C200E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6B3-980A-4DC7-BC08-C5F63ECA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9BB4-071E-4C3C-A3B7-F6B1FE0A3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29AF-DBEE-4629-9AB2-A068B700F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cc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1982-B92B-43FE-8068-FC44FEE4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623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97280" y="566100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6:30Z</dcterms:created>
  <dc:creator/>
  <dc:description/>
  <dc:language>en-US</dc:language>
  <cp:lastModifiedBy>imagedemo</cp:lastModifiedBy>
  <dcterms:modified xsi:type="dcterms:W3CDTF">2014-11-06T04:54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