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9ED-543D-43E5-BE89-F85E6275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C98-719F-48BB-82B8-81A5C5BF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2AB-4DB6-4839-B168-D9161437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D2B-BDCF-4031-8810-BE2F2035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4AA-F715-4C32-829D-E045D0C6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A75-5FD6-44D1-B587-8DF9EF8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A0B9-88C4-41E3-ABF9-686A12B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7A8-EB4A-4381-8E69-38F4BC8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DD5B-3873-480D-B575-A53E199A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34C-3CAD-4DC5-AAC0-1562ED6F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367F-5940-4B76-B786-7E0E79F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21F-EA46-4D30-BAE7-B14ED50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26E8-6B37-4473-AD47-851AB70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BF58-2441-44A9-B306-2BEA980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19F-482E-4286-B1DF-94EDBBE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15DF-09E0-4083-9B0C-4D05281B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D6EE-1C06-4840-A77F-657FDB5B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4508-7C48-4875-8B18-0125316F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BD7F-FF2F-443A-9193-E9228C9A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B6AA-D1FC-433C-8D49-B86BCE74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DD22-150C-4879-985F-D26757B1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C284-0A67-4AA9-AEF0-0C6974AD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D70-AD76-4FF1-AF6B-0D4B1E6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4868-288D-4140-A5A3-E0EE325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B7DB-5E00-4162-A8DA-42ECC70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576E-B4C9-431D-BE5A-3F7BB9D4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E6EC-AA79-42BC-9C94-AF8D25C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2CF9-9D7B-4103-9663-27327FF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0792-7635-461E-B253-0086AF9F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0BA4-172C-4E2B-ABA0-73147733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85FE-A558-49AE-82EC-4FA0BD41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73E6-D239-439C-B99F-7643CAB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20B6-9D81-41DD-A372-9BE5FA4B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6BA-BAE6-45E8-A8FA-802F704C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5BA4-CB38-4DA6-AFAD-7E21EC8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A85D-8198-4323-85C0-78233D6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2277-77A1-4EB0-B7B9-E28A74BB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D157-D9CF-464E-8F35-1021E8F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57B4-2FAC-44B3-AA7C-145BB73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2F96-9D05-40ED-8748-21FE31B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6B58-C4C9-4660-BA09-49E7024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EB2A-0962-416D-9CB0-F2964F7F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CB63-9A88-427C-BFE9-67824948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54F-70C4-440A-8981-2858F74A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9F5-DDB2-4B30-AE75-9A665AAD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B8C-8577-48BE-9F2A-8C29A14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1F1-E697-495B-A532-5845CD6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142-E0CE-418F-80E2-D54648DE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F2E-00D9-4540-AEC6-CB0973C6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A524-0531-4DE5-8BAD-E74A1E02B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0D7-D8BF-4FFB-B8DE-6A19FF4A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14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77120" cy="1419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B52D-1A06-431E-AEBC-F344EC49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6:03:33Z</dcterms:created>
  <dc:creator>Administrator</dc:creator>
  <dc:description/>
  <dc:language>en-US</dc:language>
  <cp:lastModifiedBy/>
  <cp:lastPrinted>1899-12-30T00:00:00Z</cp:lastPrinted>
  <dcterms:modified xsi:type="dcterms:W3CDTF">2014-05-24T01:45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