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2D5D-23CA-4F62-B444-6D821AD6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95EE-636A-4853-82A2-8959D4E8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ABCF-43D1-45C3-99F7-F4F17723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F4B6-F3C7-44D2-BEA2-6CC3DB2A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C772-B14A-497E-9285-7E69CDBC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9E6B-27EA-4B09-8778-C6117BEE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1017-90A3-47D4-83B5-C81E6694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9679-85A5-4741-9BAF-92DFEC27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0FE0-1BEC-47EB-BCD0-A0E8A0E1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1BDD-9F12-4AFE-B8D7-40641B85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34FD-B237-431F-9431-81CFA048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B17C-7F13-49B1-9AAB-7F1E62FD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8E41-C573-467E-B81E-AF37E76D6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6360" y="6611760"/>
            <a:ext cx="576360" cy="235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280" y="2781360"/>
            <a:ext cx="504036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宋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160" y="6607080"/>
            <a:ext cx="803160" cy="263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4-11-06T04:56:46Z</dcterms:modified>
  <cp:revision>5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