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92B-68FC-4FD4-8609-CEDFC59C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90E-49BF-4AE5-9054-B45EFA2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E89-ED70-40F4-9A4D-26B47EF0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ABD-C625-47BE-B30D-FA41CEC2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9BF-56E6-43D4-A3BB-FA9F1898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BCE-401A-4AC0-AB94-AC146991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7AD-451F-41C6-A3DD-62DCB35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424-6842-4087-8C71-5B0BED0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41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5D4-F9A1-47A2-B834-238D92D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B55-5CCF-4B93-A624-DE0995F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7DA-A682-4576-A39B-97295CA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637-58CE-40A0-AF3E-E6A3651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8868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268868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26886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268868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268868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93A-D64A-4BD5-A969-F330C12286E5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EB93-5D65-43D1-92CA-DFD929EAF22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4881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440" y="5770080"/>
            <a:ext cx="820764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3" name=""/>
          <p:cNvSpPr/>
          <p:nvPr/>
        </p:nvSpPr>
        <p:spPr>
          <a:xfrm>
            <a:off x="6058800" y="64706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63ca"/>
              </a:buClr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9040" y="624348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9be02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48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9be02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9be02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9be02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2:02:00Z</dcterms:created>
  <dc:creator>果因PPT工作室</dc:creator>
  <dc:description/>
  <cp:keywords>XS-普屏 4：3;SC-淡绿色;BG-浅色;DH-静态</cp:keywords>
  <dc:language>en-US</dc:language>
  <cp:lastModifiedBy>田士庆</cp:lastModifiedBy>
  <dcterms:modified xsi:type="dcterms:W3CDTF">2014-05-17T05:58:12Z</dcterms:modified>
  <cp:revision>3</cp:revision>
  <dc:subject>TP-植物动物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