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4B5-B3F8-4BD1-8BB5-6901AB34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774-F8BC-4541-8621-448D612F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068-9E7F-4410-902C-481CEFA1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3CF-880B-4FB8-9DCD-84C8DBF7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3D8-9394-4E7E-9D57-A7EEB38E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0597-D3A7-43B4-92D0-D31556D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F99-1176-4BFA-BF70-F10D2D1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2F7F-372E-45EF-B113-FF677162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E702-2AAB-46E8-9DB0-0F25C61B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E713-1C0F-441D-B040-39D36BD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A11-8335-473C-A9C7-D66D30E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9AB-F395-4243-AD5F-7FC6B81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29A-3309-4D7A-9CC2-E5819F1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4506-D243-438A-8C43-8FDD345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59C4-F5B2-414B-BF6D-0264EF3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BAC1-3694-4D86-8DD4-6F530BA5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653-8A5F-4140-8D6D-0C608118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B8E2-6AC3-49DB-BAB2-6A7C876A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8BE1-E99F-45E7-8F83-D59A568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20E7-D1AD-4F71-9004-E7745B04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4FC4-4ED7-4874-88B6-4A09861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256E-1F69-4420-8159-A2A61BEA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5BA-46EF-43C7-8507-D787D1F5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8A8B-16D6-4C80-9248-916D797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5C22-31ED-4C3E-8D3B-3E921A7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2B55-C98F-459B-A0C4-DFD71C2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5B1A-F7F2-4C42-83B6-5DD03252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7563-011C-4B57-9896-10A39CA3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1882-F314-4A63-9A82-824B4B9F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FCCB-E325-4CA0-9CC9-CB48D22E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DB8-CEF6-4722-87D3-1E05D69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6E0-62C9-40E1-9656-5A952C1A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C24-0A02-4372-A223-368D0C5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729-38F7-4CBA-89E8-8728BCD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E78-EEA0-4839-9463-C7CADEB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40E-36FB-4D0F-867A-34540CF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36360" y="17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7F8-F0D5-4055-AD49-66C2458395AF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2"/>
          <a:stretch/>
        </p:blipFill>
        <p:spPr>
          <a:xfrm>
            <a:off x="0" y="44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6720" y="836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EBEA-E01E-42E9-86BC-9BE4300479D4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957-B53F-4416-9844-AF76832C0CA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07736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Unbenannt-2"/>
          <p:cNvPicPr/>
          <p:nvPr/>
        </p:nvPicPr>
        <p:blipFill>
          <a:blip r:embed="rId1"/>
          <a:stretch/>
        </p:blipFill>
        <p:spPr>
          <a:xfrm>
            <a:off x="7164360" y="5661000"/>
            <a:ext cx="279360" cy="43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3640" y="465300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"/>
          <p:cNvSpPr/>
          <p:nvPr/>
        </p:nvSpPr>
        <p:spPr>
          <a:xfrm>
            <a:off x="1956240" y="62136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16:42Z</dcterms:created>
  <dc:creator/>
  <dc:description/>
  <dc:language>en-US</dc:language>
  <cp:lastModifiedBy>king</cp:lastModifiedBy>
  <cp:lastPrinted>1899-12-30T00:00:00Z</cp:lastPrinted>
  <dcterms:modified xsi:type="dcterms:W3CDTF">2014-05-29T07:09:55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