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E5BD-E9D3-420B-BD98-D9A32E81B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F6C3-9D19-484C-83D8-7E1EA6876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791C-E237-4254-8C81-A6DD494BB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BD9A2-41B9-4BE9-A16D-4E0CFC2C6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84859-D894-4DD9-8E95-EBF2DA1E6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D999-05FC-4C61-910A-0FAEC52BAB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5CF3-3C62-4269-8ADF-EA93C43EA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D580-EE78-401E-83EB-2CB1A9530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2DB53-919F-4F32-B904-8638FD8E8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5F0C1-0A8D-45EA-A57E-A1B1F62F87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7C1B-1297-4977-A51B-505ACE843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42A1-A433-4FCD-804C-8B59CF737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308720" y="628812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5168769-8AAB-4BD8-88FA-E6D3803B4FF4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1" descr="bg1"/>
          <p:cNvPicPr/>
          <p:nvPr/>
        </p:nvPicPr>
        <p:blipFill>
          <a:blip r:embed="rId2"/>
          <a:stretch/>
        </p:blipFill>
        <p:spPr>
          <a:xfrm>
            <a:off x="0" y="-23760"/>
            <a:ext cx="9180360" cy="6881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1763640" y="259920"/>
            <a:ext cx="583272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击此处添加标题文字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38080" y="645336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7489D85-C2D6-4EA8-949C-DCB6BBC5054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56320" y="623736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8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微软用户</cp:lastModifiedBy>
  <cp:lastPrinted>1899-12-30T00:00:00Z</cp:lastPrinted>
  <dcterms:modified xsi:type="dcterms:W3CDTF">2014-05-25T06:27:41Z</dcterms:modified>
  <cp:revision>21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