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C23-5005-48E3-A8AC-0C5E15A3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BC2-D664-4327-9EF8-8AD87CD7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8B4-BF2A-41F4-8082-D58BE385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F6B-FE8A-4550-A08F-60964469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6FF0-0F1D-49CE-86B7-BB03D5D9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7F89-9014-435B-AE8C-7ABC336C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0140-0AED-43EF-8B1B-6C7F23C7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6D81-1E76-4D94-9ADE-02E2FE1C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772A-980D-4768-A8FB-9C8F5A0C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2184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628C-8DCB-4CD6-8A29-965AA26D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7FA8-FF39-4BCE-8A11-34E4DBA4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3BB-6B21-4236-8FFA-9B47FA2F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42D1-AB22-4E4C-A257-1FC6DE7A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74DB-6B6A-4271-BE56-E06819A9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E08B-908D-480F-8C98-92B55887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9CA5-710D-4BE0-A25C-9F96B09B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EB05-B305-4DFC-A67E-86FF6E81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075-756C-4BD8-A947-ECFAF909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310-0E4A-455F-A678-11301586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E7E-DF22-422D-BCC7-DBD475D5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2184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0AD-089C-4186-8C05-210E4DF5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958-7290-4322-B040-316A5E8C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E67-27F5-463E-B180-45A3AF9B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108-1E91-4A36-BF4F-32C24C0A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abddce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abddce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www.1ppt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ffffff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E821-FE4F-4D24-959B-E7BD5C76C8F4}" type="slidenum">
              <a:rPr b="1" lang="ko-KR" sz="1200" spc="-1" strike="noStrike">
                <a:solidFill>
                  <a:srgbClr val="ffffff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abddce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abddce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bddc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bddc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abddce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7FAB-DED1-41CC-AFD7-667065E43D49}" type="slidenum">
              <a:rPr b="0" lang="ko-KR" sz="1400" spc="-1" strike="noStrike">
                <a:solidFill>
                  <a:srgbClr val="abddce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315920" y="650880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abddc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1745640" y="60958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1ad6c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abddc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abddce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abddce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abddce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abddce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abddce"/>
                </a:solidFill>
                <a:latin typeface="Times New Roman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61ad6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61ad6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61ad6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abddce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03:17:12Z</dcterms:created>
  <dc:creator>arkey</dc:creator>
  <dc:description/>
  <dc:language>en-US</dc:language>
  <cp:lastModifiedBy>king</cp:lastModifiedBy>
  <cp:lastPrinted>1899-12-30T00:00:00Z</cp:lastPrinted>
  <dcterms:modified xsi:type="dcterms:W3CDTF">2014-05-30T06:55:51Z</dcterms:modified>
  <cp:revision>16</cp:revision>
  <dc:subject/>
  <dc:title>PowerPoint 站长素材 SC.CHINA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