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5481-9DA8-4861-943E-895267C1A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1983-543E-4E7A-998B-56DE780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2835-2B6A-4ADD-90A0-FC3D5A1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9D5C-6489-4076-A19D-AA8CC1C50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1CAA8-C762-4702-A53F-5641BE3A5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97CCB-FEE2-4D5C-A09A-D5C87FE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F481-4B12-4FAE-81F1-0AAA445B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7072-F44D-4A4F-A188-C6C794E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B0A4-9917-4CD5-8686-FE14C0D6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8640" y="276120"/>
            <a:ext cx="8218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11EEB-B0C9-4034-BAC2-E2EF51F5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F6C46-DB0B-478E-8AC0-5451CD76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B142-F3E2-4211-AA62-0B384AF4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BB6C7-317D-469B-91F8-D5C8A63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F63C-04D6-421F-922E-A235668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07DD-AB23-42A0-95D3-AEA2F96C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5A750-8640-4AF5-B6F4-EB112A68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26E1-B568-403E-A508-5A3208E8E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ABF3-14AE-40BC-A49A-1F98690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34CE3-E8CD-4DBC-B96E-7B080E7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D40A-0685-446E-8F4F-091CB58C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8640" y="276120"/>
            <a:ext cx="82188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B968-CECF-4228-8969-F64530B1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FD22-8233-4B5F-A045-6826163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D322-01D1-44F3-8C27-8BA61878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636D-0161-4E88-9223-348D7ED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ownloads\4858559151_e13efd3e8b_b.jpg"/>
          <p:cNvPicPr/>
          <p:nvPr/>
        </p:nvPicPr>
        <p:blipFill>
          <a:blip r:embed="rId2"/>
          <a:stretch/>
        </p:blipFill>
        <p:spPr>
          <a:xfrm>
            <a:off x="4376880" y="0"/>
            <a:ext cx="4767120" cy="3573360"/>
          </a:xfrm>
          <a:prstGeom prst="rect">
            <a:avLst/>
          </a:prstGeom>
          <a:ln w="0">
            <a:noFill/>
          </a:ln>
        </p:spPr>
      </p:pic>
      <p:sp>
        <p:nvSpPr>
          <p:cNvPr id="1" name="椭圆 6"/>
          <p:cNvSpPr/>
          <p:nvPr/>
        </p:nvSpPr>
        <p:spPr>
          <a:xfrm>
            <a:off x="2173320" y="1989000"/>
            <a:ext cx="6985080" cy="3527640"/>
          </a:xfrm>
          <a:prstGeom prst="ellipse">
            <a:avLst/>
          </a:prstGeom>
          <a:solidFill>
            <a:srgbClr val="96cedf"/>
          </a:solidFill>
          <a:ln w="25560">
            <a:solidFill>
              <a:srgbClr val="96c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2" descr="C:\Users\Administrator\Downloads\4858559151_e13efd3e8b_b.jpg"/>
          <p:cNvPicPr/>
          <p:nvPr/>
        </p:nvPicPr>
        <p:blipFill>
          <a:blip r:embed="rId3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CB7-916E-418A-B60E-3911E122BC31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5EF0-3587-4674-84F6-35D1D5A99111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ownloads\4858559151_e13efd3e8b_b.jpg"/>
          <p:cNvPicPr/>
          <p:nvPr/>
        </p:nvPicPr>
        <p:blipFill>
          <a:blip r:embed="rId2"/>
          <a:srcRect l="784" t="0" r="0" b="0"/>
          <a:stretch/>
        </p:blipFill>
        <p:spPr>
          <a:xfrm>
            <a:off x="4414680" y="0"/>
            <a:ext cx="4729320" cy="3573360"/>
          </a:xfrm>
          <a:prstGeom prst="rect">
            <a:avLst/>
          </a:prstGeom>
          <a:ln w="0">
            <a:noFill/>
          </a:ln>
        </p:spPr>
      </p:pic>
      <p:sp>
        <p:nvSpPr>
          <p:cNvPr id="44" name="椭圆 6"/>
          <p:cNvSpPr/>
          <p:nvPr/>
        </p:nvSpPr>
        <p:spPr>
          <a:xfrm>
            <a:off x="2173320" y="1989000"/>
            <a:ext cx="6985080" cy="3527640"/>
          </a:xfrm>
          <a:prstGeom prst="ellipse">
            <a:avLst/>
          </a:prstGeom>
          <a:solidFill>
            <a:srgbClr val="96cedf"/>
          </a:solidFill>
          <a:ln w="25560">
            <a:solidFill>
              <a:srgbClr val="96ce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464A-0330-44CB-AF4E-EE2F3E706108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76C4-3C97-4CB0-A6DB-74A728330FC4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720" y="4150800"/>
            <a:ext cx="835344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5157720"/>
            <a:ext cx="835632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453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ce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1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Verdana"/>
            </a:endParaRPr>
          </a:p>
        </p:txBody>
      </p:sp>
      <p:sp>
        <p:nvSpPr>
          <p:cNvPr id="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B469-9F0E-48B7-AE6C-26F8EEB5A81C}" type="datetime">
              <a:rPr b="0" lang="zh-CN" sz="1200" spc="-1" strike="noStrike">
                <a:solidFill>
                  <a:srgbClr val="40404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FB5-5F29-42F1-AAE9-9F157695EF7E}" type="slidenum">
              <a:rPr b="0" lang="zh-CN" sz="12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082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cp:lastPrinted>1899-12-30T00:00:00Z</cp:lastPrinted>
  <dcterms:modified xsi:type="dcterms:W3CDTF">2014-05-22T10:30:03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