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CA5-F001-4038-AE3E-5D3D6F52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D912-DAD2-40CE-89D1-9523ADF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5B7-E8AF-49E3-9C02-E159D411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616-B4B8-4A7C-99FA-6D6F3910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3557-CD6D-4C01-96AE-7CDFB233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5C0B-C51F-4BFA-BB41-823D8A4F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DE1-201C-4ADB-AA49-70D0E6DC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2878-DE08-4349-A782-E0286E49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386C-A060-459A-90AF-ECB1AFD3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E50-91BF-4132-BD96-E28CEC0A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039-38BE-43D4-AB88-A14F01BE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760-87BA-45EF-BE0A-7635310B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75C0-21D8-4496-B625-B9A9054AC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80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33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80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424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996633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40"/>
            <a:ext cx="9142560" cy="6854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808080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9308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692360" y="270972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常用简约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4T05:14:19Z</dcterms:created>
  <dc:creator>微软用户</dc:creator>
  <dc:description/>
  <dc:language>en-US</dc:language>
  <cp:lastModifiedBy>微软用户</cp:lastModifiedBy>
  <dcterms:modified xsi:type="dcterms:W3CDTF">2014-10-27T00:45:2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