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64B-F8AF-4EBC-920C-743C2E95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FB1-19AA-4517-B415-36E76B7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EE6-6BA3-40B5-836C-9756168A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674-3B33-4DEF-B7F7-076076C5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910-F971-4358-8772-79F0883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AD9-5127-433D-9D59-B90F930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DB5-27DC-4A0A-A06A-C151918E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88F-0C72-4173-AC5B-3A56D99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B1C-4D99-4C7F-B250-2F19045D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683-1827-49BF-A2E9-1441D23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2AC-0F49-4457-89AA-646E165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696-FF60-49EB-B0D1-2E08D5D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D9CE-AA43-4EB6-942C-46AC080D4C6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95760" y="647712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eorgia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440" y="64008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eorgia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" name="Picture 4" descr="17"/>
          <p:cNvPicPr/>
          <p:nvPr/>
        </p:nvPicPr>
        <p:blipFill>
          <a:blip r:embed="rId1"/>
          <a:stretch/>
        </p:blipFill>
        <p:spPr>
          <a:xfrm>
            <a:off x="0" y="-22716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440" y="64008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eorgia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1724040" y="289548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"/>
          <p:cNvSpPr/>
          <p:nvPr/>
        </p:nvSpPr>
        <p:spPr>
          <a:xfrm>
            <a:off x="2125080" y="51055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"/>
          <p:cNvPicPr/>
          <p:nvPr/>
        </p:nvPicPr>
        <p:blipFill>
          <a:blip r:embed="rId1"/>
          <a:stretch/>
        </p:blipFill>
        <p:spPr>
          <a:xfrm>
            <a:off x="-378000" y="457200"/>
            <a:ext cx="914112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140120" y="144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95760" y="647712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eorgia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73080" y="533160"/>
            <a:ext cx="52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673640" y="5181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1680" y="1142640"/>
            <a:ext cx="982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06:02:37Z</dcterms:created>
  <dc:creator/>
  <dc:description/>
  <dc:language>en-US</dc:language>
  <cp:lastModifiedBy>微软中国</cp:lastModifiedBy>
  <dcterms:modified xsi:type="dcterms:W3CDTF">2014-05-17T06:33:09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