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BD7-7279-4A8D-87AA-8CCE9917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ACE-37C8-4D28-8EB3-6FA52DA6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0FAC-3E16-474B-8AEC-8A45DD5E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0A8-5AD2-40D1-81B0-468B9774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963-53AD-43F2-9379-9C91BA8A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FD82-57E5-41CE-B10B-E693B4BE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2B3-8B64-4C5C-86FA-7A60E571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D695-A2E9-4F56-931F-35E5CFA5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1A7B-D114-4506-AD5C-015DE876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C4D-9A2B-4E1E-BE22-B11B25D0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2BCD-2328-455A-8FEA-F0F75A54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A57-7F5C-4A4D-9AE6-DBF83D5B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A554-0975-4F6B-8D7C-A67A27382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35280" y="141300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50920" y="404640"/>
            <a:ext cx="4896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16.</a:t>
            </a:r>
            <a:r>
              <a:rPr b="1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草原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6" name=""/>
          <p:cNvSpPr/>
          <p:nvPr/>
        </p:nvSpPr>
        <p:spPr>
          <a:xfrm>
            <a:off x="6300720" y="58784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44000" y="5950080"/>
            <a:ext cx="504720" cy="574560"/>
          </a:xfrm>
          <a:custGeom>
            <a:avLst/>
            <a:gdLst>
              <a:gd name="textAreaLeft" fmla="*/ 115920 w 504720"/>
              <a:gd name="textAreaRight" fmla="*/ 388800 w 504720"/>
              <a:gd name="textAreaTop" fmla="*/ 131760 h 574560"/>
              <a:gd name="textAreaBottom" fmla="*/ 44280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83664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这种境界，既使人惊叹，又叫人舒服，既愿久立四望，又想坐下低吟一首奇丽的小诗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83664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这种境界，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既</a:t>
            </a:r>
            <a:r>
              <a:rPr b="1" lang="zh-CN" sz="6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使人惊叹，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</a:t>
            </a:r>
            <a:r>
              <a:rPr b="1" lang="zh-CN" sz="6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叫人舒服，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既</a:t>
            </a:r>
            <a:r>
              <a:rPr b="1" lang="zh-CN" sz="6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愿久立四望，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</a:t>
            </a:r>
            <a:r>
              <a:rPr b="1" lang="zh-CN" sz="6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想坐下低吟一首奇丽的小诗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549360"/>
            <a:ext cx="79250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在这境界里，连骏马和大牛都有时候静立不动</a:t>
            </a:r>
            <a:r>
              <a:rPr b="1" lang="en-US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好像回味着草原的无限乐趣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549360"/>
            <a:ext cx="79250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在这境界里，连骏马和大牛都有时候静立不动</a:t>
            </a:r>
            <a:r>
              <a:rPr b="1" lang="en-US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好像回味着草原的无限乐趣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3357720"/>
            <a:ext cx="79250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在这境界里，连骏马和大牛都有时候静立不动</a:t>
            </a:r>
            <a:r>
              <a:rPr b="1" lang="en-US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回味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着草原的无限乐趣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1557360"/>
            <a:ext cx="179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好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300720" y="58784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5312880"/>
            <a:ext cx="88200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陈巴尔虎旗位于内蒙古自治区呼伦贝尔市西北部，地处呼伦贝尔大草原腹地。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561240" y="0"/>
            <a:ext cx="2009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草原的天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3841920"/>
            <a:ext cx="7993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那里的天比别处的更可爱</a:t>
            </a: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空气是那么清鲜</a:t>
            </a: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空是那么明朗</a:t>
            </a: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我总想高歌一曲</a:t>
            </a:r>
            <a:r>
              <a:rPr b="1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表示我满心的愉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300720" y="58784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75640" cy="5113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5346720"/>
            <a:ext cx="4751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蒙汉情深何忍别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天涯碧草话斜阳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2240" y="59500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06668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天底下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碧千里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并不茫茫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71640" y="1052640"/>
            <a:ext cx="73594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羊群一会儿上了小丘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又下来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到哪里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给无边的绿毯绣上了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的大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71640" y="1052640"/>
            <a:ext cx="73594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羊群一会儿上了小丘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会儿又下来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到哪里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给无边的</a:t>
            </a:r>
            <a:r>
              <a:rPr b="1" lang="zh-CN" sz="4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绿毯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绣上了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的</a:t>
            </a:r>
            <a:r>
              <a:rPr b="1" lang="zh-CN" sz="4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大花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692280"/>
            <a:ext cx="79930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些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小丘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线条是那么柔美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像只用绿色渲染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用墨线勾勒的中国画那样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处翠色欲流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轻流入云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0720" y="58784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4:19:53Z</dcterms:created>
  <dc:creator>china</dc:creator>
  <dc:description/>
  <dc:language>en-US</dc:language>
  <cp:lastModifiedBy>User</cp:lastModifiedBy>
  <cp:lastPrinted>1899-12-30T00:00:00Z</cp:lastPrinted>
  <dcterms:modified xsi:type="dcterms:W3CDTF">2014-06-06T06:07:23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