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980-59C3-409B-990D-8ED17C38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4C3-4482-4E28-9635-AEE1DF4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6E6-4551-42DE-BD5D-71E97A63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A0F-3315-4B61-A14E-B67369F0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7C68-338E-4C29-878D-7E1E9293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D41C-3DE8-44BE-8026-E89DA9D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4C36-1F14-43F5-AAC6-44C7AE9A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8B36-7982-4CBF-902B-33ADFB26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23B0-0982-4984-9A2A-E0213C51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8000" y="9540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3126-B250-4299-83E0-65654971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261B-7F2E-4DAF-B123-6D82062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4A4-0F1F-4D9E-BA62-02094D1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DB98-FA0D-4587-B6AB-463BB15A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06E4-23B3-4ED8-BE76-91FDB208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9807-C50A-4D6F-BA30-F4D594A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E2BA-BD5F-4E17-A0CF-8CFF1928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89E3-C9DD-4BFC-990A-B3397034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79AD5-8F7C-440B-99C0-FB820B0B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BEC1-5EFF-459C-91EB-5A18794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26DC-9698-43BB-A298-525D3760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7C4B-FA36-469D-8EB8-7C54B22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FAB5-F079-4BC6-99A4-98DA7840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CDC-FA19-45AF-8486-DC2E10E9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8000" y="9540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688E-E667-4891-8E77-50EC0754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8DF8-DD0F-4FB6-A829-930E1E6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F28A-3281-43C2-B915-F687BD62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0422-E301-497F-94D4-100657B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B35E-9010-4670-A1F5-DABA4E6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EE86-8E02-436B-A841-5C06C8EB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B474-A312-464A-A1EC-0D0B6A6E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0CC9-0539-4013-B56F-EAA6FC21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749B-0424-4776-99FE-67ED3A83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344A-DD26-4817-9F73-811C29ED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204-32CA-45B9-B0AF-B4AA7574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7673-C856-48E7-8C06-C4F63052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E029-6C3A-422A-AC04-13FD07D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8000" y="9540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E3B7-289A-4C9A-A0A8-72CAFC12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3CEB-9207-486F-B00A-8923B37E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37F9-4142-4BB4-953B-A3A199C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1552-3F9E-413B-AC0E-A585D323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DE0F-4DFE-4301-B31C-CBD38519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8D01E-8F8B-4FDB-90A2-C33CED41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2A24D-90CC-4AB0-8A82-AEB4066A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D9D-1781-475D-9372-6469150B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9540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DBE-1C1F-416E-B689-87DCF58E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7EC-0FE0-4BD5-AEC8-71B226A2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C33-83D8-4AEA-877A-A43FCFD2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DEC-14FD-47D9-B266-9E98344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60" y="189000"/>
            <a:ext cx="8732520" cy="47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AC41-B417-41EB-8C1F-A69E11D56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46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48DE-58BE-47EB-AC77-EF0D1CC76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60" y="189000"/>
            <a:ext cx="8732520" cy="471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154B-D6F8-4125-A151-3637C7497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0A1-FD8E-45BC-ACA8-DB8E23CA8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44720" y="2925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122c74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6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95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788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3:12:45Z</dcterms:created>
  <dc:creator>graphics05</dc:creator>
  <dc:description/>
  <dc:language>en-US</dc:language>
  <cp:lastModifiedBy>Graphics02</cp:lastModifiedBy>
  <cp:lastPrinted>1899-12-30T00:00:00Z</cp:lastPrinted>
  <dcterms:modified xsi:type="dcterms:W3CDTF">2014-05-19T05:09:41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