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8FC-7DD3-463E-9A52-0E144984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CC8-B105-4008-9E07-22AEFA28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F49-FA8A-4215-A79F-AF80939C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E69-364D-4C3D-9D41-3CE2CE84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ED10-7DB8-40E3-84CA-6B2A38AA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B810-B34D-49B7-9B68-A7653C31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2BB0-488A-447C-9DBF-6C182EB0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36D0-B461-4E6F-9C32-369F8CD0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7446-2508-4E71-8FB2-00DD63AA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1680" y="476280"/>
            <a:ext cx="71578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DF2F-F100-4199-97DD-71C58E31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62DE-1D45-4397-AF56-5D7DDF17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51B1-1862-4DDB-A0BD-36B5E813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37E3-3664-4AD6-AFDD-C5DF4687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CA7-7FAB-4013-8AA1-C8393354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625F-5B59-4CB4-ABB2-814AE9C0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8D7-D572-4572-9CD9-D6D8C787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0A01-00EC-442E-A6F9-B7A36191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5FE-7E4A-4A63-9E27-2FE3B3DF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1F3-9749-40E4-82A8-4A564C38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1FF-3BAB-484C-AD08-2E2F030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31680" y="476280"/>
            <a:ext cx="71578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85B-5EFC-4005-8B7F-C373E279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593-2BD1-4C9C-8525-07FBB3CD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36C-2B2C-4537-B082-2C9AD84E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543-574C-4DB3-A2A0-28C1830F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74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3CBB-6A87-4F4F-BE39-05F11CC5FE1E}" type="slidenum"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4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1680" y="54936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74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491E-0CDF-4AE2-B77A-F7E2461F785B}" type="slidenum">
              <a:rPr b="0" lang="zh-CN" sz="10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292929"/>
                </a:solidFill>
                <a:latin typeface="Arial"/>
              </a:rPr>
              <a:t>电话销售技巧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49240" y="63244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话销售技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约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约见是打电话的最终目的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切忌在电话里面大篇幅的谈产品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要学会主动的提出见面的要求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一切疑问都转化为约见的理由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客户有任何疑问的出现都是你提出见面的信号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学会用技巧让客户有见面的冲动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2040" y="476280"/>
            <a:ext cx="7743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话术储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约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zh-CN" sz="2600" spc="-1" strike="noStrike">
                <a:solidFill>
                  <a:srgbClr val="292929"/>
                </a:solidFill>
                <a:latin typeface="Arial"/>
              </a:rPr>
              <a:t>总，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您看，我给您介绍了那么长时间也许是我表述不够清楚，使您对此也只是一个很模糊的认识，要不我给你发份资料，您先详细了解一下我再和您联系好吗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zh-CN" sz="2600" spc="-1" strike="noStrike">
                <a:solidFill>
                  <a:srgbClr val="292929"/>
                </a:solidFill>
                <a:latin typeface="Arial"/>
              </a:rPr>
              <a:t>总，这个问题解释起来比较麻烦，这样吧，我明天到公司去一下，当面给您解释一下，顺便我再带一些资料，我们一起来好好的策划一下这个事。</a:t>
            </a:r>
            <a:endParaRPr b="1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总，您看我们都沟通了好几次了，而且我跟您说啊，我们最近又签约了几家大客户，我觉得我们应该尽快的行动起来，这样我们才能更早的收获网络带来的效益呀，您看您还有什么疑问呀？要不我明天去一下您的办公室再和您当面沟通一下，如果没有问题我们明天就定了吧。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1908000" y="198756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2028960" y="2101680"/>
            <a:ext cx="1069920" cy="100512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2093760" y="2165400"/>
            <a:ext cx="5353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389240" y="217800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230640" y="2276640"/>
            <a:ext cx="40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打电话前的准备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908000" y="334656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028960" y="3459240"/>
            <a:ext cx="1069920" cy="1004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>
            <a:off x="2093760" y="3524400"/>
            <a:ext cx="535320" cy="50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389240" y="357336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30640" y="3645000"/>
            <a:ext cx="40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电话销售技巧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1908000" y="472140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028960" y="4834080"/>
            <a:ext cx="1069920" cy="1004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未知"/>
          <p:cNvSpPr/>
          <p:nvPr/>
        </p:nvSpPr>
        <p:spPr>
          <a:xfrm>
            <a:off x="2093760" y="4898880"/>
            <a:ext cx="5353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1389240" y="494172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230640" y="5019840"/>
            <a:ext cx="44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常见问题解决及演练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1187280" y="5013360"/>
            <a:ext cx="648000" cy="57636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常见问题的解决办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前台的阻碍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约不到客户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客户异议处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516720" y="3500280"/>
            <a:ext cx="221616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何突破前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8520" y="1486080"/>
            <a:ext cx="82152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克服你的内心障碍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25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不妨了解你为什么对于没法突破接电话的人，会觉得心理很惶恐：是否因为过去的经验造成的心理障碍；必须突破这种心理障碍； 是否从小就被教导：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跟陌生人通电话要客气。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” 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是否觉得买方公司是你的衣食父母，你不敢轻易冒犯。 你是否站在接电话的人的角度思考，想象他将如何拒绝你。如果你这样想，就变成了两个人在拒绝你。 </a:t>
            </a:r>
            <a:endParaRPr b="1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注意你的语气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--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好象是打给好朋友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5000"/>
              </a:lnSpc>
              <a:spcBef>
                <a:spcPts val="425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早安，请问张先生在吗？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不要说：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我是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XX”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，要说出公司的名称。不要说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我是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XX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的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XX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人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”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， 如果接电话的人说出他自己的名字，就说：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嗨，李小姐，请问张先生在吗？ </a:t>
            </a:r>
            <a:endParaRPr b="1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将接待人员变成你的朋友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25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你以平常的开场白说：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早安！我是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XX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，我想跟张先生谈谈，请问您尊姓大名？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 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接电话的人说：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我是他的秘书，李小姐。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 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你说：</a:t>
            </a:r>
            <a:r>
              <a:rPr b="1" lang="en-US" sz="17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假如你是我，而你必须跟张先生谈谈，你要怎么办呢？ </a:t>
            </a:r>
            <a:endParaRPr b="1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避免直接回答对方的盘问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25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700" spc="-1" strike="noStrike">
                <a:solidFill>
                  <a:srgbClr val="0000ff"/>
                </a:solidFill>
                <a:latin typeface="Arial"/>
              </a:rPr>
              <a:t>接电话的人通常会盘问你三个问题：你是谁？你是哪家公司？有什么事情？如果你不直接回答这些问题，他们就不知道该怎么办。你或许该这样回答： 我很想告诉你，但是这件事情很重要，我必须直接跟他说。 我也不确定。 你觉得这会讲很久吗？我是打长途电话呢！ 喂喂，你那边在下雨吗？</a:t>
            </a:r>
            <a:r>
              <a:rPr b="1" lang="zh-CN" sz="1700" spc="-1" strike="noStrike">
                <a:solidFill>
                  <a:srgbClr val="292929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9240" y="63244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何突破前台（续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6560" y="1626840"/>
            <a:ext cx="8143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摆高姿态，强渡难关。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跟陌生人讲电话都是这样的吗？你老板交代你要这样吗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帮我转电话之前，还想知道关于我个人什么事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为什么不让我跟你的老板说话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你不转这通电话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公司将会因此而失去赚钱的机会，你愿意冒这个风险吗？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“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既然你不愿意接电话，能不能告诉我你的名字？如果贵公司还有人打电话来询问，我就可以告诉他，我曾经跟谁谈过了。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”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别把你的名字跟电话号码留给接电话的人。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如果负责人不在或是没空，再找机会试试。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--“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如果你是我，你会再打电话来吗？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我想我再打电话过来，什么时间比较恰当？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话约访技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1360"/>
            <a:ext cx="844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简短有力、创意性、吸引力开场白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热、赞、精、稳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热情、真诚、兴奋、信心、专业、轻松；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三分钟原则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尽可能在三分钟内完成通话，并记录谈话内容；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三不谈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产品、自己、公司；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确定时间、地点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见面时间、地点、再次敲定确认；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高潮结束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给对方的期待 例：见了面相信你一定会非常高兴的！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异议处理注意事项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细心聆听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肯定对方的观点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给出自己的理解</a:t>
            </a:r>
            <a:r>
              <a:rPr b="1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提供解决方案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97164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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要求行动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004440" y="3207600"/>
            <a:ext cx="2747520" cy="3116880"/>
            <a:chOff x="6004440" y="3207600"/>
            <a:chExt cx="2747520" cy="3116880"/>
          </a:xfrm>
        </p:grpSpPr>
        <p:sp>
          <p:nvSpPr>
            <p:cNvPr id="171" name="未知"/>
            <p:cNvSpPr/>
            <p:nvPr/>
          </p:nvSpPr>
          <p:spPr>
            <a:xfrm>
              <a:off x="6400800" y="6032520"/>
              <a:ext cx="594000" cy="188640"/>
            </a:xfrm>
            <a:prstGeom prst="pie">
              <a:avLst/>
            </a:prstGeom>
            <a:solidFill>
              <a:srgbClr val="3f3f3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6004440" y="3207600"/>
              <a:ext cx="2747520" cy="3116880"/>
              <a:chOff x="6004440" y="3207600"/>
              <a:chExt cx="2747520" cy="311688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6004440" y="3280320"/>
                <a:ext cx="945360" cy="1180800"/>
                <a:chOff x="6004440" y="3280320"/>
                <a:chExt cx="945360" cy="118080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6004440" y="3280320"/>
                  <a:ext cx="945360" cy="1180800"/>
                  <a:chOff x="6004440" y="3280320"/>
                  <a:chExt cx="945360" cy="1180800"/>
                </a:xfrm>
              </p:grpSpPr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6112800" y="3280320"/>
                    <a:ext cx="837000" cy="1106640"/>
                    <a:chOff x="6112800" y="3280320"/>
                    <a:chExt cx="837000" cy="1106640"/>
                  </a:xfrm>
                </p:grpSpPr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6112800" y="3280320"/>
                      <a:ext cx="837000" cy="1106640"/>
                      <a:chOff x="6112800" y="3280320"/>
                      <a:chExt cx="837000" cy="1106640"/>
                    </a:xfrm>
                  </p:grpSpPr>
                  <p:sp>
                    <p:nvSpPr>
                      <p:cNvPr id="177" name="未知"/>
                      <p:cNvSpPr/>
                      <p:nvPr/>
                    </p:nvSpPr>
                    <p:spPr>
                      <a:xfrm rot="92400">
                        <a:off x="6131880" y="3290760"/>
                        <a:ext cx="803520" cy="1085400"/>
                      </a:xfrm>
                      <a:prstGeom prst="pie">
                        <a:avLst/>
                      </a:prstGeom>
                      <a:solidFill>
                        <a:srgbClr val="7f3f00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未知"/>
                      <p:cNvSpPr/>
                      <p:nvPr/>
                    </p:nvSpPr>
                    <p:spPr>
                      <a:xfrm rot="92400">
                        <a:off x="6113520" y="4290480"/>
                        <a:ext cx="65160" cy="79560"/>
                      </a:xfrm>
                      <a:prstGeom prst="pie">
                        <a:avLst/>
                      </a:prstGeom>
                      <a:solidFill>
                        <a:srgbClr val="5f3f1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9" name=""/>
                    <p:cNvGrpSpPr/>
                    <p:nvPr/>
                  </p:nvGrpSpPr>
                  <p:grpSpPr>
                    <a:xfrm>
                      <a:off x="6296400" y="3303360"/>
                      <a:ext cx="649440" cy="803160"/>
                      <a:chOff x="6296400" y="3303360"/>
                      <a:chExt cx="649440" cy="803160"/>
                    </a:xfrm>
                  </p:grpSpPr>
                  <p:grpSp>
                    <p:nvGrpSpPr>
                      <p:cNvPr id="180" name=""/>
                      <p:cNvGrpSpPr/>
                      <p:nvPr/>
                    </p:nvGrpSpPr>
                    <p:grpSpPr>
                      <a:xfrm>
                        <a:off x="6782400" y="3303360"/>
                        <a:ext cx="163440" cy="152280"/>
                        <a:chOff x="6782400" y="3303360"/>
                        <a:chExt cx="163440" cy="152280"/>
                      </a:xfrm>
                    </p:grpSpPr>
                    <p:grpSp>
                      <p:nvGrpSpPr>
                        <p:cNvPr id="181" name=""/>
                        <p:cNvGrpSpPr/>
                        <p:nvPr/>
                      </p:nvGrpSpPr>
                      <p:grpSpPr>
                        <a:xfrm>
                          <a:off x="6782400" y="3303360"/>
                          <a:ext cx="101880" cy="127440"/>
                          <a:chOff x="6782400" y="3303360"/>
                          <a:chExt cx="101880" cy="127440"/>
                        </a:xfrm>
                      </p:grpSpPr>
                      <p:sp>
                        <p:nvSpPr>
                          <p:cNvPr id="182" name="Line 14"/>
                          <p:cNvSpPr/>
                          <p:nvPr/>
                        </p:nvSpPr>
                        <p:spPr>
                          <a:xfrm flipV="1">
                            <a:off x="6782760" y="3305880"/>
                            <a:ext cx="101520" cy="1220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3" name=""/>
                          <p:cNvSpPr txBox="1"/>
                          <p:nvPr/>
                        </p:nvSpPr>
                        <p:spPr>
                          <a:xfrm rot="10892400">
                            <a:off x="6783840" y="3304440"/>
                            <a:ext cx="98280" cy="1249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4" name=""/>
                        <p:cNvGrpSpPr/>
                        <p:nvPr/>
                      </p:nvGrpSpPr>
                      <p:grpSpPr>
                        <a:xfrm>
                          <a:off x="6840360" y="3320280"/>
                          <a:ext cx="77040" cy="81360"/>
                          <a:chOff x="6840360" y="3320280"/>
                          <a:chExt cx="77040" cy="81360"/>
                        </a:xfrm>
                      </p:grpSpPr>
                      <p:sp>
                        <p:nvSpPr>
                          <p:cNvPr id="185" name="Line 15"/>
                          <p:cNvSpPr/>
                          <p:nvPr/>
                        </p:nvSpPr>
                        <p:spPr>
                          <a:xfrm flipV="1">
                            <a:off x="6840720" y="3322080"/>
                            <a:ext cx="76680" cy="7776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960" bIns="3096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 txBox="1"/>
                          <p:nvPr/>
                        </p:nvSpPr>
                        <p:spPr>
                          <a:xfrm rot="10892400">
                            <a:off x="6841440" y="3321000"/>
                            <a:ext cx="74520" cy="79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32760" bIns="3276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7" name=""/>
                        <p:cNvGrpSpPr/>
                        <p:nvPr/>
                      </p:nvGrpSpPr>
                      <p:grpSpPr>
                        <a:xfrm>
                          <a:off x="6829200" y="3340080"/>
                          <a:ext cx="108000" cy="115560"/>
                          <a:chOff x="6829200" y="3340080"/>
                          <a:chExt cx="108000" cy="115560"/>
                        </a:xfrm>
                      </p:grpSpPr>
                      <p:sp>
                        <p:nvSpPr>
                          <p:cNvPr id="188" name="Line 16"/>
                          <p:cNvSpPr/>
                          <p:nvPr/>
                        </p:nvSpPr>
                        <p:spPr>
                          <a:xfrm flipV="1">
                            <a:off x="6829560" y="3342960"/>
                            <a:ext cx="107640" cy="10980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9" name=""/>
                          <p:cNvSpPr txBox="1"/>
                          <p:nvPr/>
                        </p:nvSpPr>
                        <p:spPr>
                          <a:xfrm rot="10892400">
                            <a:off x="6830640" y="3341520"/>
                            <a:ext cx="104760" cy="1126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0" name=""/>
                        <p:cNvGrpSpPr/>
                        <p:nvPr/>
                      </p:nvGrpSpPr>
                      <p:grpSpPr>
                        <a:xfrm>
                          <a:off x="6872040" y="3380400"/>
                          <a:ext cx="73800" cy="65520"/>
                          <a:chOff x="6872040" y="3380400"/>
                          <a:chExt cx="73800" cy="65520"/>
                        </a:xfrm>
                      </p:grpSpPr>
                      <p:sp>
                        <p:nvSpPr>
                          <p:cNvPr id="191" name="Line 17"/>
                          <p:cNvSpPr/>
                          <p:nvPr/>
                        </p:nvSpPr>
                        <p:spPr>
                          <a:xfrm flipV="1">
                            <a:off x="6872760" y="3382560"/>
                            <a:ext cx="73080" cy="6156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760" bIns="1476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" name=""/>
                          <p:cNvSpPr txBox="1"/>
                          <p:nvPr/>
                        </p:nvSpPr>
                        <p:spPr>
                          <a:xfrm rot="10892400">
                            <a:off x="6872760" y="3381120"/>
                            <a:ext cx="71640" cy="63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16920" bIns="1692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93" name=""/>
                      <p:cNvGrpSpPr/>
                      <p:nvPr/>
                    </p:nvGrpSpPr>
                    <p:grpSpPr>
                      <a:xfrm>
                        <a:off x="6296400" y="3812760"/>
                        <a:ext cx="221760" cy="293760"/>
                        <a:chOff x="6296400" y="3812760"/>
                        <a:chExt cx="221760" cy="293760"/>
                      </a:xfrm>
                    </p:grpSpPr>
                    <p:grpSp>
                      <p:nvGrpSpPr>
                        <p:cNvPr id="194" name=""/>
                        <p:cNvGrpSpPr/>
                        <p:nvPr/>
                      </p:nvGrpSpPr>
                      <p:grpSpPr>
                        <a:xfrm>
                          <a:off x="6296400" y="3965400"/>
                          <a:ext cx="77760" cy="103320"/>
                          <a:chOff x="6296400" y="3965400"/>
                          <a:chExt cx="77760" cy="103320"/>
                        </a:xfrm>
                      </p:grpSpPr>
                      <p:sp>
                        <p:nvSpPr>
                          <p:cNvPr id="195" name="Line 19"/>
                          <p:cNvSpPr/>
                          <p:nvPr/>
                        </p:nvSpPr>
                        <p:spPr>
                          <a:xfrm flipV="1">
                            <a:off x="6297120" y="3967200"/>
                            <a:ext cx="77040" cy="9972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6" name=""/>
                          <p:cNvSpPr txBox="1"/>
                          <p:nvPr/>
                        </p:nvSpPr>
                        <p:spPr>
                          <a:xfrm rot="10892400">
                            <a:off x="6297480" y="3966120"/>
                            <a:ext cx="74520" cy="1015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97" name=""/>
                        <p:cNvGrpSpPr/>
                        <p:nvPr/>
                      </p:nvGrpSpPr>
                      <p:grpSpPr>
                        <a:xfrm>
                          <a:off x="6335640" y="4032000"/>
                          <a:ext cx="44640" cy="55800"/>
                          <a:chOff x="6335640" y="4032000"/>
                          <a:chExt cx="44640" cy="55800"/>
                        </a:xfrm>
                      </p:grpSpPr>
                      <p:sp>
                        <p:nvSpPr>
                          <p:cNvPr id="198" name="Line 20"/>
                          <p:cNvSpPr/>
                          <p:nvPr/>
                        </p:nvSpPr>
                        <p:spPr>
                          <a:xfrm flipV="1">
                            <a:off x="6336000" y="4033080"/>
                            <a:ext cx="44280" cy="536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840" bIns="684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9" name=""/>
                          <p:cNvSpPr txBox="1"/>
                          <p:nvPr/>
                        </p:nvSpPr>
                        <p:spPr>
                          <a:xfrm rot="10892400">
                            <a:off x="6336360" y="4032360"/>
                            <a:ext cx="42840" cy="54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7920" bIns="792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0" name=""/>
                        <p:cNvGrpSpPr/>
                        <p:nvPr/>
                      </p:nvGrpSpPr>
                      <p:grpSpPr>
                        <a:xfrm>
                          <a:off x="6351120" y="3893040"/>
                          <a:ext cx="164520" cy="213480"/>
                          <a:chOff x="6351120" y="3893040"/>
                          <a:chExt cx="164520" cy="213480"/>
                        </a:xfrm>
                      </p:grpSpPr>
                      <p:sp>
                        <p:nvSpPr>
                          <p:cNvPr id="201" name="Line 21"/>
                          <p:cNvSpPr/>
                          <p:nvPr/>
                        </p:nvSpPr>
                        <p:spPr>
                          <a:xfrm flipV="1">
                            <a:off x="6351480" y="3897360"/>
                            <a:ext cx="164160" cy="2048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2" name=""/>
                          <p:cNvSpPr txBox="1"/>
                          <p:nvPr/>
                        </p:nvSpPr>
                        <p:spPr>
                          <a:xfrm rot="10892400">
                            <a:off x="6353640" y="3895200"/>
                            <a:ext cx="158760" cy="2091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03" name=""/>
                        <p:cNvGrpSpPr/>
                        <p:nvPr/>
                      </p:nvGrpSpPr>
                      <p:grpSpPr>
                        <a:xfrm>
                          <a:off x="6433920" y="3812760"/>
                          <a:ext cx="84240" cy="98640"/>
                          <a:chOff x="6433920" y="3812760"/>
                          <a:chExt cx="84240" cy="98640"/>
                        </a:xfrm>
                      </p:grpSpPr>
                      <p:sp>
                        <p:nvSpPr>
                          <p:cNvPr id="204" name="Line 22"/>
                          <p:cNvSpPr/>
                          <p:nvPr/>
                        </p:nvSpPr>
                        <p:spPr>
                          <a:xfrm flipV="1">
                            <a:off x="6434280" y="3814920"/>
                            <a:ext cx="83880" cy="9432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5" name=""/>
                          <p:cNvSpPr txBox="1"/>
                          <p:nvPr/>
                        </p:nvSpPr>
                        <p:spPr>
                          <a:xfrm rot="10892400">
                            <a:off x="6435000" y="3813840"/>
                            <a:ext cx="81000" cy="964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206" name="未知"/>
                  <p:cNvSpPr/>
                  <p:nvPr/>
                </p:nvSpPr>
                <p:spPr>
                  <a:xfrm rot="92400">
                    <a:off x="6011280" y="3931560"/>
                    <a:ext cx="488880" cy="522720"/>
                  </a:xfrm>
                  <a:prstGeom prst="pie">
                    <a:avLst/>
                  </a:prstGeom>
                  <a:solidFill>
                    <a:srgbClr val="7f3f00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未知"/>
                <p:cNvSpPr/>
                <p:nvPr/>
              </p:nvSpPr>
              <p:spPr>
                <a:xfrm rot="92400">
                  <a:off x="6339240" y="4208400"/>
                  <a:ext cx="155520" cy="250200"/>
                </a:xfrm>
                <a:prstGeom prst="pie">
                  <a:avLst/>
                </a:prstGeom>
                <a:solidFill>
                  <a:srgbClr val="5f3f1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426720" y="3207600"/>
                <a:ext cx="1401480" cy="3116880"/>
                <a:chOff x="6426720" y="3207600"/>
                <a:chExt cx="1401480" cy="311688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426720" y="3207600"/>
                  <a:ext cx="1401480" cy="3116880"/>
                  <a:chOff x="6426720" y="3207600"/>
                  <a:chExt cx="1401480" cy="311688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6643800" y="5335200"/>
                    <a:ext cx="845280" cy="989280"/>
                    <a:chOff x="6643800" y="5335200"/>
                    <a:chExt cx="845280" cy="989280"/>
                  </a:xfrm>
                </p:grpSpPr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6797520" y="5360040"/>
                      <a:ext cx="691560" cy="667080"/>
                      <a:chOff x="6797520" y="5360040"/>
                      <a:chExt cx="691560" cy="667080"/>
                    </a:xfrm>
                  </p:grpSpPr>
                  <p:sp>
                    <p:nvSpPr>
                      <p:cNvPr id="212" name="未知"/>
                      <p:cNvSpPr/>
                      <p:nvPr/>
                    </p:nvSpPr>
                    <p:spPr>
                      <a:xfrm rot="108600">
                        <a:off x="6807600" y="5370480"/>
                        <a:ext cx="671400" cy="646200"/>
                      </a:xfrm>
                      <a:prstGeom prst="pie">
                        <a:avLst/>
                      </a:prstGeom>
                      <a:solidFill>
                        <a:srgbClr val="ff9f00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" name="未知"/>
                      <p:cNvSpPr/>
                      <p:nvPr/>
                    </p:nvSpPr>
                    <p:spPr>
                      <a:xfrm rot="108600">
                        <a:off x="7079760" y="5854320"/>
                        <a:ext cx="106200" cy="34920"/>
                      </a:xfrm>
                      <a:prstGeom prst="pie">
                        <a:avLst/>
                      </a:prstGeom>
                      <a:noFill/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6643800" y="5335200"/>
                      <a:ext cx="704880" cy="989280"/>
                      <a:chOff x="6643800" y="5335200"/>
                      <a:chExt cx="704880" cy="989280"/>
                    </a:xfrm>
                  </p:grpSpPr>
                  <p:sp>
                    <p:nvSpPr>
                      <p:cNvPr id="215" name="未知"/>
                      <p:cNvSpPr/>
                      <p:nvPr/>
                    </p:nvSpPr>
                    <p:spPr>
                      <a:xfrm rot="108600">
                        <a:off x="6658920" y="5345280"/>
                        <a:ext cx="674640" cy="968400"/>
                      </a:xfrm>
                      <a:prstGeom prst="pie">
                        <a:avLst/>
                      </a:prstGeom>
                      <a:solidFill>
                        <a:srgbClr val="ffbf1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16" name=""/>
                      <p:cNvGrpSpPr/>
                      <p:nvPr/>
                    </p:nvGrpSpPr>
                    <p:grpSpPr>
                      <a:xfrm>
                        <a:off x="6727320" y="5813640"/>
                        <a:ext cx="436680" cy="281880"/>
                        <a:chOff x="6727320" y="5813640"/>
                        <a:chExt cx="436680" cy="281880"/>
                      </a:xfrm>
                    </p:grpSpPr>
                    <p:sp>
                      <p:nvSpPr>
                        <p:cNvPr id="217" name="未知"/>
                        <p:cNvSpPr/>
                        <p:nvPr/>
                      </p:nvSpPr>
                      <p:spPr>
                        <a:xfrm rot="108600">
                          <a:off x="7076160" y="6010560"/>
                          <a:ext cx="34920" cy="8424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8" name="未知"/>
                        <p:cNvSpPr/>
                        <p:nvPr/>
                      </p:nvSpPr>
                      <p:spPr>
                        <a:xfrm rot="108600">
                          <a:off x="7132680" y="6029640"/>
                          <a:ext cx="30240" cy="6516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720" bIns="1872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" name="未知"/>
                        <p:cNvSpPr/>
                        <p:nvPr/>
                      </p:nvSpPr>
                      <p:spPr>
                        <a:xfrm rot="108600">
                          <a:off x="6729480" y="5814360"/>
                          <a:ext cx="50760" cy="16020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6426720" y="3207600"/>
                    <a:ext cx="1401480" cy="2250360"/>
                    <a:chOff x="6426720" y="3207600"/>
                    <a:chExt cx="1401480" cy="2250360"/>
                  </a:xfrm>
                </p:grpSpPr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6426720" y="3207600"/>
                      <a:ext cx="1401480" cy="2250360"/>
                      <a:chOff x="6426720" y="3207600"/>
                      <a:chExt cx="1401480" cy="2250360"/>
                    </a:xfrm>
                  </p:grpSpPr>
                  <p:grpSp>
                    <p:nvGrpSpPr>
                      <p:cNvPr id="222" name=""/>
                      <p:cNvGrpSpPr/>
                      <p:nvPr/>
                    </p:nvGrpSpPr>
                    <p:grpSpPr>
                      <a:xfrm>
                        <a:off x="6426720" y="3396600"/>
                        <a:ext cx="447120" cy="588600"/>
                        <a:chOff x="6426720" y="3396600"/>
                        <a:chExt cx="447120" cy="588600"/>
                      </a:xfrm>
                    </p:grpSpPr>
                    <p:grpSp>
                      <p:nvGrpSpPr>
                        <p:cNvPr id="223" name=""/>
                        <p:cNvGrpSpPr/>
                        <p:nvPr/>
                      </p:nvGrpSpPr>
                      <p:grpSpPr>
                        <a:xfrm>
                          <a:off x="6426720" y="3604680"/>
                          <a:ext cx="327960" cy="341640"/>
                          <a:chOff x="6426720" y="3604680"/>
                          <a:chExt cx="327960" cy="341640"/>
                        </a:xfrm>
                      </p:grpSpPr>
                      <p:sp>
                        <p:nvSpPr>
                          <p:cNvPr id="224" name="未知"/>
                          <p:cNvSpPr/>
                          <p:nvPr/>
                        </p:nvSpPr>
                        <p:spPr>
                          <a:xfrm rot="108600">
                            <a:off x="6431760" y="3609360"/>
                            <a:ext cx="317520" cy="331920"/>
                          </a:xfrm>
                          <a:prstGeom prst="pie">
                            <a:avLst/>
                          </a:pr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5" name=""/>
                          <p:cNvGrpSpPr/>
                          <p:nvPr/>
                        </p:nvGrpSpPr>
                        <p:grpSpPr>
                          <a:xfrm>
                            <a:off x="6520320" y="3745440"/>
                            <a:ext cx="122040" cy="48240"/>
                            <a:chOff x="6520320" y="3745440"/>
                            <a:chExt cx="122040" cy="48240"/>
                          </a:xfrm>
                        </p:grpSpPr>
                        <p:sp>
                          <p:nvSpPr>
                            <p:cNvPr id="226" name="Line 42"/>
                            <p:cNvSpPr/>
                            <p:nvPr/>
                          </p:nvSpPr>
                          <p:spPr>
                            <a:xfrm>
                              <a:off x="6521760" y="3745440"/>
                              <a:ext cx="119160" cy="4824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40" bIns="1440" anchor="t">
                              <a:noAutofit/>
                            </a:bodyPr>
                            <a:p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27" name=""/>
                            <p:cNvSpPr txBox="1"/>
                            <p:nvPr/>
                          </p:nvSpPr>
                          <p:spPr>
                            <a:xfrm rot="108600">
                              <a:off x="6520680" y="3747240"/>
                              <a:ext cx="120600" cy="44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2520" bIns="-252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28" name=""/>
                          <p:cNvGrpSpPr/>
                          <p:nvPr/>
                        </p:nvGrpSpPr>
                        <p:grpSpPr>
                          <a:xfrm>
                            <a:off x="6554880" y="3673440"/>
                            <a:ext cx="89640" cy="20160"/>
                            <a:chOff x="6554880" y="3673440"/>
                            <a:chExt cx="89640" cy="20160"/>
                          </a:xfrm>
                        </p:grpSpPr>
                        <p:sp>
                          <p:nvSpPr>
                            <p:cNvPr id="229" name="Line 43"/>
                            <p:cNvSpPr/>
                            <p:nvPr/>
                          </p:nvSpPr>
                          <p:spPr>
                            <a:xfrm>
                              <a:off x="6555600" y="3673440"/>
                              <a:ext cx="88200" cy="2016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30" name=""/>
                            <p:cNvSpPr txBox="1"/>
                            <p:nvPr/>
                          </p:nvSpPr>
                          <p:spPr>
                            <a:xfrm rot="108600">
                              <a:off x="6555240" y="3674520"/>
                              <a:ext cx="88920" cy="17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29520" bIns="-2952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231" name="未知"/>
                        <p:cNvSpPr/>
                        <p:nvPr/>
                      </p:nvSpPr>
                      <p:spPr>
                        <a:xfrm rot="108600">
                          <a:off x="6609240" y="3726000"/>
                          <a:ext cx="122400" cy="222480"/>
                        </a:xfrm>
                        <a:prstGeom prst="pie">
                          <a:avLst/>
                        </a:pr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未知"/>
                        <p:cNvSpPr/>
                        <p:nvPr/>
                      </p:nvSpPr>
                      <p:spPr>
                        <a:xfrm rot="108600">
                          <a:off x="6564600" y="3785040"/>
                          <a:ext cx="122400" cy="19836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未知"/>
                        <p:cNvSpPr/>
                        <p:nvPr/>
                      </p:nvSpPr>
                      <p:spPr>
                        <a:xfrm rot="108600">
                          <a:off x="6586920" y="3400920"/>
                          <a:ext cx="280800" cy="37152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6917760" y="3207600"/>
                        <a:ext cx="910440" cy="929880"/>
                        <a:chOff x="6917760" y="3207600"/>
                        <a:chExt cx="910440" cy="929880"/>
                      </a:xfrm>
                    </p:grpSpPr>
                    <p:grpSp>
                      <p:nvGrpSpPr>
                        <p:cNvPr id="235" name=""/>
                        <p:cNvGrpSpPr/>
                        <p:nvPr/>
                      </p:nvGrpSpPr>
                      <p:grpSpPr>
                        <a:xfrm>
                          <a:off x="6917760" y="3207600"/>
                          <a:ext cx="574560" cy="929880"/>
                          <a:chOff x="6917760" y="3207600"/>
                          <a:chExt cx="574560" cy="929880"/>
                        </a:xfrm>
                      </p:grpSpPr>
                      <p:sp>
                        <p:nvSpPr>
                          <p:cNvPr id="236" name="未知"/>
                          <p:cNvSpPr/>
                          <p:nvPr/>
                        </p:nvSpPr>
                        <p:spPr>
                          <a:xfrm rot="108600">
                            <a:off x="6931800" y="3215880"/>
                            <a:ext cx="546120" cy="912960"/>
                          </a:xfrm>
                          <a:prstGeom prst="pie">
                            <a:avLst/>
                          </a:pr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37" name="未知"/>
                          <p:cNvSpPr/>
                          <p:nvPr/>
                        </p:nvSpPr>
                        <p:spPr>
                          <a:xfrm rot="108600">
                            <a:off x="7288920" y="3467160"/>
                            <a:ext cx="87120" cy="27000"/>
                          </a:xfrm>
                          <a:prstGeom prst="pie">
                            <a:avLst/>
                          </a:prstGeom>
                          <a:noFill/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440" bIns="-1944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38" name=""/>
                        <p:cNvGrpSpPr/>
                        <p:nvPr/>
                      </p:nvGrpSpPr>
                      <p:grpSpPr>
                        <a:xfrm>
                          <a:off x="7160400" y="3591000"/>
                          <a:ext cx="667800" cy="466560"/>
                          <a:chOff x="7160400" y="3591000"/>
                          <a:chExt cx="667800" cy="466560"/>
                        </a:xfrm>
                      </p:grpSpPr>
                      <p:sp>
                        <p:nvSpPr>
                          <p:cNvPr id="239" name="未知"/>
                          <p:cNvSpPr/>
                          <p:nvPr/>
                        </p:nvSpPr>
                        <p:spPr>
                          <a:xfrm rot="108600">
                            <a:off x="7166880" y="3601080"/>
                            <a:ext cx="654120" cy="446040"/>
                          </a:xfrm>
                          <a:prstGeom prst="pie">
                            <a:avLst/>
                          </a:prstGeom>
                          <a:solidFill>
                            <a:srgbClr val="ff5f00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40" name=""/>
                          <p:cNvGrpSpPr/>
                          <p:nvPr/>
                        </p:nvGrpSpPr>
                        <p:grpSpPr>
                          <a:xfrm>
                            <a:off x="7245000" y="3762360"/>
                            <a:ext cx="534600" cy="217440"/>
                            <a:chOff x="7245000" y="3762360"/>
                            <a:chExt cx="534600" cy="217440"/>
                          </a:xfrm>
                        </p:grpSpPr>
                        <p:sp>
                          <p:nvSpPr>
                            <p:cNvPr id="241" name="未知"/>
                            <p:cNvSpPr/>
                            <p:nvPr/>
                          </p:nvSpPr>
                          <p:spPr>
                            <a:xfrm rot="108600">
                              <a:off x="7520760" y="3763080"/>
                              <a:ext cx="54000" cy="4752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80" bIns="108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42" name=""/>
                            <p:cNvGrpSpPr/>
                            <p:nvPr/>
                          </p:nvGrpSpPr>
                          <p:grpSpPr>
                            <a:xfrm>
                              <a:off x="7727400" y="3883320"/>
                              <a:ext cx="52200" cy="41040"/>
                              <a:chOff x="7727400" y="3883320"/>
                              <a:chExt cx="52200" cy="41040"/>
                            </a:xfrm>
                          </p:grpSpPr>
                          <p:sp>
                            <p:nvSpPr>
                              <p:cNvPr id="243" name="Line 55"/>
                              <p:cNvSpPr/>
                              <p:nvPr/>
                            </p:nvSpPr>
                            <p:spPr>
                              <a:xfrm flipH="1">
                                <a:off x="7727400" y="3885120"/>
                                <a:ext cx="51840" cy="378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9000" bIns="-9000" anchor="t">
                                <a:noAutofit/>
                              </a:bodyPr>
                              <a:p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4" name=""/>
                              <p:cNvSpPr txBox="1"/>
                              <p:nvPr/>
                            </p:nvSpPr>
                            <p:spPr>
                              <a:xfrm rot="108600">
                                <a:off x="7728120" y="3884040"/>
                                <a:ext cx="50760" cy="3960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pPr marL="914400" indent="-914400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45" name="未知"/>
                            <p:cNvSpPr/>
                            <p:nvPr/>
                          </p:nvSpPr>
                          <p:spPr>
                            <a:xfrm rot="108600">
                              <a:off x="7245720" y="3906720"/>
                              <a:ext cx="66600" cy="7164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46" name="未知"/>
                            <p:cNvSpPr/>
                            <p:nvPr/>
                          </p:nvSpPr>
                          <p:spPr>
                            <a:xfrm rot="108600">
                              <a:off x="7266600" y="3912120"/>
                              <a:ext cx="343080" cy="5400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560" bIns="756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247" name=""/>
                      <p:cNvGrpSpPr/>
                      <p:nvPr/>
                    </p:nvGrpSpPr>
                    <p:grpSpPr>
                      <a:xfrm>
                        <a:off x="6585480" y="4581720"/>
                        <a:ext cx="750600" cy="876240"/>
                        <a:chOff x="6585480" y="4581720"/>
                        <a:chExt cx="750600" cy="876240"/>
                      </a:xfrm>
                    </p:grpSpPr>
                    <p:sp>
                      <p:nvSpPr>
                        <p:cNvPr id="248" name="未知"/>
                        <p:cNvSpPr/>
                        <p:nvPr/>
                      </p:nvSpPr>
                      <p:spPr>
                        <a:xfrm rot="108600">
                          <a:off x="6998760" y="5123160"/>
                          <a:ext cx="214560" cy="306360"/>
                        </a:xfrm>
                        <a:prstGeom prst="pie">
                          <a:avLst/>
                        </a:pr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未知"/>
                        <p:cNvSpPr/>
                        <p:nvPr/>
                      </p:nvSpPr>
                      <p:spPr>
                        <a:xfrm rot="108600">
                          <a:off x="6598800" y="4592880"/>
                          <a:ext cx="723960" cy="853920"/>
                        </a:xfrm>
                        <a:prstGeom prst="pie">
                          <a:avLst/>
                        </a:pr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7011720" y="3425040"/>
                      <a:ext cx="530280" cy="416160"/>
                      <a:chOff x="7011720" y="3425040"/>
                      <a:chExt cx="530280" cy="416160"/>
                    </a:xfrm>
                  </p:grpSpPr>
                  <p:sp>
                    <p:nvSpPr>
                      <p:cNvPr id="251" name="未知"/>
                      <p:cNvSpPr/>
                      <p:nvPr/>
                    </p:nvSpPr>
                    <p:spPr>
                      <a:xfrm rot="108600">
                        <a:off x="7013160" y="3558240"/>
                        <a:ext cx="388800" cy="11772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未知"/>
                      <p:cNvSpPr/>
                      <p:nvPr/>
                    </p:nvSpPr>
                    <p:spPr>
                      <a:xfrm rot="108600">
                        <a:off x="7480440" y="3472920"/>
                        <a:ext cx="58680" cy="174600"/>
                      </a:xfrm>
                      <a:prstGeom prst="pie">
                        <a:avLst/>
                      </a:pr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未知"/>
                      <p:cNvSpPr/>
                      <p:nvPr/>
                    </p:nvSpPr>
                    <p:spPr>
                      <a:xfrm rot="108600">
                        <a:off x="7444440" y="3426120"/>
                        <a:ext cx="75960" cy="22716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未知"/>
                      <p:cNvSpPr/>
                      <p:nvPr/>
                    </p:nvSpPr>
                    <p:spPr>
                      <a:xfrm rot="108600">
                        <a:off x="7404480" y="3466440"/>
                        <a:ext cx="74520" cy="357120"/>
                      </a:xfrm>
                      <a:prstGeom prst="pie">
                        <a:avLst/>
                      </a:pr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5" name="未知"/>
                      <p:cNvSpPr/>
                      <p:nvPr/>
                    </p:nvSpPr>
                    <p:spPr>
                      <a:xfrm rot="108600">
                        <a:off x="7362000" y="3431520"/>
                        <a:ext cx="96840" cy="407880"/>
                      </a:xfrm>
                      <a:prstGeom prst="pie">
                        <a:avLst/>
                      </a:pr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655680" y="3476880"/>
                  <a:ext cx="754200" cy="1628640"/>
                  <a:chOff x="6655680" y="3476880"/>
                  <a:chExt cx="754200" cy="1628640"/>
                </a:xfrm>
              </p:grpSpPr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6655680" y="3476880"/>
                    <a:ext cx="754200" cy="1628640"/>
                    <a:chOff x="6655680" y="3476880"/>
                    <a:chExt cx="754200" cy="1628640"/>
                  </a:xfrm>
                </p:grpSpPr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7014240" y="4054320"/>
                      <a:ext cx="329400" cy="299880"/>
                      <a:chOff x="7014240" y="4054320"/>
                      <a:chExt cx="329400" cy="299880"/>
                    </a:xfrm>
                  </p:grpSpPr>
                  <p:sp>
                    <p:nvSpPr>
                      <p:cNvPr id="259" name="未知"/>
                      <p:cNvSpPr/>
                      <p:nvPr/>
                    </p:nvSpPr>
                    <p:spPr>
                      <a:xfrm rot="108600">
                        <a:off x="7016760" y="4057560"/>
                        <a:ext cx="227160" cy="18540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0" name="未知"/>
                      <p:cNvSpPr/>
                      <p:nvPr/>
                    </p:nvSpPr>
                    <p:spPr>
                      <a:xfrm rot="108600">
                        <a:off x="7119000" y="4122360"/>
                        <a:ext cx="220680" cy="228240"/>
                      </a:xfrm>
                      <a:prstGeom prst="pie">
                        <a:avLst/>
                      </a:pr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1" name=""/>
                    <p:cNvGrpSpPr/>
                    <p:nvPr/>
                  </p:nvGrpSpPr>
                  <p:grpSpPr>
                    <a:xfrm>
                      <a:off x="6655680" y="3476880"/>
                      <a:ext cx="754200" cy="1628640"/>
                      <a:chOff x="6655680" y="3476880"/>
                      <a:chExt cx="754200" cy="1628640"/>
                    </a:xfrm>
                  </p:grpSpPr>
                  <p:grpSp>
                    <p:nvGrpSpPr>
                      <p:cNvPr id="262" name=""/>
                      <p:cNvGrpSpPr/>
                      <p:nvPr/>
                    </p:nvGrpSpPr>
                    <p:grpSpPr>
                      <a:xfrm>
                        <a:off x="6655680" y="3476880"/>
                        <a:ext cx="754200" cy="1628640"/>
                        <a:chOff x="6655680" y="3476880"/>
                        <a:chExt cx="754200" cy="1628640"/>
                      </a:xfrm>
                    </p:grpSpPr>
                    <p:grpSp>
                      <p:nvGrpSpPr>
                        <p:cNvPr id="263" name=""/>
                        <p:cNvGrpSpPr/>
                        <p:nvPr/>
                      </p:nvGrpSpPr>
                      <p:grpSpPr>
                        <a:xfrm>
                          <a:off x="6655680" y="3476880"/>
                          <a:ext cx="754200" cy="1628640"/>
                          <a:chOff x="6655680" y="3476880"/>
                          <a:chExt cx="754200" cy="1628640"/>
                        </a:xfrm>
                      </p:grpSpPr>
                      <p:grpSp>
                        <p:nvGrpSpPr>
                          <p:cNvPr id="264" name=""/>
                          <p:cNvGrpSpPr/>
                          <p:nvPr/>
                        </p:nvGrpSpPr>
                        <p:grpSpPr>
                          <a:xfrm>
                            <a:off x="6655680" y="3476880"/>
                            <a:ext cx="266400" cy="492480"/>
                            <a:chOff x="6655680" y="3476880"/>
                            <a:chExt cx="266400" cy="492480"/>
                          </a:xfrm>
                        </p:grpSpPr>
                        <p:sp>
                          <p:nvSpPr>
                            <p:cNvPr id="265" name="未知"/>
                            <p:cNvSpPr/>
                            <p:nvPr/>
                          </p:nvSpPr>
                          <p:spPr>
                            <a:xfrm rot="108600">
                              <a:off x="6768000" y="3799080"/>
                              <a:ext cx="136440" cy="167760"/>
                            </a:xfrm>
                            <a:prstGeom prst="pie">
                              <a:avLst/>
                            </a:prstGeom>
                            <a:solidFill>
                              <a:srgbClr val="000080"/>
                            </a:solidFill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66" name=""/>
                            <p:cNvGrpSpPr/>
                            <p:nvPr/>
                          </p:nvGrpSpPr>
                          <p:grpSpPr>
                            <a:xfrm>
                              <a:off x="6655680" y="3476880"/>
                              <a:ext cx="266400" cy="486720"/>
                              <a:chOff x="6655680" y="3476880"/>
                              <a:chExt cx="266400" cy="486720"/>
                            </a:xfrm>
                          </p:grpSpPr>
                          <p:grpSp>
                            <p:nvGrpSpPr>
                              <p:cNvPr id="267" name=""/>
                              <p:cNvGrpSpPr/>
                              <p:nvPr/>
                            </p:nvGrpSpPr>
                            <p:grpSpPr>
                              <a:xfrm>
                                <a:off x="6655680" y="3476880"/>
                                <a:ext cx="266400" cy="486720"/>
                                <a:chOff x="6655680" y="3476880"/>
                                <a:chExt cx="266400" cy="486720"/>
                              </a:xfrm>
                            </p:grpSpPr>
                            <p:sp>
                              <p:nvSpPr>
                                <p:cNvPr id="268" name="未知"/>
                                <p:cNvSpPr/>
                                <p:nvPr/>
                              </p:nvSpPr>
                              <p:spPr>
                                <a:xfrm rot="108600">
                                  <a:off x="6693840" y="3753720"/>
                                  <a:ext cx="115920" cy="207720"/>
                                </a:xfrm>
                                <a:prstGeom prst="pie">
                                  <a:avLst/>
                                </a:pr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未知"/>
                                <p:cNvSpPr/>
                                <p:nvPr/>
                              </p:nvSpPr>
                              <p:spPr>
                                <a:xfrm rot="108600">
                                  <a:off x="6661080" y="3480480"/>
                                  <a:ext cx="255600" cy="336240"/>
                                </a:xfrm>
                                <a:prstGeom prst="pie">
                                  <a:avLst/>
                                </a:pr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0" name="Oval 81"/>
                              <p:cNvSpPr/>
                              <p:nvPr/>
                            </p:nvSpPr>
                            <p:spPr>
                              <a:xfrm rot="108600">
                                <a:off x="6834240" y="3515400"/>
                                <a:ext cx="42840" cy="662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0" bIns="0" anchor="t">
                                <a:noAutofit/>
                              </a:bodyPr>
                              <a:p>
                                <a:pPr marL="914400" indent="-914400"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271" name="未知"/>
                          <p:cNvSpPr/>
                          <p:nvPr/>
                        </p:nvSpPr>
                        <p:spPr>
                          <a:xfrm rot="108600">
                            <a:off x="6721560" y="3512880"/>
                            <a:ext cx="663480" cy="1582560"/>
                          </a:xfrm>
                          <a:prstGeom prst="pie">
                            <a:avLst/>
                          </a:prstGeom>
                          <a:solidFill>
                            <a:srgbClr val="0000ff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" name=""/>
                        <p:cNvGrpSpPr/>
                        <p:nvPr/>
                      </p:nvGrpSpPr>
                      <p:grpSpPr>
                        <a:xfrm>
                          <a:off x="6849360" y="3887280"/>
                          <a:ext cx="121320" cy="838800"/>
                          <a:chOff x="6849360" y="3887280"/>
                          <a:chExt cx="121320" cy="838800"/>
                        </a:xfrm>
                      </p:grpSpPr>
                      <p:grpSp>
                        <p:nvGrpSpPr>
                          <p:cNvPr id="273" name=""/>
                          <p:cNvGrpSpPr/>
                          <p:nvPr/>
                        </p:nvGrpSpPr>
                        <p:grpSpPr>
                          <a:xfrm>
                            <a:off x="6872400" y="3887280"/>
                            <a:ext cx="98280" cy="87480"/>
                            <a:chOff x="6872400" y="3887280"/>
                            <a:chExt cx="98280" cy="87480"/>
                          </a:xfrm>
                        </p:grpSpPr>
                        <p:grpSp>
                          <p:nvGrpSpPr>
                            <p:cNvPr id="274" name=""/>
                            <p:cNvGrpSpPr/>
                            <p:nvPr/>
                          </p:nvGrpSpPr>
                          <p:grpSpPr>
                            <a:xfrm>
                              <a:off x="6872400" y="3887280"/>
                              <a:ext cx="89640" cy="53640"/>
                              <a:chOff x="6872400" y="3887280"/>
                              <a:chExt cx="89640" cy="53640"/>
                            </a:xfrm>
                          </p:grpSpPr>
                          <p:sp>
                            <p:nvSpPr>
                              <p:cNvPr id="275" name="Line 85"/>
                              <p:cNvSpPr/>
                              <p:nvPr/>
                            </p:nvSpPr>
                            <p:spPr>
                              <a:xfrm flipV="1">
                                <a:off x="6872760" y="3890160"/>
                                <a:ext cx="89280" cy="4788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"/>
                              <p:cNvSpPr txBox="1"/>
                              <p:nvPr/>
                            </p:nvSpPr>
                            <p:spPr>
                              <a:xfrm rot="10908600">
                                <a:off x="6873120" y="3888720"/>
                                <a:ext cx="87480" cy="507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3960" bIns="3960" anchor="t">
                                <a:noAutofit/>
                              </a:bodyPr>
                              <a:p>
                                <a:pPr marL="914400" indent="-914400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77" name=""/>
                            <p:cNvGrpSpPr/>
                            <p:nvPr/>
                          </p:nvGrpSpPr>
                          <p:grpSpPr>
                            <a:xfrm>
                              <a:off x="6879240" y="3952800"/>
                              <a:ext cx="91440" cy="21960"/>
                              <a:chOff x="6879240" y="3952800"/>
                              <a:chExt cx="91440" cy="21960"/>
                            </a:xfrm>
                          </p:grpSpPr>
                          <p:sp>
                            <p:nvSpPr>
                              <p:cNvPr id="278" name="Line 86"/>
                              <p:cNvSpPr/>
                              <p:nvPr/>
                            </p:nvSpPr>
                            <p:spPr>
                              <a:xfrm flipV="1">
                                <a:off x="6879600" y="3955680"/>
                                <a:ext cx="91080" cy="162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600" bIns="-30600" anchor="t">
                                <a:noAutofit/>
                              </a:bodyPr>
                              <a:p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"/>
                              <p:cNvSpPr txBox="1"/>
                              <p:nvPr/>
                            </p:nvSpPr>
                            <p:spPr>
                              <a:xfrm rot="10908600">
                                <a:off x="6879240" y="3954240"/>
                                <a:ext cx="90360" cy="190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-27720" bIns="-27720" anchor="t">
                                <a:noAutofit/>
                              </a:bodyPr>
                              <a:p>
                                <a:pPr marL="914400" indent="-914400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280" name=""/>
                          <p:cNvGrpSpPr/>
                          <p:nvPr/>
                        </p:nvGrpSpPr>
                        <p:grpSpPr>
                          <a:xfrm>
                            <a:off x="6849360" y="4461840"/>
                            <a:ext cx="114480" cy="264240"/>
                            <a:chOff x="6849360" y="4461840"/>
                            <a:chExt cx="114480" cy="264240"/>
                          </a:xfrm>
                        </p:grpSpPr>
                        <p:sp>
                          <p:nvSpPr>
                            <p:cNvPr id="281" name="未知"/>
                            <p:cNvSpPr/>
                            <p:nvPr/>
                          </p:nvSpPr>
                          <p:spPr>
                            <a:xfrm rot="108600">
                              <a:off x="6896880" y="4462560"/>
                              <a:ext cx="66600" cy="1584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600" bIns="-3060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82" name="未知"/>
                            <p:cNvSpPr/>
                            <p:nvPr/>
                          </p:nvSpPr>
                          <p:spPr>
                            <a:xfrm rot="108600">
                              <a:off x="6882120" y="4646520"/>
                              <a:ext cx="47520" cy="72720"/>
                            </a:xfrm>
                            <a:prstGeom prst="pie">
                              <a:avLst/>
                            </a:prstGeom>
                            <a:noFill/>
                            <a:ln w="11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920" bIns="25920" anchor="t">
                              <a:noAutofit/>
                            </a:bodyPr>
                            <a:p>
                              <a:pPr marL="914400" indent="-914400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1" lang="en-US" sz="2800" spc="-1" strike="noStrike">
                                <a:solidFill>
                                  <a:srgbClr val="29292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83" name=""/>
                            <p:cNvGrpSpPr/>
                            <p:nvPr/>
                          </p:nvGrpSpPr>
                          <p:grpSpPr>
                            <a:xfrm>
                              <a:off x="6849360" y="4668480"/>
                              <a:ext cx="25560" cy="57600"/>
                              <a:chOff x="6849360" y="4668480"/>
                              <a:chExt cx="25560" cy="57600"/>
                            </a:xfrm>
                          </p:grpSpPr>
                          <p:sp>
                            <p:nvSpPr>
                              <p:cNvPr id="284" name="Line 90"/>
                              <p:cNvSpPr/>
                              <p:nvPr/>
                            </p:nvSpPr>
                            <p:spPr>
                              <a:xfrm>
                                <a:off x="6851160" y="4668480"/>
                                <a:ext cx="21960" cy="576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0" bIns="10800" anchor="t">
                                <a:noAutofit/>
                              </a:bodyPr>
                              <a:p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"/>
                              <p:cNvSpPr txBox="1"/>
                              <p:nvPr/>
                            </p:nvSpPr>
                            <p:spPr>
                              <a:xfrm rot="108600">
                                <a:off x="6850080" y="4668840"/>
                                <a:ext cx="23760" cy="568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10080" bIns="10080" anchor="t">
                                <a:noAutofit/>
                              </a:bodyPr>
                              <a:p>
                                <a:pPr marL="914400" indent="-914400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1" lang="en-US" sz="2800" spc="-1" strike="noStrike">
                                  <a:solidFill>
                                    <a:srgbClr val="292929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sp>
                    <p:nvSpPr>
                      <p:cNvPr id="286" name="未知"/>
                      <p:cNvSpPr/>
                      <p:nvPr/>
                    </p:nvSpPr>
                    <p:spPr>
                      <a:xfrm rot="108600">
                        <a:off x="7026120" y="3657960"/>
                        <a:ext cx="133560" cy="277560"/>
                      </a:xfrm>
                      <a:prstGeom prst="pie">
                        <a:avLst/>
                      </a:pr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7286400" y="4635000"/>
                    <a:ext cx="47520" cy="182880"/>
                    <a:chOff x="7286400" y="4635000"/>
                    <a:chExt cx="47520" cy="182880"/>
                  </a:xfrm>
                </p:grpSpPr>
                <p:sp>
                  <p:nvSpPr>
                    <p:cNvPr id="288" name="Oval 93"/>
                    <p:cNvSpPr/>
                    <p:nvPr/>
                  </p:nvSpPr>
                  <p:spPr>
                    <a:xfrm rot="108600">
                      <a:off x="7292520" y="4635360"/>
                      <a:ext cx="39960" cy="7596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 marL="914400" indent="-914400"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Oval 94"/>
                    <p:cNvSpPr/>
                    <p:nvPr/>
                  </p:nvSpPr>
                  <p:spPr>
                    <a:xfrm rot="108600">
                      <a:off x="7287480" y="4741200"/>
                      <a:ext cx="39600" cy="7596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6840" bIns="6840" anchor="t">
                      <a:noAutofit/>
                    </a:bodyPr>
                    <a:p>
                      <a:pPr marL="914400" indent="-914400"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7096320" y="3825720"/>
                <a:ext cx="1655640" cy="2392200"/>
                <a:chOff x="7096320" y="3825720"/>
                <a:chExt cx="1655640" cy="2392200"/>
              </a:xfrm>
            </p:grpSpPr>
            <p:grpSp>
              <p:nvGrpSpPr>
                <p:cNvPr id="291" name=""/>
                <p:cNvGrpSpPr/>
                <p:nvPr/>
              </p:nvGrpSpPr>
              <p:grpSpPr>
                <a:xfrm>
                  <a:off x="7096320" y="4555800"/>
                  <a:ext cx="1655640" cy="1662120"/>
                  <a:chOff x="7096320" y="4555800"/>
                  <a:chExt cx="1655640" cy="1662120"/>
                </a:xfrm>
              </p:grpSpPr>
              <p:sp>
                <p:nvSpPr>
                  <p:cNvPr id="292" name="未知"/>
                  <p:cNvSpPr/>
                  <p:nvPr/>
                </p:nvSpPr>
                <p:spPr>
                  <a:xfrm>
                    <a:off x="7096320" y="5976720"/>
                    <a:ext cx="792000" cy="226800"/>
                  </a:xfrm>
                  <a:prstGeom prst="pie">
                    <a:avLst/>
                  </a:prstGeom>
                  <a:solidFill>
                    <a:srgbClr val="3f3f3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7483680" y="4555800"/>
                    <a:ext cx="1268280" cy="1662120"/>
                    <a:chOff x="7483680" y="4555800"/>
                    <a:chExt cx="1268280" cy="1662120"/>
                  </a:xfrm>
                </p:grpSpPr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7548840" y="4733640"/>
                      <a:ext cx="1060200" cy="1484280"/>
                      <a:chOff x="7548840" y="4733640"/>
                      <a:chExt cx="1060200" cy="1484280"/>
                    </a:xfrm>
                  </p:grpSpPr>
                  <p:sp>
                    <p:nvSpPr>
                      <p:cNvPr id="295" name="未知"/>
                      <p:cNvSpPr/>
                      <p:nvPr/>
                    </p:nvSpPr>
                    <p:spPr>
                      <a:xfrm>
                        <a:off x="7548840" y="4733640"/>
                        <a:ext cx="1060200" cy="1484280"/>
                      </a:xfrm>
                      <a:prstGeom prst="pie">
                        <a:avLst/>
                      </a:prstGeom>
                      <a:solidFill>
                        <a:srgbClr val="800000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6" name=""/>
                      <p:cNvGrpSpPr/>
                      <p:nvPr/>
                    </p:nvGrpSpPr>
                    <p:grpSpPr>
                      <a:xfrm>
                        <a:off x="7548840" y="5805360"/>
                        <a:ext cx="1056960" cy="361800"/>
                        <a:chOff x="7548840" y="5805360"/>
                        <a:chExt cx="1056960" cy="361800"/>
                      </a:xfrm>
                    </p:grpSpPr>
                    <p:sp>
                      <p:nvSpPr>
                        <p:cNvPr id="297" name="未知"/>
                        <p:cNvSpPr/>
                        <p:nvPr/>
                      </p:nvSpPr>
                      <p:spPr>
                        <a:xfrm>
                          <a:off x="7951680" y="5805360"/>
                          <a:ext cx="277560" cy="4608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未知"/>
                        <p:cNvSpPr/>
                        <p:nvPr/>
                      </p:nvSpPr>
                      <p:spPr>
                        <a:xfrm>
                          <a:off x="7548840" y="6041880"/>
                          <a:ext cx="1056960" cy="125280"/>
                        </a:xfrm>
                        <a:prstGeom prst="pie">
                          <a:avLst/>
                        </a:prstGeom>
                        <a:noFill/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99" name="Rectangle 104"/>
                    <p:cNvSpPr/>
                    <p:nvPr/>
                  </p:nvSpPr>
                  <p:spPr>
                    <a:xfrm>
                      <a:off x="7483680" y="4555800"/>
                      <a:ext cx="1268280" cy="20952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marL="914400" indent="-914400" algn="ctr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509240" y="3825720"/>
                  <a:ext cx="1172520" cy="819000"/>
                  <a:chOff x="7509240" y="3825720"/>
                  <a:chExt cx="1172520" cy="819000"/>
                </a:xfrm>
              </p:grpSpPr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7509240" y="4408200"/>
                    <a:ext cx="1172520" cy="236520"/>
                    <a:chOff x="7509240" y="4408200"/>
                    <a:chExt cx="1172520" cy="23652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7509240" y="4408200"/>
                      <a:ext cx="479160" cy="141120"/>
                      <a:chOff x="7509240" y="4408200"/>
                      <a:chExt cx="479160" cy="141120"/>
                    </a:xfrm>
                  </p:grpSpPr>
                  <p:sp>
                    <p:nvSpPr>
                      <p:cNvPr id="303" name="未知"/>
                      <p:cNvSpPr/>
                      <p:nvPr/>
                    </p:nvSpPr>
                    <p:spPr>
                      <a:xfrm>
                        <a:off x="7542360" y="4408200"/>
                        <a:ext cx="329760" cy="1112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4" name=""/>
                      <p:cNvGrpSpPr/>
                      <p:nvPr/>
                    </p:nvGrpSpPr>
                    <p:grpSpPr>
                      <a:xfrm>
                        <a:off x="7509240" y="4416120"/>
                        <a:ext cx="479160" cy="133200"/>
                        <a:chOff x="7509240" y="4416120"/>
                        <a:chExt cx="479160" cy="133200"/>
                      </a:xfrm>
                    </p:grpSpPr>
                    <p:sp>
                      <p:nvSpPr>
                        <p:cNvPr id="305" name="Rectangle 110"/>
                        <p:cNvSpPr/>
                        <p:nvPr/>
                      </p:nvSpPr>
                      <p:spPr>
                        <a:xfrm>
                          <a:off x="7940520" y="4490640"/>
                          <a:ext cx="23760" cy="54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marL="914400" indent="-914400"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06" name=""/>
                        <p:cNvGrpSpPr/>
                        <p:nvPr/>
                      </p:nvGrpSpPr>
                      <p:grpSpPr>
                        <a:xfrm>
                          <a:off x="7509240" y="4416120"/>
                          <a:ext cx="479160" cy="133200"/>
                          <a:chOff x="7509240" y="4416120"/>
                          <a:chExt cx="479160" cy="133200"/>
                        </a:xfrm>
                      </p:grpSpPr>
                      <p:sp>
                        <p:nvSpPr>
                          <p:cNvPr id="307" name="未知"/>
                          <p:cNvSpPr/>
                          <p:nvPr/>
                        </p:nvSpPr>
                        <p:spPr>
                          <a:xfrm>
                            <a:off x="7509240" y="4416120"/>
                            <a:ext cx="479160" cy="133200"/>
                          </a:xfrm>
                          <a:prstGeom prst="pie">
                            <a:avLst/>
                          </a:prstGeom>
                          <a:solidFill>
                            <a:srgbClr val="c0c0c0"/>
                          </a:solidFill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8" name="未知"/>
                          <p:cNvSpPr/>
                          <p:nvPr/>
                        </p:nvSpPr>
                        <p:spPr>
                          <a:xfrm>
                            <a:off x="7531200" y="4441680"/>
                            <a:ext cx="441000" cy="82440"/>
                          </a:xfrm>
                          <a:prstGeom prst="pie">
                            <a:avLst/>
                          </a:prstGeom>
                          <a:noFill/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00" bIns="360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309" name="未知"/>
                    <p:cNvSpPr/>
                    <p:nvPr/>
                  </p:nvSpPr>
                  <p:spPr>
                    <a:xfrm>
                      <a:off x="7950240" y="4493880"/>
                      <a:ext cx="731520" cy="150840"/>
                    </a:xfrm>
                    <a:prstGeom prst="pie">
                      <a:avLst/>
                    </a:prstGeom>
                    <a:noFill/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marL="914400" indent="-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7999560" y="3825720"/>
                    <a:ext cx="632520" cy="738000"/>
                    <a:chOff x="7999560" y="3825720"/>
                    <a:chExt cx="632520" cy="738000"/>
                  </a:xfrm>
                </p:grpSpPr>
                <p:grpSp>
                  <p:nvGrpSpPr>
                    <p:cNvPr id="311" name=""/>
                    <p:cNvGrpSpPr/>
                    <p:nvPr/>
                  </p:nvGrpSpPr>
                  <p:grpSpPr>
                    <a:xfrm>
                      <a:off x="8019720" y="4227480"/>
                      <a:ext cx="612360" cy="336240"/>
                      <a:chOff x="8019720" y="4227480"/>
                      <a:chExt cx="612360" cy="336240"/>
                    </a:xfrm>
                  </p:grpSpPr>
                  <p:grpSp>
                    <p:nvGrpSpPr>
                      <p:cNvPr id="312" name=""/>
                      <p:cNvGrpSpPr/>
                      <p:nvPr/>
                    </p:nvGrpSpPr>
                    <p:grpSpPr>
                      <a:xfrm>
                        <a:off x="8019720" y="4254480"/>
                        <a:ext cx="612360" cy="309240"/>
                        <a:chOff x="8019720" y="4254480"/>
                        <a:chExt cx="612360" cy="309240"/>
                      </a:xfrm>
                    </p:grpSpPr>
                    <p:sp>
                      <p:nvSpPr>
                        <p:cNvPr id="313" name="Rectangle 118"/>
                        <p:cNvSpPr/>
                        <p:nvPr/>
                      </p:nvSpPr>
                      <p:spPr>
                        <a:xfrm>
                          <a:off x="8019720" y="4254480"/>
                          <a:ext cx="612360" cy="2919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4" name=""/>
                        <p:cNvGrpSpPr/>
                        <p:nvPr/>
                      </p:nvGrpSpPr>
                      <p:grpSpPr>
                        <a:xfrm>
                          <a:off x="8049600" y="4282920"/>
                          <a:ext cx="566280" cy="280800"/>
                          <a:chOff x="8049600" y="4282920"/>
                          <a:chExt cx="566280" cy="280800"/>
                        </a:xfrm>
                      </p:grpSpPr>
                      <p:grpSp>
                        <p:nvGrpSpPr>
                          <p:cNvPr id="315" name=""/>
                          <p:cNvGrpSpPr/>
                          <p:nvPr/>
                        </p:nvGrpSpPr>
                        <p:grpSpPr>
                          <a:xfrm>
                            <a:off x="8049600" y="4282920"/>
                            <a:ext cx="566280" cy="158760"/>
                            <a:chOff x="8049600" y="4282920"/>
                            <a:chExt cx="566280" cy="158760"/>
                          </a:xfrm>
                        </p:grpSpPr>
                        <p:grpSp>
                          <p:nvGrpSpPr>
                            <p:cNvPr id="316" name=""/>
                            <p:cNvGrpSpPr/>
                            <p:nvPr/>
                          </p:nvGrpSpPr>
                          <p:grpSpPr>
                            <a:xfrm>
                              <a:off x="8049600" y="4282920"/>
                              <a:ext cx="564840" cy="58680"/>
                              <a:chOff x="8049600" y="4282920"/>
                              <a:chExt cx="564840" cy="58680"/>
                            </a:xfrm>
                          </p:grpSpPr>
                          <p:grpSp>
                            <p:nvGrpSpPr>
                              <p:cNvPr id="317" name=""/>
                              <p:cNvGrpSpPr/>
                              <p:nvPr/>
                            </p:nvGrpSpPr>
                            <p:grpSpPr>
                              <a:xfrm>
                                <a:off x="8049600" y="4282920"/>
                                <a:ext cx="564840" cy="1440"/>
                                <a:chOff x="8049600" y="4282920"/>
                                <a:chExt cx="564840" cy="1440"/>
                              </a:xfrm>
                            </p:grpSpPr>
                            <p:sp>
                              <p:nvSpPr>
                                <p:cNvPr id="318" name="Line 122"/>
                                <p:cNvSpPr/>
                                <p:nvPr/>
                              </p:nvSpPr>
                              <p:spPr>
                                <a:xfrm>
                                  <a:off x="8049600" y="4282920"/>
                                  <a:ext cx="56484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9" name=""/>
                                <p:cNvSpPr txBox="1"/>
                                <p:nvPr/>
                              </p:nvSpPr>
                              <p:spPr>
                                <a:xfrm>
                                  <a:off x="8049600" y="4282920"/>
                                  <a:ext cx="56484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20" name=""/>
                              <p:cNvGrpSpPr/>
                              <p:nvPr/>
                            </p:nvGrpSpPr>
                            <p:grpSpPr>
                              <a:xfrm>
                                <a:off x="8049600" y="4311360"/>
                                <a:ext cx="564840" cy="1800"/>
                                <a:chOff x="8049600" y="4311360"/>
                                <a:chExt cx="564840" cy="1800"/>
                              </a:xfrm>
                            </p:grpSpPr>
                            <p:sp>
                              <p:nvSpPr>
                                <p:cNvPr id="321" name="Line 123"/>
                                <p:cNvSpPr/>
                                <p:nvPr/>
                              </p:nvSpPr>
                              <p:spPr>
                                <a:xfrm>
                                  <a:off x="8049600" y="4311360"/>
                                  <a:ext cx="56484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2" name=""/>
                                <p:cNvSpPr txBox="1"/>
                                <p:nvPr/>
                              </p:nvSpPr>
                              <p:spPr>
                                <a:xfrm>
                                  <a:off x="8049600" y="4311360"/>
                                  <a:ext cx="56484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23" name=""/>
                              <p:cNvGrpSpPr/>
                              <p:nvPr/>
                            </p:nvGrpSpPr>
                            <p:grpSpPr>
                              <a:xfrm>
                                <a:off x="8049600" y="4340160"/>
                                <a:ext cx="564840" cy="1440"/>
                                <a:chOff x="8049600" y="4340160"/>
                                <a:chExt cx="564840" cy="1440"/>
                              </a:xfrm>
                            </p:grpSpPr>
                            <p:sp>
                              <p:nvSpPr>
                                <p:cNvPr id="324" name="Line 124"/>
                                <p:cNvSpPr/>
                                <p:nvPr/>
                              </p:nvSpPr>
                              <p:spPr>
                                <a:xfrm>
                                  <a:off x="8049600" y="4340160"/>
                                  <a:ext cx="56484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5" name=""/>
                                <p:cNvSpPr txBox="1"/>
                                <p:nvPr/>
                              </p:nvSpPr>
                              <p:spPr>
                                <a:xfrm>
                                  <a:off x="8049600" y="4340160"/>
                                  <a:ext cx="56484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26" name=""/>
                            <p:cNvGrpSpPr/>
                            <p:nvPr/>
                          </p:nvGrpSpPr>
                          <p:grpSpPr>
                            <a:xfrm>
                              <a:off x="8049600" y="4383000"/>
                              <a:ext cx="566280" cy="58680"/>
                              <a:chOff x="8049600" y="4383000"/>
                              <a:chExt cx="566280" cy="58680"/>
                            </a:xfrm>
                          </p:grpSpPr>
                          <p:grpSp>
                            <p:nvGrpSpPr>
                              <p:cNvPr id="327" name=""/>
                              <p:cNvGrpSpPr/>
                              <p:nvPr/>
                            </p:nvGrpSpPr>
                            <p:grpSpPr>
                              <a:xfrm>
                                <a:off x="8050680" y="4383000"/>
                                <a:ext cx="564840" cy="1440"/>
                                <a:chOff x="8050680" y="4383000"/>
                                <a:chExt cx="564840" cy="1440"/>
                              </a:xfrm>
                            </p:grpSpPr>
                            <p:sp>
                              <p:nvSpPr>
                                <p:cNvPr id="328" name="Line 126"/>
                                <p:cNvSpPr/>
                                <p:nvPr/>
                              </p:nvSpPr>
                              <p:spPr>
                                <a:xfrm>
                                  <a:off x="8050680" y="4383000"/>
                                  <a:ext cx="56484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29" name=""/>
                                <p:cNvSpPr txBox="1"/>
                                <p:nvPr/>
                              </p:nvSpPr>
                              <p:spPr>
                                <a:xfrm>
                                  <a:off x="8050680" y="4383000"/>
                                  <a:ext cx="56484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0" name=""/>
                              <p:cNvGrpSpPr/>
                              <p:nvPr/>
                            </p:nvGrpSpPr>
                            <p:grpSpPr>
                              <a:xfrm>
                                <a:off x="8049600" y="4411440"/>
                                <a:ext cx="566280" cy="1800"/>
                                <a:chOff x="8049600" y="4411440"/>
                                <a:chExt cx="566280" cy="1800"/>
                              </a:xfrm>
                            </p:grpSpPr>
                            <p:sp>
                              <p:nvSpPr>
                                <p:cNvPr id="331" name="Line 127"/>
                                <p:cNvSpPr/>
                                <p:nvPr/>
                              </p:nvSpPr>
                              <p:spPr>
                                <a:xfrm>
                                  <a:off x="8049600" y="4411440"/>
                                  <a:ext cx="56628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"/>
                                <p:cNvSpPr txBox="1"/>
                                <p:nvPr/>
                              </p:nvSpPr>
                              <p:spPr>
                                <a:xfrm>
                                  <a:off x="8049600" y="4411440"/>
                                  <a:ext cx="56628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"/>
                              <p:cNvGrpSpPr/>
                              <p:nvPr/>
                            </p:nvGrpSpPr>
                            <p:grpSpPr>
                              <a:xfrm>
                                <a:off x="8050680" y="4440240"/>
                                <a:ext cx="564840" cy="1440"/>
                                <a:chOff x="8050680" y="4440240"/>
                                <a:chExt cx="564840" cy="1440"/>
                              </a:xfrm>
                            </p:grpSpPr>
                            <p:sp>
                              <p:nvSpPr>
                                <p:cNvPr id="334" name="Line 128"/>
                                <p:cNvSpPr/>
                                <p:nvPr/>
                              </p:nvSpPr>
                              <p:spPr>
                                <a:xfrm>
                                  <a:off x="8050680" y="4440240"/>
                                  <a:ext cx="56484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"/>
                                <p:cNvSpPr txBox="1"/>
                                <p:nvPr/>
                              </p:nvSpPr>
                              <p:spPr>
                                <a:xfrm>
                                  <a:off x="8050680" y="4440240"/>
                                  <a:ext cx="56484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336" name=""/>
                          <p:cNvGrpSpPr/>
                          <p:nvPr/>
                        </p:nvGrpSpPr>
                        <p:grpSpPr>
                          <a:xfrm>
                            <a:off x="8049600" y="4484520"/>
                            <a:ext cx="538560" cy="79200"/>
                            <a:chOff x="8049600" y="4484520"/>
                            <a:chExt cx="538560" cy="79200"/>
                          </a:xfrm>
                        </p:grpSpPr>
                        <p:grpSp>
                          <p:nvGrpSpPr>
                            <p:cNvPr id="337" name=""/>
                            <p:cNvGrpSpPr/>
                            <p:nvPr/>
                          </p:nvGrpSpPr>
                          <p:grpSpPr>
                            <a:xfrm>
                              <a:off x="8049600" y="4484520"/>
                              <a:ext cx="200520" cy="77760"/>
                              <a:chOff x="8049600" y="4484520"/>
                              <a:chExt cx="200520" cy="77760"/>
                            </a:xfrm>
                          </p:grpSpPr>
                          <p:grpSp>
                            <p:nvGrpSpPr>
                              <p:cNvPr id="338" name=""/>
                              <p:cNvGrpSpPr/>
                              <p:nvPr/>
                            </p:nvGrpSpPr>
                            <p:grpSpPr>
                              <a:xfrm>
                                <a:off x="8049600" y="4485960"/>
                                <a:ext cx="84960" cy="76320"/>
                                <a:chOff x="8049600" y="4485960"/>
                                <a:chExt cx="84960" cy="76320"/>
                              </a:xfrm>
                            </p:grpSpPr>
                            <p:grpSp>
                              <p:nvGrpSpPr>
                                <p:cNvPr id="339" name=""/>
                                <p:cNvGrpSpPr/>
                                <p:nvPr/>
                              </p:nvGrpSpPr>
                              <p:grpSpPr>
                                <a:xfrm>
                                  <a:off x="8049600" y="4485960"/>
                                  <a:ext cx="27720" cy="76320"/>
                                  <a:chOff x="8049600" y="4485960"/>
                                  <a:chExt cx="27720" cy="76320"/>
                                </a:xfrm>
                              </p:grpSpPr>
                              <p:grpSp>
                                <p:nvGrpSpPr>
                                  <p:cNvPr id="340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49600" y="4485960"/>
                                    <a:ext cx="1080" cy="74520"/>
                                    <a:chOff x="8049600" y="4485960"/>
                                    <a:chExt cx="1080" cy="74520"/>
                                  </a:xfrm>
                                </p:grpSpPr>
                                <p:sp>
                                  <p:nvSpPr>
                                    <p:cNvPr id="341" name="Line 13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49600" y="4485960"/>
                                      <a:ext cx="108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2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049600" y="4485960"/>
                                      <a:ext cx="108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4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6240" y="4487400"/>
                                    <a:ext cx="1080" cy="74880"/>
                                    <a:chOff x="8076240" y="4487400"/>
                                    <a:chExt cx="1080" cy="74880"/>
                                  </a:xfrm>
                                </p:grpSpPr>
                                <p:sp>
                                  <p:nvSpPr>
                                    <p:cNvPr id="344" name="Line 13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6240" y="4487400"/>
                                      <a:ext cx="108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45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076240" y="4487400"/>
                                      <a:ext cx="108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46" name=""/>
                                <p:cNvGrpSpPr/>
                                <p:nvPr/>
                              </p:nvGrpSpPr>
                              <p:grpSpPr>
                                <a:xfrm>
                                  <a:off x="8107920" y="4485960"/>
                                  <a:ext cx="1440" cy="74520"/>
                                  <a:chOff x="8107920" y="448596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347" name="Line 135"/>
                                  <p:cNvSpPr/>
                                  <p:nvPr/>
                                </p:nvSpPr>
                                <p:spPr>
                                  <a:xfrm>
                                    <a:off x="8107920" y="448596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48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107920" y="448596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49" name=""/>
                                <p:cNvGrpSpPr/>
                                <p:nvPr/>
                              </p:nvGrpSpPr>
                              <p:grpSpPr>
                                <a:xfrm>
                                  <a:off x="8133480" y="4485960"/>
                                  <a:ext cx="1080" cy="74520"/>
                                  <a:chOff x="8133480" y="448596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50" name="Line 136"/>
                                  <p:cNvSpPr/>
                                  <p:nvPr/>
                                </p:nvSpPr>
                                <p:spPr>
                                  <a:xfrm>
                                    <a:off x="8133480" y="448596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51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133480" y="448596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352" name=""/>
                              <p:cNvGrpSpPr/>
                              <p:nvPr/>
                            </p:nvGrpSpPr>
                            <p:grpSpPr>
                              <a:xfrm>
                                <a:off x="8165160" y="4484520"/>
                                <a:ext cx="84960" cy="76320"/>
                                <a:chOff x="8165160" y="4484520"/>
                                <a:chExt cx="84960" cy="76320"/>
                              </a:xfrm>
                            </p:grpSpPr>
                            <p:grpSp>
                              <p:nvGrpSpPr>
                                <p:cNvPr id="353" name=""/>
                                <p:cNvGrpSpPr/>
                                <p:nvPr/>
                              </p:nvGrpSpPr>
                              <p:grpSpPr>
                                <a:xfrm>
                                  <a:off x="8165160" y="4484520"/>
                                  <a:ext cx="26280" cy="76320"/>
                                  <a:chOff x="8165160" y="4484520"/>
                                  <a:chExt cx="26280" cy="76320"/>
                                </a:xfrm>
                              </p:grpSpPr>
                              <p:grpSp>
                                <p:nvGrpSpPr>
                                  <p:cNvPr id="35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65160" y="4484520"/>
                                    <a:ext cx="1080" cy="74520"/>
                                    <a:chOff x="8165160" y="4484520"/>
                                    <a:chExt cx="1080" cy="74520"/>
                                  </a:xfrm>
                                </p:grpSpPr>
                                <p:sp>
                                  <p:nvSpPr>
                                    <p:cNvPr id="355" name="Line 13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65160" y="4484520"/>
                                      <a:ext cx="108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6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165160" y="4484520"/>
                                      <a:ext cx="108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57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90360" y="4485960"/>
                                    <a:ext cx="1080" cy="74880"/>
                                    <a:chOff x="8190360" y="4485960"/>
                                    <a:chExt cx="1080" cy="74880"/>
                                  </a:xfrm>
                                </p:grpSpPr>
                                <p:sp>
                                  <p:nvSpPr>
                                    <p:cNvPr id="358" name="Line 14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90360" y="4485960"/>
                                      <a:ext cx="108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59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190360" y="4485960"/>
                                      <a:ext cx="108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60" name=""/>
                                <p:cNvGrpSpPr/>
                                <p:nvPr/>
                              </p:nvGrpSpPr>
                              <p:grpSpPr>
                                <a:xfrm>
                                  <a:off x="8222040" y="4484520"/>
                                  <a:ext cx="1080" cy="74520"/>
                                  <a:chOff x="8222040" y="448452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61" name="Line 141"/>
                                  <p:cNvSpPr/>
                                  <p:nvPr/>
                                </p:nvSpPr>
                                <p:spPr>
                                  <a:xfrm>
                                    <a:off x="8222040" y="448452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2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222040" y="448452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63" name=""/>
                                <p:cNvGrpSpPr/>
                                <p:nvPr/>
                              </p:nvGrpSpPr>
                              <p:grpSpPr>
                                <a:xfrm>
                                  <a:off x="8249040" y="4484520"/>
                                  <a:ext cx="1080" cy="74520"/>
                                  <a:chOff x="8249040" y="448452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64" name="Line 142"/>
                                  <p:cNvSpPr/>
                                  <p:nvPr/>
                                </p:nvSpPr>
                                <p:spPr>
                                  <a:xfrm>
                                    <a:off x="8249040" y="448452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65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249040" y="448452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366" name=""/>
                            <p:cNvGrpSpPr/>
                            <p:nvPr/>
                          </p:nvGrpSpPr>
                          <p:grpSpPr>
                            <a:xfrm>
                              <a:off x="8277840" y="4485960"/>
                              <a:ext cx="199080" cy="77760"/>
                              <a:chOff x="8277840" y="4485960"/>
                              <a:chExt cx="199080" cy="77760"/>
                            </a:xfrm>
                          </p:grpSpPr>
                          <p:grpSp>
                            <p:nvGrpSpPr>
                              <p:cNvPr id="367" name=""/>
                              <p:cNvGrpSpPr/>
                              <p:nvPr/>
                            </p:nvGrpSpPr>
                            <p:grpSpPr>
                              <a:xfrm>
                                <a:off x="8277840" y="4487400"/>
                                <a:ext cx="84960" cy="76320"/>
                                <a:chOff x="8277840" y="4487400"/>
                                <a:chExt cx="84960" cy="76320"/>
                              </a:xfrm>
                            </p:grpSpPr>
                            <p:grpSp>
                              <p:nvGrpSpPr>
                                <p:cNvPr id="368" name=""/>
                                <p:cNvGrpSpPr/>
                                <p:nvPr/>
                              </p:nvGrpSpPr>
                              <p:grpSpPr>
                                <a:xfrm>
                                  <a:off x="8277840" y="4487400"/>
                                  <a:ext cx="26280" cy="76320"/>
                                  <a:chOff x="8277840" y="4487400"/>
                                  <a:chExt cx="26280" cy="76320"/>
                                </a:xfrm>
                              </p:grpSpPr>
                              <p:grpSp>
                                <p:nvGrpSpPr>
                                  <p:cNvPr id="3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277840" y="4487400"/>
                                    <a:ext cx="1080" cy="74520"/>
                                    <a:chOff x="8277840" y="4487400"/>
                                    <a:chExt cx="1080" cy="74520"/>
                                  </a:xfrm>
                                </p:grpSpPr>
                                <p:sp>
                                  <p:nvSpPr>
                                    <p:cNvPr id="370" name="Line 14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277840" y="4487400"/>
                                      <a:ext cx="108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1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277840" y="4487400"/>
                                      <a:ext cx="108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03040" y="4488840"/>
                                    <a:ext cx="1080" cy="74880"/>
                                    <a:chOff x="8303040" y="4488840"/>
                                    <a:chExt cx="1080" cy="74880"/>
                                  </a:xfrm>
                                </p:grpSpPr>
                                <p:sp>
                                  <p:nvSpPr>
                                    <p:cNvPr id="373" name="Line 14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03040" y="4488840"/>
                                      <a:ext cx="108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74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303040" y="4488840"/>
                                      <a:ext cx="108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75" name=""/>
                                <p:cNvGrpSpPr/>
                                <p:nvPr/>
                              </p:nvGrpSpPr>
                              <p:grpSpPr>
                                <a:xfrm>
                                  <a:off x="8334720" y="4487400"/>
                                  <a:ext cx="1080" cy="74520"/>
                                  <a:chOff x="8334720" y="448740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76" name="Line 148"/>
                                  <p:cNvSpPr/>
                                  <p:nvPr/>
                                </p:nvSpPr>
                                <p:spPr>
                                  <a:xfrm>
                                    <a:off x="8334720" y="448740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77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334720" y="448740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78" name=""/>
                                <p:cNvGrpSpPr/>
                                <p:nvPr/>
                              </p:nvGrpSpPr>
                              <p:grpSpPr>
                                <a:xfrm>
                                  <a:off x="8361720" y="4487400"/>
                                  <a:ext cx="1080" cy="74520"/>
                                  <a:chOff x="8361720" y="448740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79" name="Line 149"/>
                                  <p:cNvSpPr/>
                                  <p:nvPr/>
                                </p:nvSpPr>
                                <p:spPr>
                                  <a:xfrm>
                                    <a:off x="8361720" y="448740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80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361720" y="448740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381" name=""/>
                              <p:cNvGrpSpPr/>
                              <p:nvPr/>
                            </p:nvGrpSpPr>
                            <p:grpSpPr>
                              <a:xfrm>
                                <a:off x="8391960" y="4485960"/>
                                <a:ext cx="84960" cy="76320"/>
                                <a:chOff x="8391960" y="4485960"/>
                                <a:chExt cx="84960" cy="76320"/>
                              </a:xfrm>
                            </p:grpSpPr>
                            <p:grpSp>
                              <p:nvGrpSpPr>
                                <p:cNvPr id="382" name=""/>
                                <p:cNvGrpSpPr/>
                                <p:nvPr/>
                              </p:nvGrpSpPr>
                              <p:grpSpPr>
                                <a:xfrm>
                                  <a:off x="8391960" y="4485960"/>
                                  <a:ext cx="27720" cy="76320"/>
                                  <a:chOff x="8391960" y="4485960"/>
                                  <a:chExt cx="27720" cy="76320"/>
                                </a:xfrm>
                              </p:grpSpPr>
                              <p:grpSp>
                                <p:nvGrpSpPr>
                                  <p:cNvPr id="3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91960" y="4485960"/>
                                    <a:ext cx="1080" cy="74520"/>
                                    <a:chOff x="8391960" y="4485960"/>
                                    <a:chExt cx="1080" cy="74520"/>
                                  </a:xfrm>
                                </p:grpSpPr>
                                <p:sp>
                                  <p:nvSpPr>
                                    <p:cNvPr id="384" name="Line 15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91960" y="4485960"/>
                                      <a:ext cx="108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5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391960" y="4485960"/>
                                      <a:ext cx="108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418600" y="4487400"/>
                                    <a:ext cx="1080" cy="74880"/>
                                    <a:chOff x="8418600" y="4487400"/>
                                    <a:chExt cx="1080" cy="74880"/>
                                  </a:xfrm>
                                </p:grpSpPr>
                                <p:sp>
                                  <p:nvSpPr>
                                    <p:cNvPr id="387" name="Line 15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418600" y="4487400"/>
                                      <a:ext cx="108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88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418600" y="4487400"/>
                                      <a:ext cx="108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 marL="914400" indent="-914400">
                                        <a:lnSpc>
                                          <a:spcPct val="100000"/>
                                        </a:lnSpc>
                                        <a:tabLst>
                                          <a:tab algn="l" pos="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1" lang="en-US" sz="2800" spc="-1" strike="noStrike">
                                        <a:solidFill>
                                          <a:srgbClr val="292929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389" name=""/>
                                <p:cNvGrpSpPr/>
                                <p:nvPr/>
                              </p:nvGrpSpPr>
                              <p:grpSpPr>
                                <a:xfrm>
                                  <a:off x="8450280" y="4485960"/>
                                  <a:ext cx="1440" cy="74520"/>
                                  <a:chOff x="8450280" y="448596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390" name="Line 154"/>
                                  <p:cNvSpPr/>
                                  <p:nvPr/>
                                </p:nvSpPr>
                                <p:spPr>
                                  <a:xfrm>
                                    <a:off x="8450280" y="448596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1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450280" y="448596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392" name=""/>
                                <p:cNvGrpSpPr/>
                                <p:nvPr/>
                              </p:nvGrpSpPr>
                              <p:grpSpPr>
                                <a:xfrm>
                                  <a:off x="8475840" y="4485960"/>
                                  <a:ext cx="1080" cy="74520"/>
                                  <a:chOff x="8475840" y="448596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93" name="Line 155"/>
                                  <p:cNvSpPr/>
                                  <p:nvPr/>
                                </p:nvSpPr>
                                <p:spPr>
                                  <a:xfrm>
                                    <a:off x="8475840" y="448596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4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475840" y="448596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395" name=""/>
                            <p:cNvGrpSpPr/>
                            <p:nvPr/>
                          </p:nvGrpSpPr>
                          <p:grpSpPr>
                            <a:xfrm>
                              <a:off x="8503200" y="4485960"/>
                              <a:ext cx="84960" cy="76320"/>
                              <a:chOff x="8503200" y="4485960"/>
                              <a:chExt cx="84960" cy="76320"/>
                            </a:xfrm>
                          </p:grpSpPr>
                          <p:grpSp>
                            <p:nvGrpSpPr>
                              <p:cNvPr id="396" name=""/>
                              <p:cNvGrpSpPr/>
                              <p:nvPr/>
                            </p:nvGrpSpPr>
                            <p:grpSpPr>
                              <a:xfrm>
                                <a:off x="8503200" y="4485960"/>
                                <a:ext cx="27720" cy="76320"/>
                                <a:chOff x="8503200" y="4485960"/>
                                <a:chExt cx="27720" cy="76320"/>
                              </a:xfrm>
                            </p:grpSpPr>
                            <p:grpSp>
                              <p:nvGrpSpPr>
                                <p:cNvPr id="397" name=""/>
                                <p:cNvGrpSpPr/>
                                <p:nvPr/>
                              </p:nvGrpSpPr>
                              <p:grpSpPr>
                                <a:xfrm>
                                  <a:off x="8503200" y="4485960"/>
                                  <a:ext cx="1080" cy="74520"/>
                                  <a:chOff x="8503200" y="4485960"/>
                                  <a:chExt cx="1080" cy="74520"/>
                                </a:xfrm>
                              </p:grpSpPr>
                              <p:sp>
                                <p:nvSpPr>
                                  <p:cNvPr id="398" name="Line 158"/>
                                  <p:cNvSpPr/>
                                  <p:nvPr/>
                                </p:nvSpPr>
                                <p:spPr>
                                  <a:xfrm>
                                    <a:off x="8503200" y="4485960"/>
                                    <a:ext cx="108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399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503200" y="4485960"/>
                                    <a:ext cx="108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00" name=""/>
                                <p:cNvGrpSpPr/>
                                <p:nvPr/>
                              </p:nvGrpSpPr>
                              <p:grpSpPr>
                                <a:xfrm>
                                  <a:off x="8529840" y="4487400"/>
                                  <a:ext cx="1080" cy="74880"/>
                                  <a:chOff x="8529840" y="4487400"/>
                                  <a:chExt cx="1080" cy="74880"/>
                                </a:xfrm>
                              </p:grpSpPr>
                              <p:sp>
                                <p:nvSpPr>
                                  <p:cNvPr id="401" name="Line 159"/>
                                  <p:cNvSpPr/>
                                  <p:nvPr/>
                                </p:nvSpPr>
                                <p:spPr>
                                  <a:xfrm>
                                    <a:off x="8529840" y="4487400"/>
                                    <a:ext cx="1080" cy="7488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8080" bIns="28080" anchor="t">
                                    <a:noAutofit/>
                                  </a:bodyPr>
                                  <a:p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02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529840" y="4487400"/>
                                    <a:ext cx="1080" cy="74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8080" bIns="28080" anchor="t">
                                    <a:noAutofit/>
                                  </a:bodyPr>
                                  <a:p>
                                    <a:pPr marL="914400" indent="-914400">
                                      <a:lnSpc>
                                        <a:spcPct val="100000"/>
                                      </a:lnSpc>
                                      <a:tabLst>
                                        <a:tab algn="l" pos="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1" lang="en-US" sz="2800" spc="-1" strike="noStrike">
                                      <a:solidFill>
                                        <a:srgbClr val="292929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403" name=""/>
                              <p:cNvGrpSpPr/>
                              <p:nvPr/>
                            </p:nvGrpSpPr>
                            <p:grpSpPr>
                              <a:xfrm>
                                <a:off x="8561520" y="4485960"/>
                                <a:ext cx="1440" cy="74520"/>
                                <a:chOff x="8561520" y="4485960"/>
                                <a:chExt cx="1440" cy="74520"/>
                              </a:xfrm>
                            </p:grpSpPr>
                            <p:sp>
                              <p:nvSpPr>
                                <p:cNvPr id="404" name="Line 160"/>
                                <p:cNvSpPr/>
                                <p:nvPr/>
                              </p:nvSpPr>
                              <p:spPr>
                                <a:xfrm>
                                  <a:off x="8561520" y="448596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5" name=""/>
                                <p:cNvSpPr txBox="1"/>
                                <p:nvPr/>
                              </p:nvSpPr>
                              <p:spPr>
                                <a:xfrm>
                                  <a:off x="8561520" y="4485960"/>
                                  <a:ext cx="1440" cy="745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06" name=""/>
                              <p:cNvGrpSpPr/>
                              <p:nvPr/>
                            </p:nvGrpSpPr>
                            <p:grpSpPr>
                              <a:xfrm>
                                <a:off x="8587080" y="4485960"/>
                                <a:ext cx="1080" cy="74520"/>
                                <a:chOff x="8587080" y="4485960"/>
                                <a:chExt cx="1080" cy="74520"/>
                              </a:xfrm>
                            </p:grpSpPr>
                            <p:sp>
                              <p:nvSpPr>
                                <p:cNvPr id="407" name="Line 161"/>
                                <p:cNvSpPr/>
                                <p:nvPr/>
                              </p:nvSpPr>
                              <p:spPr>
                                <a:xfrm>
                                  <a:off x="8587080" y="4485960"/>
                                  <a:ext cx="108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08" name=""/>
                                <p:cNvSpPr txBox="1"/>
                                <p:nvPr/>
                              </p:nvSpPr>
                              <p:spPr>
                                <a:xfrm>
                                  <a:off x="8587080" y="4485960"/>
                                  <a:ext cx="1080" cy="745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sp>
                    <p:nvSpPr>
                      <p:cNvPr id="409" name="未知"/>
                      <p:cNvSpPr/>
                      <p:nvPr/>
                    </p:nvSpPr>
                    <p:spPr>
                      <a:xfrm>
                        <a:off x="8041680" y="4227480"/>
                        <a:ext cx="487080" cy="19080"/>
                      </a:xfrm>
                      <a:prstGeom prst="pie">
                        <a:avLst/>
                      </a:prstGeom>
                      <a:solidFill>
                        <a:srgbClr val="3f3f3f"/>
                      </a:solidFill>
                      <a:ln w="11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pPr marL="914400" indent="-914400">
                          <a:lnSpc>
                            <a:spcPct val="100000"/>
                          </a:lnSpc>
                          <a:tabLst>
                            <a:tab algn="l" pos="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292929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7999560" y="3825720"/>
                      <a:ext cx="559800" cy="412920"/>
                      <a:chOff x="7999560" y="3825720"/>
                      <a:chExt cx="559800" cy="412920"/>
                    </a:xfrm>
                  </p:grpSpPr>
                  <p:grpSp>
                    <p:nvGrpSpPr>
                      <p:cNvPr id="411" name=""/>
                      <p:cNvGrpSpPr/>
                      <p:nvPr/>
                    </p:nvGrpSpPr>
                    <p:grpSpPr>
                      <a:xfrm>
                        <a:off x="8178480" y="3865320"/>
                        <a:ext cx="380880" cy="358920"/>
                        <a:chOff x="8178480" y="3865320"/>
                        <a:chExt cx="380880" cy="358920"/>
                      </a:xfrm>
                    </p:grpSpPr>
                    <p:sp>
                      <p:nvSpPr>
                        <p:cNvPr id="412" name="未知"/>
                        <p:cNvSpPr/>
                        <p:nvPr/>
                      </p:nvSpPr>
                      <p:spPr>
                        <a:xfrm>
                          <a:off x="8178480" y="3865320"/>
                          <a:ext cx="380880" cy="358920"/>
                        </a:xfrm>
                        <a:prstGeom prst="pie">
                          <a:avLst/>
                        </a:pr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13" name=""/>
                        <p:cNvGrpSpPr/>
                        <p:nvPr/>
                      </p:nvGrpSpPr>
                      <p:grpSpPr>
                        <a:xfrm>
                          <a:off x="8199000" y="3895560"/>
                          <a:ext cx="349200" cy="261000"/>
                          <a:chOff x="8199000" y="3895560"/>
                          <a:chExt cx="349200" cy="261000"/>
                        </a:xfrm>
                      </p:grpSpPr>
                      <p:grpSp>
                        <p:nvGrpSpPr>
                          <p:cNvPr id="414" name=""/>
                          <p:cNvGrpSpPr/>
                          <p:nvPr/>
                        </p:nvGrpSpPr>
                        <p:grpSpPr>
                          <a:xfrm>
                            <a:off x="8199000" y="3895560"/>
                            <a:ext cx="349200" cy="68760"/>
                            <a:chOff x="8199000" y="3895560"/>
                            <a:chExt cx="349200" cy="68760"/>
                          </a:xfrm>
                        </p:grpSpPr>
                        <p:grpSp>
                          <p:nvGrpSpPr>
                            <p:cNvPr id="415" name=""/>
                            <p:cNvGrpSpPr/>
                            <p:nvPr/>
                          </p:nvGrpSpPr>
                          <p:grpSpPr>
                            <a:xfrm>
                              <a:off x="8199000" y="3895560"/>
                              <a:ext cx="349200" cy="23040"/>
                              <a:chOff x="8199000" y="3895560"/>
                              <a:chExt cx="349200" cy="23040"/>
                            </a:xfrm>
                          </p:grpSpPr>
                          <p:grpSp>
                            <p:nvGrpSpPr>
                              <p:cNvPr id="416" name=""/>
                              <p:cNvGrpSpPr/>
                              <p:nvPr/>
                            </p:nvGrpSpPr>
                            <p:grpSpPr>
                              <a:xfrm>
                                <a:off x="8199000" y="3895560"/>
                                <a:ext cx="347760" cy="1080"/>
                                <a:chOff x="8199000" y="3895560"/>
                                <a:chExt cx="347760" cy="1080"/>
                              </a:xfrm>
                            </p:grpSpPr>
                            <p:sp>
                              <p:nvSpPr>
                                <p:cNvPr id="417" name="Line 169"/>
                                <p:cNvSpPr/>
                                <p:nvPr/>
                              </p:nvSpPr>
                              <p:spPr>
                                <a:xfrm>
                                  <a:off x="8199000" y="3895560"/>
                                  <a:ext cx="34776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18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3895560"/>
                                  <a:ext cx="34776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19" name=""/>
                              <p:cNvGrpSpPr/>
                              <p:nvPr/>
                            </p:nvGrpSpPr>
                            <p:grpSpPr>
                              <a:xfrm>
                                <a:off x="8199000" y="3915720"/>
                                <a:ext cx="349200" cy="2880"/>
                                <a:chOff x="8199000" y="3915720"/>
                                <a:chExt cx="349200" cy="2880"/>
                              </a:xfrm>
                            </p:grpSpPr>
                            <p:sp>
                              <p:nvSpPr>
                                <p:cNvPr id="420" name="Line 170"/>
                                <p:cNvSpPr/>
                                <p:nvPr/>
                              </p:nvSpPr>
                              <p:spPr>
                                <a:xfrm flipV="1">
                                  <a:off x="8199000" y="3915720"/>
                                  <a:ext cx="349200" cy="28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3915720"/>
                                  <a:ext cx="349200" cy="2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22" name=""/>
                            <p:cNvGrpSpPr/>
                            <p:nvPr/>
                          </p:nvGrpSpPr>
                          <p:grpSpPr>
                            <a:xfrm>
                              <a:off x="8199000" y="3942720"/>
                              <a:ext cx="349200" cy="21600"/>
                              <a:chOff x="8199000" y="3942720"/>
                              <a:chExt cx="349200" cy="21600"/>
                            </a:xfrm>
                          </p:grpSpPr>
                          <p:grpSp>
                            <p:nvGrpSpPr>
                              <p:cNvPr id="423" name=""/>
                              <p:cNvGrpSpPr/>
                              <p:nvPr/>
                            </p:nvGrpSpPr>
                            <p:grpSpPr>
                              <a:xfrm>
                                <a:off x="8199000" y="3942720"/>
                                <a:ext cx="347760" cy="1080"/>
                                <a:chOff x="8199000" y="3942720"/>
                                <a:chExt cx="347760" cy="1080"/>
                              </a:xfrm>
                            </p:grpSpPr>
                            <p:sp>
                              <p:nvSpPr>
                                <p:cNvPr id="424" name="Line 172"/>
                                <p:cNvSpPr/>
                                <p:nvPr/>
                              </p:nvSpPr>
                              <p:spPr>
                                <a:xfrm>
                                  <a:off x="8199000" y="3942720"/>
                                  <a:ext cx="34776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5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3942720"/>
                                  <a:ext cx="34776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26" name=""/>
                              <p:cNvGrpSpPr/>
                              <p:nvPr/>
                            </p:nvGrpSpPr>
                            <p:grpSpPr>
                              <a:xfrm>
                                <a:off x="8199000" y="3962880"/>
                                <a:ext cx="349200" cy="1440"/>
                                <a:chOff x="8199000" y="3962880"/>
                                <a:chExt cx="349200" cy="1440"/>
                              </a:xfrm>
                            </p:grpSpPr>
                            <p:sp>
                              <p:nvSpPr>
                                <p:cNvPr id="427" name="Line 173"/>
                                <p:cNvSpPr/>
                                <p:nvPr/>
                              </p:nvSpPr>
                              <p:spPr>
                                <a:xfrm flipV="1">
                                  <a:off x="8199000" y="396288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8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396288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29" name=""/>
                          <p:cNvGrpSpPr/>
                          <p:nvPr/>
                        </p:nvGrpSpPr>
                        <p:grpSpPr>
                          <a:xfrm>
                            <a:off x="8199000" y="3990600"/>
                            <a:ext cx="349200" cy="71640"/>
                            <a:chOff x="8199000" y="3990600"/>
                            <a:chExt cx="349200" cy="71640"/>
                          </a:xfrm>
                        </p:grpSpPr>
                        <p:grpSp>
                          <p:nvGrpSpPr>
                            <p:cNvPr id="430" name=""/>
                            <p:cNvGrpSpPr/>
                            <p:nvPr/>
                          </p:nvGrpSpPr>
                          <p:grpSpPr>
                            <a:xfrm>
                              <a:off x="8199000" y="3990600"/>
                              <a:ext cx="349200" cy="22680"/>
                              <a:chOff x="8199000" y="3990600"/>
                              <a:chExt cx="349200" cy="22680"/>
                            </a:xfrm>
                          </p:grpSpPr>
                          <p:grpSp>
                            <p:nvGrpSpPr>
                              <p:cNvPr id="431" name=""/>
                              <p:cNvGrpSpPr/>
                              <p:nvPr/>
                            </p:nvGrpSpPr>
                            <p:grpSpPr>
                              <a:xfrm>
                                <a:off x="8199000" y="3990600"/>
                                <a:ext cx="349200" cy="1080"/>
                                <a:chOff x="8199000" y="3990600"/>
                                <a:chExt cx="349200" cy="1080"/>
                              </a:xfrm>
                            </p:grpSpPr>
                            <p:sp>
                              <p:nvSpPr>
                                <p:cNvPr id="432" name="Line 176"/>
                                <p:cNvSpPr/>
                                <p:nvPr/>
                              </p:nvSpPr>
                              <p:spPr>
                                <a:xfrm>
                                  <a:off x="8199000" y="3990600"/>
                                  <a:ext cx="34920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3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3990600"/>
                                  <a:ext cx="34920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34" name=""/>
                              <p:cNvGrpSpPr/>
                              <p:nvPr/>
                            </p:nvGrpSpPr>
                            <p:grpSpPr>
                              <a:xfrm>
                                <a:off x="8199000" y="4012200"/>
                                <a:ext cx="349200" cy="1080"/>
                                <a:chOff x="8199000" y="4012200"/>
                                <a:chExt cx="349200" cy="1080"/>
                              </a:xfrm>
                            </p:grpSpPr>
                            <p:sp>
                              <p:nvSpPr>
                                <p:cNvPr id="435" name="Line 177"/>
                                <p:cNvSpPr/>
                                <p:nvPr/>
                              </p:nvSpPr>
                              <p:spPr>
                                <a:xfrm flipV="1">
                                  <a:off x="8199000" y="4012200"/>
                                  <a:ext cx="34920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36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4012200"/>
                                  <a:ext cx="34920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37" name=""/>
                            <p:cNvGrpSpPr/>
                            <p:nvPr/>
                          </p:nvGrpSpPr>
                          <p:grpSpPr>
                            <a:xfrm>
                              <a:off x="8199000" y="4037400"/>
                              <a:ext cx="349200" cy="24840"/>
                              <a:chOff x="8199000" y="4037400"/>
                              <a:chExt cx="349200" cy="24840"/>
                            </a:xfrm>
                          </p:grpSpPr>
                          <p:grpSp>
                            <p:nvGrpSpPr>
                              <p:cNvPr id="438" name=""/>
                              <p:cNvGrpSpPr/>
                              <p:nvPr/>
                            </p:nvGrpSpPr>
                            <p:grpSpPr>
                              <a:xfrm>
                                <a:off x="8199000" y="4037400"/>
                                <a:ext cx="349200" cy="1080"/>
                                <a:chOff x="8199000" y="4037400"/>
                                <a:chExt cx="349200" cy="1080"/>
                              </a:xfrm>
                            </p:grpSpPr>
                            <p:sp>
                              <p:nvSpPr>
                                <p:cNvPr id="439" name="Line 179"/>
                                <p:cNvSpPr/>
                                <p:nvPr/>
                              </p:nvSpPr>
                              <p:spPr>
                                <a:xfrm>
                                  <a:off x="8199000" y="4037400"/>
                                  <a:ext cx="34920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4037400"/>
                                  <a:ext cx="34920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1" name=""/>
                              <p:cNvGrpSpPr/>
                              <p:nvPr/>
                            </p:nvGrpSpPr>
                            <p:grpSpPr>
                              <a:xfrm>
                                <a:off x="8199000" y="4059360"/>
                                <a:ext cx="349200" cy="2880"/>
                                <a:chOff x="8199000" y="4059360"/>
                                <a:chExt cx="349200" cy="2880"/>
                              </a:xfrm>
                            </p:grpSpPr>
                            <p:sp>
                              <p:nvSpPr>
                                <p:cNvPr id="442" name="Line 180"/>
                                <p:cNvSpPr/>
                                <p:nvPr/>
                              </p:nvSpPr>
                              <p:spPr>
                                <a:xfrm flipV="1">
                                  <a:off x="8199000" y="4059360"/>
                                  <a:ext cx="349200" cy="28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3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4059360"/>
                                  <a:ext cx="349200" cy="2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44" name=""/>
                          <p:cNvGrpSpPr/>
                          <p:nvPr/>
                        </p:nvGrpSpPr>
                        <p:grpSpPr>
                          <a:xfrm>
                            <a:off x="8199000" y="4085640"/>
                            <a:ext cx="349200" cy="70920"/>
                            <a:chOff x="8199000" y="4085640"/>
                            <a:chExt cx="349200" cy="70920"/>
                          </a:xfrm>
                        </p:grpSpPr>
                        <p:grpSp>
                          <p:nvGrpSpPr>
                            <p:cNvPr id="445" name=""/>
                            <p:cNvGrpSpPr/>
                            <p:nvPr/>
                          </p:nvGrpSpPr>
                          <p:grpSpPr>
                            <a:xfrm>
                              <a:off x="8199000" y="4085640"/>
                              <a:ext cx="349200" cy="23400"/>
                              <a:chOff x="8199000" y="4085640"/>
                              <a:chExt cx="349200" cy="23400"/>
                            </a:xfrm>
                          </p:grpSpPr>
                          <p:grpSp>
                            <p:nvGrpSpPr>
                              <p:cNvPr id="446" name=""/>
                              <p:cNvGrpSpPr/>
                              <p:nvPr/>
                            </p:nvGrpSpPr>
                            <p:grpSpPr>
                              <a:xfrm>
                                <a:off x="8199000" y="4085640"/>
                                <a:ext cx="347760" cy="1440"/>
                                <a:chOff x="8199000" y="4085640"/>
                                <a:chExt cx="347760" cy="1440"/>
                              </a:xfrm>
                            </p:grpSpPr>
                            <p:sp>
                              <p:nvSpPr>
                                <p:cNvPr id="447" name="Line 183"/>
                                <p:cNvSpPr/>
                                <p:nvPr/>
                              </p:nvSpPr>
                              <p:spPr>
                                <a:xfrm>
                                  <a:off x="8199000" y="4085640"/>
                                  <a:ext cx="34776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8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4085640"/>
                                  <a:ext cx="34776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9" name=""/>
                              <p:cNvGrpSpPr/>
                              <p:nvPr/>
                            </p:nvGrpSpPr>
                            <p:grpSpPr>
                              <a:xfrm>
                                <a:off x="8199000" y="4105800"/>
                                <a:ext cx="349200" cy="3240"/>
                                <a:chOff x="8199000" y="4105800"/>
                                <a:chExt cx="349200" cy="3240"/>
                              </a:xfrm>
                            </p:grpSpPr>
                            <p:sp>
                              <p:nvSpPr>
                                <p:cNvPr id="450" name="Line 184"/>
                                <p:cNvSpPr/>
                                <p:nvPr/>
                              </p:nvSpPr>
                              <p:spPr>
                                <a:xfrm flipV="1">
                                  <a:off x="8199000" y="4105800"/>
                                  <a:ext cx="349200" cy="32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1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4105800"/>
                                  <a:ext cx="349200" cy="3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52" name=""/>
                            <p:cNvGrpSpPr/>
                            <p:nvPr/>
                          </p:nvGrpSpPr>
                          <p:grpSpPr>
                            <a:xfrm>
                              <a:off x="8199000" y="4134960"/>
                              <a:ext cx="349200" cy="21600"/>
                              <a:chOff x="8199000" y="4134960"/>
                              <a:chExt cx="349200" cy="21600"/>
                            </a:xfrm>
                          </p:grpSpPr>
                          <p:grpSp>
                            <p:nvGrpSpPr>
                              <p:cNvPr id="453" name=""/>
                              <p:cNvGrpSpPr/>
                              <p:nvPr/>
                            </p:nvGrpSpPr>
                            <p:grpSpPr>
                              <a:xfrm>
                                <a:off x="8199000" y="4134960"/>
                                <a:ext cx="347760" cy="1080"/>
                                <a:chOff x="8199000" y="4134960"/>
                                <a:chExt cx="347760" cy="1080"/>
                              </a:xfrm>
                            </p:grpSpPr>
                            <p:sp>
                              <p:nvSpPr>
                                <p:cNvPr id="454" name="Line 186"/>
                                <p:cNvSpPr/>
                                <p:nvPr/>
                              </p:nvSpPr>
                              <p:spPr>
                                <a:xfrm>
                                  <a:off x="8199000" y="4134960"/>
                                  <a:ext cx="347760" cy="10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5" name=""/>
                                <p:cNvSpPr txBox="1"/>
                                <p:nvPr/>
                              </p:nvSpPr>
                              <p:spPr>
                                <a:xfrm>
                                  <a:off x="8199000" y="4134960"/>
                                  <a:ext cx="347760" cy="10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720" bIns="-4572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6" name=""/>
                              <p:cNvGrpSpPr/>
                              <p:nvPr/>
                            </p:nvGrpSpPr>
                            <p:grpSpPr>
                              <a:xfrm>
                                <a:off x="8199000" y="4155120"/>
                                <a:ext cx="349200" cy="1440"/>
                                <a:chOff x="8199000" y="4155120"/>
                                <a:chExt cx="349200" cy="1440"/>
                              </a:xfrm>
                            </p:grpSpPr>
                            <p:sp>
                              <p:nvSpPr>
                                <p:cNvPr id="457" name="Line 187"/>
                                <p:cNvSpPr/>
                                <p:nvPr/>
                              </p:nvSpPr>
                              <p:spPr>
                                <a:xfrm flipV="1">
                                  <a:off x="8199000" y="415512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000" y="415512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 marL="914400" indent="-914400">
                                    <a:lnSpc>
                                      <a:spcPct val="100000"/>
                                    </a:lnSpc>
                                    <a:tabLst>
                                      <a:tab algn="l" pos="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1" lang="en-US" sz="2800" spc="-1" strike="noStrike">
                                    <a:solidFill>
                                      <a:srgbClr val="292929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459" name=""/>
                      <p:cNvGrpSpPr/>
                      <p:nvPr/>
                    </p:nvGrpSpPr>
                    <p:grpSpPr>
                      <a:xfrm>
                        <a:off x="7999560" y="3825720"/>
                        <a:ext cx="177480" cy="412920"/>
                        <a:chOff x="7999560" y="3825720"/>
                        <a:chExt cx="177480" cy="412920"/>
                      </a:xfrm>
                    </p:grpSpPr>
                    <p:sp>
                      <p:nvSpPr>
                        <p:cNvPr id="460" name="未知"/>
                        <p:cNvSpPr/>
                        <p:nvPr/>
                      </p:nvSpPr>
                      <p:spPr>
                        <a:xfrm>
                          <a:off x="7999560" y="3825720"/>
                          <a:ext cx="177480" cy="396720"/>
                        </a:xfrm>
                        <a:prstGeom prst="pie">
                          <a:avLst/>
                        </a:pr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marL="914400" indent="-914400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292929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61" name=""/>
                        <p:cNvGrpSpPr/>
                        <p:nvPr/>
                      </p:nvGrpSpPr>
                      <p:grpSpPr>
                        <a:xfrm>
                          <a:off x="8150040" y="3828960"/>
                          <a:ext cx="1080" cy="409680"/>
                          <a:chOff x="8150040" y="3828960"/>
                          <a:chExt cx="1080" cy="409680"/>
                        </a:xfrm>
                      </p:grpSpPr>
                      <p:sp>
                        <p:nvSpPr>
                          <p:cNvPr id="462" name="Line 190"/>
                          <p:cNvSpPr/>
                          <p:nvPr/>
                        </p:nvSpPr>
                        <p:spPr>
                          <a:xfrm>
                            <a:off x="8150040" y="3828960"/>
                            <a:ext cx="1080" cy="40968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3" name=""/>
                          <p:cNvSpPr txBox="1"/>
                          <p:nvPr/>
                        </p:nvSpPr>
                        <p:spPr>
                          <a:xfrm>
                            <a:off x="8150040" y="3828960"/>
                            <a:ext cx="1080" cy="4096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marL="914400" indent="-914400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292929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  <p:sp>
        <p:nvSpPr>
          <p:cNvPr id="464" name="Rectangle 191"/>
          <p:cNvSpPr/>
          <p:nvPr/>
        </p:nvSpPr>
        <p:spPr>
          <a:xfrm>
            <a:off x="93204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处理异议技巧</a:t>
            </a:r>
            <a:endParaRPr b="1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话术储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28360" y="1485720"/>
            <a:ext cx="7661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问题一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问：我很忙，没有时间。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答：嗯，您每天都要处理那么多事情，我很理解！ 其实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XX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总我们很多的客户都比较忙，但是听了我们的解决方案后，都非常感兴趣，而且都获得了非常好的效果，绝大部分客户通过我们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企业等管理为一体的管理系统，能为您企业提高车辆使用效率，管理实现智能化，降低企业成本。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，这样吧张总，你抽出一点时间我过去给你简单的介绍一下，不会耽误太长时间的，您看明天上午我过来吧？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58560" y="269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战模拟演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00000" y="156348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</a:rPr>
              <a:t>目的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学以致用    知行统一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lnSpc>
                <a:spcPct val="100000"/>
              </a:lnSpc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</a:rPr>
              <a:t>方式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演练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+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点评</a:t>
            </a:r>
            <a:r>
              <a:rPr b="1" lang="en-US" sz="2800" spc="-1" strike="noStrike">
                <a:solidFill>
                  <a:srgbClr val="292929"/>
                </a:solidFill>
                <a:latin typeface="楷体_GB2312"/>
              </a:rPr>
              <a:t>+</a:t>
            </a: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讨论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0">
              <a:lnSpc>
                <a:spcPct val="100000"/>
              </a:lnSpc>
              <a:spcBef>
                <a:spcPts val="700"/>
              </a:spcBef>
              <a:buNone/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</a:rPr>
              <a:t>要求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楷体_GB2312"/>
              </a:rPr>
              <a:t>把握时间    控制场面    运用技巧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1908000" y="198756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028960" y="2101680"/>
            <a:ext cx="1069920" cy="100512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未知"/>
          <p:cNvSpPr/>
          <p:nvPr/>
        </p:nvSpPr>
        <p:spPr>
          <a:xfrm>
            <a:off x="2093760" y="2165400"/>
            <a:ext cx="5353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389240" y="217800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230640" y="2276640"/>
            <a:ext cx="40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打电话前的准备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1908000" y="334656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2028960" y="3459240"/>
            <a:ext cx="1069920" cy="1004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未知"/>
          <p:cNvSpPr/>
          <p:nvPr/>
        </p:nvSpPr>
        <p:spPr>
          <a:xfrm>
            <a:off x="2093760" y="3524400"/>
            <a:ext cx="535320" cy="501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1389240" y="357336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3230640" y="3645000"/>
            <a:ext cx="40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电话销售技巧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1908000" y="4721400"/>
            <a:ext cx="5832720" cy="12286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2028960" y="4834080"/>
            <a:ext cx="1069920" cy="1004760"/>
          </a:xfrm>
          <a:prstGeom prst="roundRect">
            <a:avLst>
              <a:gd name="adj" fmla="val 1191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未知"/>
          <p:cNvSpPr/>
          <p:nvPr/>
        </p:nvSpPr>
        <p:spPr>
          <a:xfrm>
            <a:off x="2093760" y="4898880"/>
            <a:ext cx="535320" cy="50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389240" y="4941720"/>
            <a:ext cx="232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1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230640" y="5019840"/>
            <a:ext cx="44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Arial"/>
                <a:ea typeface="楷体_GB2312"/>
              </a:rPr>
              <a:t>常见问题解决及演练</a:t>
            </a:r>
            <a:endParaRPr b="1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1187280" y="2349360"/>
            <a:ext cx="648000" cy="576360"/>
          </a:xfrm>
          <a:prstGeom prst="star5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企业名称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云南新蓝景化学工业有限公司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联  系  人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 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柳先生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通话目的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  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让该企业了解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产品的功能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实时监控：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信息回传频率：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秒一次，还可以根据您的需求设置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秒一次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软件可以实现一张车的单项监控，和多张车的多项监控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历史轨迹回放：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车辆所走的路线是以线的形式在地图上显示出来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车辆行驶数据，以报表的形式显示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报警功能：超速报警、趟次统计报警、线路偏移报警、区域进出报警、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欠压报警、断电报警、疲劳驾驶报警等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报表统计功能：行驶数据报表、各种报警报表、里程统计报表、油耗报表、超时统计报表共计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8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种报表。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数据档案管理：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司机档案管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车辆档案管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电子地图应用（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GI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系统管理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调度管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-1699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远程控制声讯调度管理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169920" indent="0">
              <a:lnSpc>
                <a:spcPct val="80000"/>
              </a:lnSpc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64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600" spc="-1" strike="noStrike">
              <a:solidFill>
                <a:srgbClr val="292929"/>
              </a:solidFill>
              <a:latin typeface="楷体_GB2312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94920" y="170172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企业名称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 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昆石油集团有限公司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联  系  人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李部长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通话目的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】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让该企业对</a:t>
            </a: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有更准确的理解和认识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932040" y="476280"/>
            <a:ext cx="8464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292929"/>
              </a:solidFill>
              <a:latin typeface="楷体_GB2312"/>
            </a:endParaRPr>
          </a:p>
        </p:txBody>
      </p:sp>
      <p:sp>
        <p:nvSpPr>
          <p:cNvPr id="473" name=""/>
          <p:cNvSpPr/>
          <p:nvPr/>
        </p:nvSpPr>
        <p:spPr>
          <a:xfrm>
            <a:off x="5690520" y="6324480"/>
            <a:ext cx="47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503280" y="1700280"/>
            <a:ext cx="8964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一个人的能力不是重要的，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一个人的成就不是重要的，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一个人能不能被他人看得起不是重要的，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重要的是做事的过程中有没有用心投入。                                          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——</a:t>
            </a:r>
            <a:r>
              <a:rPr b="1" lang="en-US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成龙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63120" y="6165720"/>
            <a:ext cx="746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9933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-335880" y="0"/>
            <a:ext cx="8802000" cy="6858000"/>
            <a:chOff x="-335880" y="0"/>
            <a:chExt cx="8802000" cy="6858000"/>
          </a:xfrm>
        </p:grpSpPr>
        <p:sp>
          <p:nvSpPr>
            <p:cNvPr id="477" name="矩形 4"/>
            <p:cNvSpPr/>
            <p:nvPr/>
          </p:nvSpPr>
          <p:spPr>
            <a:xfrm>
              <a:off x="-3358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292929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47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99993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99993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99993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电话前的准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849400" y="3287880"/>
            <a:ext cx="1506600" cy="165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2232360" cy="1635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1119240" y="4076640"/>
            <a:ext cx="165240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rcRect l="11344" t="0" r="10655" b="0"/>
          <a:stretch/>
        </p:blipFill>
        <p:spPr>
          <a:xfrm>
            <a:off x="6227640" y="1484280"/>
            <a:ext cx="1873440" cy="170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5"/>
          <a:stretch/>
        </p:blipFill>
        <p:spPr>
          <a:xfrm>
            <a:off x="5796000" y="4695840"/>
            <a:ext cx="2378160" cy="1685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6"/>
          <a:stretch/>
        </p:blipFill>
        <p:spPr>
          <a:xfrm>
            <a:off x="5148360" y="3130560"/>
            <a:ext cx="1942920" cy="13780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4643280" y="1484280"/>
            <a:ext cx="1800" cy="4897440"/>
            <a:chOff x="4643280" y="1484280"/>
            <a:chExt cx="1800" cy="4897440"/>
          </a:xfrm>
        </p:grpSpPr>
        <p:sp>
          <p:nvSpPr>
            <p:cNvPr id="115" name="Line 9"/>
            <p:cNvSpPr/>
            <p:nvPr/>
          </p:nvSpPr>
          <p:spPr>
            <a:xfrm>
              <a:off x="4643280" y="1484280"/>
              <a:ext cx="1800" cy="4897440"/>
            </a:xfrm>
            <a:prstGeom prst="line">
              <a:avLst/>
            </a:prstGeom>
            <a:ln w="25560">
              <a:solidFill>
                <a:srgbClr val="29292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643280" y="1484280"/>
              <a:ext cx="1800" cy="489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7" name="Text Box 10"/>
          <p:cNvSpPr/>
          <p:nvPr/>
        </p:nvSpPr>
        <p:spPr>
          <a:xfrm>
            <a:off x="3059280" y="1916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心态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908000" y="3573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微笑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059280" y="544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坐姿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4932360" y="191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资料本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730872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记录本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5435640" y="544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  <a:ea typeface="楷体_GB2312"/>
              </a:rPr>
              <a:t>笔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电话前准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软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心态：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反正没有见面，彼此都不了解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被拒绝很正常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下一个电话就是你成功的起点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微笑：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声音是有力量的，微笑可以使它变得更强大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微笑是自信的表现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坐姿：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正确的坐姿可以使声音更加完美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正确的坐姿可以使你信心膨胀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电话前准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硬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客户资料本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完整的客户资料是成功的第一步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记录本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记录和客户沟通的过程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有效的把握客户的需求点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笔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好记性不如赖笔头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养成记录的好习惯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应该注重哪些电话细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影响电话质量的细节：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Listen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聆听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        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Express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表达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       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Writ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列出电话清单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                 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Smil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微笑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          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Polite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礼貌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7093080" y="5013360"/>
            <a:ext cx="9522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话销售技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场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800" spc="-1" strike="noStrike">
                <a:solidFill>
                  <a:srgbClr val="292929"/>
                </a:solidFill>
                <a:latin typeface="Arial"/>
              </a:rPr>
              <a:t>开场白的注意事项</a:t>
            </a:r>
            <a:endParaRPr b="1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要引起客户的注意和兴趣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敢于介绍自己的公司，表明自己的身份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不要总是问客户是否有兴趣，要帮助客户决定，引导客户的思维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面对客户的拒绝不要立刻退缩，放弃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在电话里说话的声音要比平时大些，营造出很好的通话气氛；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2400" spc="-1" strike="noStrike">
                <a:solidFill>
                  <a:srgbClr val="292929"/>
                </a:solidFill>
                <a:latin typeface="Arial"/>
              </a:rPr>
              <a:t>简单明了，不要引起顾客的反感。 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230960" y="4941720"/>
            <a:ext cx="1913040" cy="1916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249240" y="632448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2040" y="476280"/>
            <a:ext cx="76723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话术储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开场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70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您好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请问是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公司吗？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我是驰宸亿讯科技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服务中心的客户经理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XXX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，我找一下你们老板或者车辆管理的负责人，想了解一下你们公司的车辆管理情况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您好！请问您是负责公司车辆管理的吗？公司车辆车队上的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是否安装？对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</a:rPr>
              <a:t>有一定了解没有？公司目前运营的车辆有几台？都是什么车呢，公司今年有没有安装的预算？</a:t>
            </a:r>
            <a:endParaRPr b="1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电话销售技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需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了解需求的目的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确定客户的意向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了解客户的基本情况  （对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GPS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的了解程度，车台数量，对该企业带来的帮助有哪些）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确定客户类型，为面谈打下良好基础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</a:pPr>
            <a:r>
              <a:rPr b="1" lang="zh-CN" sz="2000" spc="-1" strike="noStrike">
                <a:solidFill>
                  <a:srgbClr val="292929"/>
                </a:solidFill>
                <a:latin typeface="Arial"/>
              </a:rPr>
              <a:t>了解需求的必要性</a:t>
            </a:r>
            <a:endParaRPr b="1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成功签单的基础（您是需要哪一种租赁方式呢？当然，租赁时间越长的，我们收取的服务费也会越少，那我给您介绍一下具体的租赁方式）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</a:pP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顾问式销售的基础工作（在服务这方面请您放心，我们驰宸科技有先进的监控平台，优秀的服务团队，专业的安装人员和完善的培训机制，一定让您没有后顾之忧，无论您是一次买断还是哪种租赁，我们在服务方面都不会打任何折扣，昆明市区我们在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小时内为您解决问题，地州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48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小时内为您解决，只要我们的产品出现任何故障，我们都是台对台与您更换，决不会影响您的业务，我们驰宸科技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7x24</a:t>
            </a:r>
            <a:r>
              <a:rPr b="1" lang="zh-CN" sz="1800" spc="-1" strike="noStrike">
                <a:solidFill>
                  <a:srgbClr val="292929"/>
                </a:solidFill>
                <a:latin typeface="Arial"/>
              </a:rPr>
              <a:t>竭诚为您服务！</a:t>
            </a: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80000"/>
              </a:lnSpc>
              <a:spcBef>
                <a:spcPts val="451"/>
              </a:spcBef>
              <a:buNone/>
            </a:pPr>
            <a:endParaRPr b="1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22:13:00Z</dcterms:created>
  <dc:creator>Johnson-qf</dc:creator>
  <dc:description/>
  <dc:language>en-US</dc:language>
  <cp:lastModifiedBy>微软用户</cp:lastModifiedBy>
  <dcterms:modified xsi:type="dcterms:W3CDTF">2014-05-30T07:25:48Z</dcterms:modified>
  <cp:revision>166</cp:revision>
  <dc:subject/>
  <dc:title> 铭万产品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