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5E09-4821-46F3-8816-F023061D1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D100-A197-4780-8956-A6F45E3B8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4D60-8125-4EE5-8145-ED49508F3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08D9-AAFD-4411-B712-47A9E1FC8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19692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9ADA-790B-465C-8C84-24AB519BF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9E3A-41C7-4229-91BE-AB58DCD7B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F985-BCFA-458D-9D73-DA05B29A3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0636-1A69-4C34-A632-87009342E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692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8DC1-8AD7-4984-BD57-621B27BEF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8BE9-0A2A-406E-9FFD-63F82FB1C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E3121-9DCE-44EB-9E6B-143EE1720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C85C-4ACB-4382-A64E-53CAA4222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D6C1D66-D40B-4BDD-9A8B-BF93C0A2B7BA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628812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31680" y="0"/>
            <a:ext cx="917568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68360" y="3207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9800" y="2595240"/>
            <a:ext cx="4577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9800" y="2595240"/>
            <a:ext cx="4577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68360" y="3676320"/>
            <a:ext cx="4578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72920" y="645480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6065-9E87-4903-9F0D-3E9708FDFE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9800" y="2595240"/>
            <a:ext cx="4577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感谢您的关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3676320"/>
            <a:ext cx="4578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31240" y="627372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333333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333333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333333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333333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D2E5-2747-4B12-8ECC-CDA181E3D8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cp:lastPrinted>1899-12-30T00:00:00Z</cp:lastPrinted>
  <dcterms:modified xsi:type="dcterms:W3CDTF">2014-05-22T08:23:12Z</dcterms:modified>
  <cp:revision>1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