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6D4-FA08-43B3-A479-33D5064B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725-A3F4-410E-960D-C2D0340A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844-0245-4FC9-AAE5-6F68A8D8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14A-50A0-49DF-B6E7-36943F14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300-8F9B-4B3F-8F40-78DEF9D6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D7C-2885-43B9-A3A1-EA6D8D1B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CAA3-287E-44D0-8E6F-302295EB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02E-9ACC-460E-96D9-68652BA1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076-D95D-4B01-ACA6-457FDDE6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BEF-00F4-418A-8675-4DDECE70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40E-2635-48DE-A9AD-D0EF6A6C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9B8-9285-4A5F-A3F4-57A6B5B8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1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52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228600"/>
              <a:ext cx="914400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13"/>
            <p:cNvSpPr/>
            <p:nvPr/>
          </p:nvSpPr>
          <p:spPr>
            <a:xfrm>
              <a:off x="0" y="228600"/>
              <a:ext cx="9144000" cy="6400800"/>
            </a:xfrm>
            <a:prstGeom prst="rect">
              <a:avLst/>
            </a:prstGeom>
            <a:solidFill>
              <a:srgbClr val="809580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4"/>
            <p:cNvSpPr/>
            <p:nvPr/>
          </p:nvSpPr>
          <p:spPr>
            <a:xfrm>
              <a:off x="0" y="1371600"/>
              <a:ext cx="9144000" cy="50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2404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52404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52404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5F28-14ED-40F5-941E-E5B02A2D881B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928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EAD0-C39C-4C67-B2D1-2D2161F9A95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63080" cy="6858000"/>
            <a:chOff x="0" y="0"/>
            <a:chExt cx="9163080" cy="6858000"/>
          </a:xfrm>
        </p:grpSpPr>
        <p:pic>
          <p:nvPicPr>
            <p:cNvPr id="47" name="Rectangle 6" descr=""/>
            <p:cNvPicPr/>
            <p:nvPr/>
          </p:nvPicPr>
          <p:blipFill>
            <a:blip r:embed="rId1"/>
            <a:stretch/>
          </p:blipFill>
          <p:spPr>
            <a:xfrm>
              <a:off x="1080" y="457200"/>
              <a:ext cx="914436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7"/>
            <p:cNvSpPr/>
            <p:nvPr/>
          </p:nvSpPr>
          <p:spPr>
            <a:xfrm>
              <a:off x="1080" y="0"/>
              <a:ext cx="9144360" cy="6858000"/>
            </a:xfrm>
            <a:prstGeom prst="rect">
              <a:avLst/>
            </a:prstGeom>
            <a:solidFill>
              <a:srgbClr val="9ab39a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0" y="0"/>
              <a:ext cx="9144360" cy="228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1080" y="1981080"/>
              <a:ext cx="9144360" cy="609480"/>
            </a:xfrm>
            <a:prstGeom prst="rect">
              <a:avLst/>
            </a:prstGeom>
            <a:solidFill>
              <a:srgbClr val="676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5040" y="2590920"/>
              <a:ext cx="9144360" cy="457200"/>
            </a:xfrm>
            <a:prstGeom prst="rect">
              <a:avLst/>
            </a:prstGeom>
            <a:solidFill>
              <a:srgbClr val="52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>
              <a:off x="18720" y="0"/>
              <a:ext cx="9144360" cy="198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5264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名称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mbria"/>
              </a:rPr>
              <a:t>您的姓名 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| 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</a:rPr>
              <a:t>您的教师 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| 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</a:rPr>
              <a:t>您的年级</a:t>
            </a:r>
            <a:endParaRPr b="0" lang="en-US" sz="16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5" name=""/>
          <p:cNvSpPr/>
          <p:nvPr/>
        </p:nvSpPr>
        <p:spPr>
          <a:xfrm>
            <a:off x="324360" y="6454800"/>
            <a:ext cx="13435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旅游业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中可能吸引其他国家的游客的旅游景点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1" name=""/>
          <p:cNvSpPr/>
          <p:nvPr/>
        </p:nvSpPr>
        <p:spPr>
          <a:xfrm>
            <a:off x="1961640" y="6165720"/>
            <a:ext cx="3710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0" spc="-1" strike="noStrike" u="sng">
                <a:solidFill>
                  <a:srgbClr val="e47e7e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DEE-8E4E-4E85-9B81-6DDF4922F9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位置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位于哪个洲以及有哪些邻国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337-77A2-4E73-BD13-357270468F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地理特征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指出位于您所在国家</a:t>
            </a: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或相邻地区的任何重要河流、湖泊、海洋、山脉和其他地理特征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AAB-52DC-4555-A3B9-794CBF3860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气候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全年的典型天气模式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DE9-2C87-454F-B022-4820E9DD34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环境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描述您所在国家</a:t>
            </a: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所特有的一些动植物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8" name=""/>
          <p:cNvSpPr/>
          <p:nvPr/>
        </p:nvSpPr>
        <p:spPr>
          <a:xfrm>
            <a:off x="324360" y="6022800"/>
            <a:ext cx="13435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2D7-3AD1-45C0-9C97-B5A3C0010A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63080" cy="6858000"/>
            <a:chOff x="0" y="0"/>
            <a:chExt cx="9163080" cy="6858000"/>
          </a:xfrm>
        </p:grpSpPr>
        <p:pic>
          <p:nvPicPr>
            <p:cNvPr id="70" name="Rectangle 6" descr=""/>
            <p:cNvPicPr/>
            <p:nvPr/>
          </p:nvPicPr>
          <p:blipFill>
            <a:blip r:embed="rId1"/>
            <a:stretch/>
          </p:blipFill>
          <p:spPr>
            <a:xfrm>
              <a:off x="1080" y="457200"/>
              <a:ext cx="914436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7"/>
            <p:cNvSpPr/>
            <p:nvPr/>
          </p:nvSpPr>
          <p:spPr>
            <a:xfrm>
              <a:off x="1080" y="0"/>
              <a:ext cx="9144360" cy="6858000"/>
            </a:xfrm>
            <a:prstGeom prst="rect">
              <a:avLst/>
            </a:prstGeom>
            <a:solidFill>
              <a:srgbClr val="9ab39a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0" y="0"/>
              <a:ext cx="9144360" cy="228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1080" y="1981080"/>
              <a:ext cx="9144360" cy="609480"/>
            </a:xfrm>
            <a:prstGeom prst="rect">
              <a:avLst/>
            </a:prstGeom>
            <a:solidFill>
              <a:srgbClr val="676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5040" y="2590920"/>
              <a:ext cx="9144360" cy="457200"/>
            </a:xfrm>
            <a:prstGeom prst="rect">
              <a:avLst/>
            </a:prstGeom>
            <a:solidFill>
              <a:srgbClr val="52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2"/>
            <p:cNvSpPr/>
            <p:nvPr/>
          </p:nvSpPr>
          <p:spPr>
            <a:xfrm>
              <a:off x="18720" y="0"/>
              <a:ext cx="9144360" cy="198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5264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264384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E5F-24C7-406A-8555-E50BAE5771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风俗传统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庆祝的重要风俗传统。包含有关庆祝者和庆祝时间的信息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政府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如何制定和更改法律。介绍国家领导人的选举方法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322-D628-4D6E-8EB6-84F72958F4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经济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生产或提供的货物和服务。用户通常如何为自己及其家人提供所需品？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7" name=""/>
          <p:cNvSpPr/>
          <p:nvPr/>
        </p:nvSpPr>
        <p:spPr>
          <a:xfrm>
            <a:off x="324360" y="6022800"/>
            <a:ext cx="13435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1EE-734C-4C9E-B8E3-A7ABF44D04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2:49:00Z</dcterms:created>
  <dc:creator>Administrator</dc:creator>
  <dc:description/>
  <dc:language>en-US</dc:language>
  <cp:lastModifiedBy/>
  <cp:lastPrinted>1899-12-30T00:00:00Z</cp:lastPrinted>
  <dcterms:modified xsi:type="dcterms:W3CDTF">2014-05-24T09:17:0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_TemplateID">
    <vt:lpwstr>TC101659602052</vt:lpwstr>
  </property>
</Properties>
</file>