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194-4DA7-4769-8947-B7D228A1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A23-8CD9-44AB-B8F7-894712D3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35E-FC10-43DC-852D-9DF97FC3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8A5-FA18-4697-B314-AE5EA275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AEA-B02D-4EDB-8933-27E402D9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B8D9-A2AE-496E-A750-E8677AE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D17-3FD1-451B-A7F7-6C05516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3EC1-8417-4F12-8C3A-B37D97B5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4C31-0DE9-4AF1-BFB3-48CB93D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A39-05C6-45C8-A999-A31503C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7863-58E2-41BB-BA7D-F849909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4A3-FA43-4E58-9CD3-0847F3F3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C89D-C98B-4137-A4C0-6D8568E2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4E2-FCC2-4883-B0EE-223B039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7C17-15B0-4BED-A181-C84A845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4A52-BC4E-4EAB-9841-9A8CD8C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1925-8359-4C73-8655-5A2DCE2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230-24E4-41C8-B219-52AF8FB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220-B2E9-4089-883B-4C574DC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D23-81E8-4295-87F4-03CA3A0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F45-9A73-430B-B744-DBF834A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1C9-F369-4AA2-BC5B-25BA6C8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36E-B05E-4CA4-B0BB-E70615D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C63-28E9-4468-AAAC-89B1EFEE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E758-752A-4C77-9821-FD083AD20054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938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1616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4156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50CA-4573-47D5-B95E-BD8EC21C168C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2360" y="2131560"/>
            <a:ext cx="64054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60720" y="3285720"/>
            <a:ext cx="540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203640" y="2211480"/>
            <a:ext cx="51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812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143460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0:06:27Z</dcterms:created>
  <dc:creator/>
  <dc:description/>
  <dc:language>en-US</dc:language>
  <cp:lastModifiedBy>joyis</cp:lastModifiedBy>
  <cp:lastPrinted>1899-12-30T00:00:00Z</cp:lastPrinted>
  <dcterms:modified xsi:type="dcterms:W3CDTF">2014-05-15T06:47:54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