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A22-4F47-4B0D-9969-BA3AF0AF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94F-C427-4F15-B7B3-EF89A5BA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092-B19A-4009-B04F-3AB31125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99D-BFEF-4A01-B5CB-9B3AC0F7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B09B-5755-492E-B266-DB2608DF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109E-9183-4967-B2C8-B19F9393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29E0-2B48-42F9-A28E-B539ADDD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E63-876D-4481-AB06-FDD6E568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661E-6454-4590-893E-2C1D65F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3FB2-2CFD-4E92-9437-DE21EEA8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DF57-E186-46B8-802F-C678A66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806-2A31-42F8-BB2D-C25235E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DCF-0758-4C3F-8C72-50A66D7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384B-7731-47BE-870C-B66D93C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D743-6224-41EA-985B-23AB8E9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0E26-9983-434A-8F38-D5D30EA0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9A69-36CA-4A6D-9C3E-407C4BE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447-AAAA-4182-95C9-C70330E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63F-E123-4C22-AF99-0CF5F518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AE2-3AE1-4257-8D58-14C2B04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64B-A4AD-4AA4-AF54-CA59811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3D4-9DBA-4E8C-9BDE-0D607F9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F57-CDEB-47B6-A5BD-D5AE727B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3ED-25CD-48BE-BCA5-6F310C2A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7920"/>
            <a:ext cx="762120" cy="686592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f0f9e3"/>
              </a:gs>
              <a:gs pos="100000">
                <a:srgbClr val="c4d8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2887400">
            <a:off x="77040" y="357840"/>
            <a:ext cx="1298160" cy="13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19080">
            <a:solidFill>
              <a:srgbClr val="66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457200"/>
            <a:ext cx="1179720" cy="1120680"/>
          </a:xfrm>
          <a:prstGeom prst="donut">
            <a:avLst>
              <a:gd name="adj" fmla="val 12884"/>
            </a:avLst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3175800">
            <a:off x="144000" y="407880"/>
            <a:ext cx="1168560" cy="1212840"/>
          </a:xfrm>
          <a:prstGeom prst="blockArc">
            <a:avLst>
              <a:gd name="adj1" fmla="val 17510097"/>
              <a:gd name="adj2" fmla="val 14889903"/>
              <a:gd name="adj3" fmla="val 16231"/>
            </a:avLst>
          </a:prstGeom>
          <a:gradFill rotWithShape="0">
            <a:gsLst>
              <a:gs pos="0">
                <a:srgbClr val="75cbc7"/>
              </a:gs>
              <a:gs pos="100000">
                <a:srgbClr val="f5fafa"/>
              </a:gs>
            </a:gsLst>
            <a:lin ang="103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3F1D-1810-4073-8FAF-AADC43C7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7920"/>
            <a:ext cx="4648320" cy="686592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ed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4782-C5EF-4B50-B7D2-3A29A8BEEC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51040" y="2049480"/>
            <a:ext cx="3745080" cy="3735360"/>
          </a:xfrm>
          <a:prstGeom prst="donut">
            <a:avLst>
              <a:gd name="adj" fmla="val 12884"/>
            </a:avLst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175800">
            <a:off x="2644920" y="2033640"/>
            <a:ext cx="3760920" cy="3776400"/>
          </a:xfrm>
          <a:prstGeom prst="blockArc">
            <a:avLst>
              <a:gd name="adj1" fmla="val 18013252"/>
              <a:gd name="adj2" fmla="val 14386748"/>
              <a:gd name="adj3" fmla="val 15097"/>
            </a:avLst>
          </a:prstGeom>
          <a:gradFill rotWithShape="0">
            <a:gsLst>
              <a:gs pos="0">
                <a:srgbClr val="75cbc7"/>
              </a:gs>
              <a:gs pos="100000">
                <a:srgbClr val="f1f9f8"/>
              </a:gs>
            </a:gsLst>
            <a:lin ang="103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2887400">
            <a:off x="2466000" y="1882080"/>
            <a:ext cx="4128120" cy="409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5c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3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3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361b"/>
              </a:gs>
              <a:gs pos="50000">
                <a:srgbClr val="666633"/>
              </a:gs>
              <a:gs pos="100000">
                <a:srgbClr val="3636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33">
                  <a:alpha val="0"/>
                </a:srgbClr>
              </a:gs>
              <a:gs pos="100000">
                <a:srgbClr val="4040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99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99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95200"/>
              </a:gs>
              <a:gs pos="50000">
                <a:srgbClr val="ff9900"/>
              </a:gs>
              <a:gs pos="100000">
                <a:srgbClr val="895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ff9900">
                  <a:alpha val="0"/>
                </a:srgbClr>
              </a:gs>
              <a:gs pos="100000">
                <a:srgbClr val="a16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5cbc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55d5b"/>
              </a:gs>
              <a:gs pos="100000">
                <a:srgbClr val="75cbc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f6d6b"/>
              </a:gs>
              <a:gs pos="50000">
                <a:srgbClr val="75cbc7"/>
              </a:gs>
              <a:gs pos="100000">
                <a:srgbClr val="3f6d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5cbc7">
                  <a:alpha val="0"/>
                </a:srgbClr>
              </a:gs>
              <a:gs pos="100000">
                <a:srgbClr val="4a807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3880" y="1600200"/>
            <a:ext cx="5410080" cy="4873320"/>
            <a:chOff x="1523880" y="1600200"/>
            <a:chExt cx="5410080" cy="4873320"/>
          </a:xfrm>
        </p:grpSpPr>
        <p:sp>
          <p:nvSpPr>
            <p:cNvPr id="292" name=""/>
            <p:cNvSpPr/>
            <p:nvPr/>
          </p:nvSpPr>
          <p:spPr>
            <a:xfrm rot="13770000">
              <a:off x="4695480" y="3960000"/>
              <a:ext cx="928440" cy="1857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8b8b8"/>
                </a:gs>
                <a:gs pos="100000">
                  <a:srgbClr val="777777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856000">
              <a:off x="2761920" y="3524760"/>
              <a:ext cx="980280" cy="166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cbcbc"/>
                </a:gs>
                <a:gs pos="100000">
                  <a:srgbClr val="777777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394200">
              <a:off x="4816440" y="2462760"/>
              <a:ext cx="577440" cy="1288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d5d5d5"/>
                </a:gs>
                <a:gs pos="100000">
                  <a:srgbClr val="777777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674880" y="2498040"/>
              <a:ext cx="1564200" cy="1539720"/>
              <a:chOff x="3674880" y="2498040"/>
              <a:chExt cx="1564200" cy="15397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674880" y="2498040"/>
                <a:ext cx="1564200" cy="1539720"/>
                <a:chOff x="3674880" y="2498040"/>
                <a:chExt cx="1564200" cy="1539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674880" y="2498040"/>
                  <a:ext cx="1564200" cy="15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d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3853440" y="2523600"/>
                  <a:ext cx="1206720" cy="581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739320" y="31672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35320" y="1600200"/>
              <a:ext cx="909360" cy="834120"/>
              <a:chOff x="5035320" y="1600200"/>
              <a:chExt cx="909360" cy="8341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043960" y="1600200"/>
                <a:ext cx="847080" cy="834120"/>
                <a:chOff x="5043960" y="1600200"/>
                <a:chExt cx="847080" cy="834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043960" y="1600200"/>
                  <a:ext cx="847080" cy="83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cbc7"/>
                    </a:gs>
                    <a:gs pos="100000">
                      <a:srgbClr val="1c31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5140800" y="1613880"/>
                  <a:ext cx="653400" cy="314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cb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5035320" y="19206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523880" y="2819160"/>
              <a:ext cx="1694520" cy="1732320"/>
              <a:chOff x="1523880" y="2819160"/>
              <a:chExt cx="1694520" cy="17323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1523880" y="2819160"/>
                <a:ext cx="1694520" cy="1732320"/>
                <a:chOff x="1523880" y="2819160"/>
                <a:chExt cx="1694520" cy="1732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523880" y="2819160"/>
                  <a:ext cx="1694520" cy="173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4d88a"/>
                    </a:gs>
                    <a:gs pos="100000">
                      <a:srgbClr val="7c88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1717560" y="2847600"/>
                  <a:ext cx="1307160" cy="653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4d8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593720" y="358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978440" y="4102200"/>
              <a:ext cx="1955520" cy="1924560"/>
              <a:chOff x="4978440" y="4102200"/>
              <a:chExt cx="1955520" cy="19245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4978440" y="4102200"/>
                <a:ext cx="1955520" cy="1924560"/>
                <a:chOff x="4978440" y="4102200"/>
                <a:chExt cx="1955520" cy="19245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978440" y="4102200"/>
                  <a:ext cx="1955520" cy="192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33"/>
                    </a:gs>
                    <a:gs pos="100000">
                      <a:srgbClr val="3434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5202000" y="4133880"/>
                  <a:ext cx="1508400" cy="726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66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234760" y="4935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719360" y="4615560"/>
              <a:ext cx="1376640" cy="446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0f9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5200" y="4041000"/>
              <a:ext cx="1378440" cy="446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4600" y="6027120"/>
              <a:ext cx="1376640" cy="446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74280" y="2498040"/>
              <a:ext cx="631440" cy="2232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3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f2f17"/>
              </a:gs>
              <a:gs pos="100000">
                <a:srgbClr val="66663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6361b"/>
              </a:gs>
              <a:gs pos="50000">
                <a:srgbClr val="666633"/>
              </a:gs>
              <a:gs pos="100000">
                <a:srgbClr val="3636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66633">
                  <a:alpha val="0"/>
                </a:srgbClr>
              </a:gs>
              <a:gs pos="100000">
                <a:srgbClr val="4040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8080" y="4834080"/>
            <a:ext cx="2019240" cy="67464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ea5d0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71600" y="1905120"/>
            <a:ext cx="2019240" cy="3605040"/>
            <a:chOff x="1371600" y="1905120"/>
            <a:chExt cx="2019240" cy="3605040"/>
          </a:xfrm>
        </p:grpSpPr>
        <p:sp>
          <p:nvSpPr>
            <p:cNvPr id="365" name=""/>
            <p:cNvSpPr/>
            <p:nvPr/>
          </p:nvSpPr>
          <p:spPr>
            <a:xfrm>
              <a:off x="1371600" y="2189160"/>
              <a:ext cx="2019240" cy="264492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2644920"/>
                <a:gd name="textAreaBottom" fmla="*/ 2541600 h 2644920"/>
              </a:gdLst>
              <a:ahLst/>
              <a:rect l="textAreaLeft" t="textAreaTop" r="textAreaRight" b="textAreaBottom"/>
              <a:pathLst>
                <a:path w="21600" h="28292">
                  <a:moveTo>
                    <a:pt x="3782" y="0"/>
                  </a:moveTo>
                  <a:arcTo wR="3782" hR="3782" stAng="16200000" swAng="-5400000"/>
                  <a:lnTo>
                    <a:pt x="0" y="24510"/>
                  </a:lnTo>
                  <a:arcTo wR="3782" hR="3782" stAng="10800000" swAng="-5400000"/>
                  <a:lnTo>
                    <a:pt x="17818" y="2829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03280" y="2197080"/>
              <a:ext cx="1957320" cy="2594160"/>
            </a:xfrm>
            <a:custGeom>
              <a:avLst/>
              <a:gdLst>
                <a:gd name="textAreaLeft" fmla="*/ 95400 w 1957320"/>
                <a:gd name="textAreaRight" fmla="*/ 1861920 w 1957320"/>
                <a:gd name="textAreaTop" fmla="*/ 95400 h 2594160"/>
                <a:gd name="textAreaBottom" fmla="*/ 2498760 h 2594160"/>
              </a:gdLst>
              <a:ahLst/>
              <a:rect l="textAreaLeft" t="textAreaTop" r="textAreaRight" b="textAreaBottom"/>
              <a:pathLst>
                <a:path w="21600" h="28627">
                  <a:moveTo>
                    <a:pt x="3600" y="0"/>
                  </a:moveTo>
                  <a:arcTo wR="3600" hR="3600" stAng="16200000" swAng="-5400000"/>
                  <a:lnTo>
                    <a:pt x="0" y="25027"/>
                  </a:lnTo>
                  <a:arcTo wR="3600" hR="3600" stAng="10800000" swAng="-5400000"/>
                  <a:lnTo>
                    <a:pt x="18000" y="28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19120" y="4106880"/>
              <a:ext cx="193212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ed8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19120" y="2217960"/>
              <a:ext cx="193212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9120" y="4854600"/>
              <a:ext cx="1932120" cy="65556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ace7fa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2065320" y="1905120"/>
              <a:ext cx="601560" cy="593640"/>
              <a:chOff x="2065320" y="1905120"/>
              <a:chExt cx="601560" cy="593640"/>
            </a:xfrm>
          </p:grpSpPr>
          <p:sp>
            <p:nvSpPr>
              <p:cNvPr id="371" name=""/>
              <p:cNvSpPr/>
              <p:nvPr/>
            </p:nvSpPr>
            <p:spPr>
              <a:xfrm>
                <a:off x="2065320" y="1905120"/>
                <a:ext cx="601560" cy="59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71440" y="1909440"/>
                <a:ext cx="581760" cy="574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78640" y="1913040"/>
                <a:ext cx="568080" cy="5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85120" y="1918080"/>
                <a:ext cx="540360" cy="523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16440" y="1932480"/>
                <a:ext cx="479880" cy="42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186280" y="19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2880" y="26100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576600" y="1905120"/>
            <a:ext cx="2049480" cy="3590280"/>
            <a:chOff x="3576600" y="1905120"/>
            <a:chExt cx="2049480" cy="3590280"/>
          </a:xfrm>
        </p:grpSpPr>
        <p:sp>
          <p:nvSpPr>
            <p:cNvPr id="379" name=""/>
            <p:cNvSpPr/>
            <p:nvPr/>
          </p:nvSpPr>
          <p:spPr>
            <a:xfrm>
              <a:off x="3576600" y="2188800"/>
              <a:ext cx="2021040" cy="2641320"/>
            </a:xfrm>
            <a:custGeom>
              <a:avLst/>
              <a:gdLst>
                <a:gd name="textAreaLeft" fmla="*/ 103320 w 2021040"/>
                <a:gd name="textAreaRight" fmla="*/ 1917720 w 2021040"/>
                <a:gd name="textAreaTop" fmla="*/ 103320 h 2641320"/>
                <a:gd name="textAreaBottom" fmla="*/ 2538000 h 2641320"/>
              </a:gdLst>
              <a:ahLst/>
              <a:rect l="textAreaLeft" t="textAreaTop" r="textAreaRight" b="textAreaBottom"/>
              <a:pathLst>
                <a:path w="21600" h="28228">
                  <a:moveTo>
                    <a:pt x="3782" y="0"/>
                  </a:moveTo>
                  <a:arcTo wR="3782" hR="3782" stAng="16200000" swAng="-5400000"/>
                  <a:lnTo>
                    <a:pt x="0" y="24446"/>
                  </a:lnTo>
                  <a:arcTo wR="3782" hR="3782" stAng="10800000" swAng="-5400000"/>
                  <a:lnTo>
                    <a:pt x="17818" y="282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08280" y="2196720"/>
              <a:ext cx="1959120" cy="2590560"/>
            </a:xfrm>
            <a:custGeom>
              <a:avLst/>
              <a:gdLst>
                <a:gd name="textAreaLeft" fmla="*/ 95400 w 1959120"/>
                <a:gd name="textAreaRight" fmla="*/ 1863720 w 1959120"/>
                <a:gd name="textAreaTop" fmla="*/ 95400 h 2590560"/>
                <a:gd name="textAreaBottom" fmla="*/ 2495160 h 2590560"/>
              </a:gdLst>
              <a:ahLst/>
              <a:rect l="textAreaLeft" t="textAreaTop" r="textAreaRight" b="textAreaBottom"/>
              <a:pathLst>
                <a:path w="21600" h="28561">
                  <a:moveTo>
                    <a:pt x="3600" y="0"/>
                  </a:moveTo>
                  <a:arcTo wR="3600" hR="3600" stAng="16200000" swAng="-5400000"/>
                  <a:lnTo>
                    <a:pt x="0" y="24961"/>
                  </a:lnTo>
                  <a:arcTo wR="3600" hR="3600" stAng="10800000" swAng="-5400000"/>
                  <a:lnTo>
                    <a:pt x="18000" y="28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8ea91"/>
                </a:gs>
                <a:gs pos="100000">
                  <a:srgbClr val="21d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24120" y="4105080"/>
              <a:ext cx="193356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8ea91">
                    <a:alpha val="0"/>
                  </a:srgbClr>
                </a:gs>
                <a:gs pos="100000">
                  <a:srgbClr val="95eb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24120" y="2217600"/>
              <a:ext cx="1933560" cy="65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f7d9"/>
                </a:gs>
                <a:gs pos="100000">
                  <a:srgbClr val="88ea9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4271760" y="1905120"/>
              <a:ext cx="600120" cy="593280"/>
              <a:chOff x="4271760" y="1905120"/>
              <a:chExt cx="600120" cy="593280"/>
            </a:xfrm>
          </p:grpSpPr>
          <p:sp>
            <p:nvSpPr>
              <p:cNvPr id="384" name=""/>
              <p:cNvSpPr/>
              <p:nvPr/>
            </p:nvSpPr>
            <p:spPr>
              <a:xfrm>
                <a:off x="4271760" y="1905120"/>
                <a:ext cx="600120" cy="593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277880" y="1909440"/>
                <a:ext cx="580320" cy="574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85080" y="1913040"/>
                <a:ext cx="567000" cy="56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91200" y="1918080"/>
                <a:ext cx="538920" cy="523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22880" y="1932480"/>
                <a:ext cx="478800" cy="425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4391280" y="199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47880" y="260964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6840" y="4819320"/>
              <a:ext cx="2019240" cy="674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2e26a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47880" y="4840200"/>
              <a:ext cx="1932120" cy="65520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cbfdc7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783400" y="1905120"/>
            <a:ext cx="2027160" cy="3598920"/>
            <a:chOff x="5783400" y="1905120"/>
            <a:chExt cx="2027160" cy="3598920"/>
          </a:xfrm>
        </p:grpSpPr>
        <p:sp>
          <p:nvSpPr>
            <p:cNvPr id="394" name=""/>
            <p:cNvSpPr/>
            <p:nvPr/>
          </p:nvSpPr>
          <p:spPr>
            <a:xfrm>
              <a:off x="5783400" y="2189160"/>
              <a:ext cx="2019240" cy="264168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2641680"/>
                <a:gd name="textAreaBottom" fmla="*/ 2538360 h 2641680"/>
              </a:gdLst>
              <a:ahLst/>
              <a:rect l="textAreaLeft" t="textAreaTop" r="textAreaRight" b="textAreaBottom"/>
              <a:pathLst>
                <a:path w="21600" h="28257">
                  <a:moveTo>
                    <a:pt x="3782" y="0"/>
                  </a:moveTo>
                  <a:arcTo wR="3782" hR="3782" stAng="16200000" swAng="-5400000"/>
                  <a:lnTo>
                    <a:pt x="0" y="24475"/>
                  </a:lnTo>
                  <a:arcTo wR="3782" hR="3782" stAng="10800000" swAng="-5400000"/>
                  <a:lnTo>
                    <a:pt x="17818" y="282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15080" y="2197080"/>
              <a:ext cx="1957320" cy="2590920"/>
            </a:xfrm>
            <a:custGeom>
              <a:avLst/>
              <a:gdLst>
                <a:gd name="textAreaLeft" fmla="*/ 95400 w 1957320"/>
                <a:gd name="textAreaRight" fmla="*/ 1861920 w 1957320"/>
                <a:gd name="textAreaTop" fmla="*/ 95400 h 2590920"/>
                <a:gd name="textAreaBottom" fmla="*/ 2495520 h 2590920"/>
              </a:gdLst>
              <a:ahLst/>
              <a:rect l="textAreaLeft" t="textAreaTop" r="textAreaRight" b="textAreaBottom"/>
              <a:pathLst>
                <a:path w="21600" h="28591">
                  <a:moveTo>
                    <a:pt x="3600" y="0"/>
                  </a:moveTo>
                  <a:arcTo wR="3600" hR="3600" stAng="16200000" swAng="-5400000"/>
                  <a:lnTo>
                    <a:pt x="0" y="24991"/>
                  </a:lnTo>
                  <a:arcTo wR="3600" hR="3600" stAng="10800000" swAng="-5400000"/>
                  <a:lnTo>
                    <a:pt x="18000" y="28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eaec86"/>
                </a:gs>
                <a:gs pos="100000">
                  <a:srgbClr val="dcc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30920" y="4105440"/>
              <a:ext cx="193212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ec86">
                    <a:alpha val="0"/>
                  </a:srgbClr>
                </a:gs>
                <a:gs pos="100000">
                  <a:srgbClr val="ebed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30920" y="2217960"/>
              <a:ext cx="1932120" cy="65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7d5"/>
                </a:gs>
                <a:gs pos="100000">
                  <a:srgbClr val="eaec8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477120" y="1905120"/>
              <a:ext cx="601560" cy="593640"/>
              <a:chOff x="6477120" y="1905120"/>
              <a:chExt cx="601560" cy="593640"/>
            </a:xfrm>
          </p:grpSpPr>
          <p:sp>
            <p:nvSpPr>
              <p:cNvPr id="399" name=""/>
              <p:cNvSpPr/>
              <p:nvPr/>
            </p:nvSpPr>
            <p:spPr>
              <a:xfrm>
                <a:off x="6477120" y="1905120"/>
                <a:ext cx="601560" cy="59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3240" y="1909440"/>
                <a:ext cx="581760" cy="574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90440" y="1913040"/>
                <a:ext cx="568080" cy="5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96920" y="1918080"/>
                <a:ext cx="540360" cy="523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28240" y="1932480"/>
                <a:ext cx="479880" cy="42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598080" y="19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3240" y="2610000"/>
              <a:ext cx="1922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1320" y="4827600"/>
              <a:ext cx="2019240" cy="674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d7d45d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32720" y="4848480"/>
              <a:ext cx="1931760" cy="65556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fafdc7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41200" y="3238560"/>
            <a:ext cx="8664840" cy="142560"/>
            <a:chOff x="241200" y="3238560"/>
            <a:chExt cx="8664840" cy="142560"/>
          </a:xfrm>
        </p:grpSpPr>
        <p:sp>
          <p:nvSpPr>
            <p:cNvPr id="410" name=""/>
            <p:cNvSpPr/>
            <p:nvPr/>
          </p:nvSpPr>
          <p:spPr>
            <a:xfrm>
              <a:off x="241200" y="3238560"/>
              <a:ext cx="8664840" cy="5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200" y="3293280"/>
              <a:ext cx="8664840" cy="878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3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4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17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26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1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2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5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3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48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49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2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1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6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7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0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79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098360" y="2031840"/>
            <a:ext cx="6056640" cy="407880"/>
            <a:chOff x="1098360" y="2031840"/>
            <a:chExt cx="6056640" cy="407880"/>
          </a:xfrm>
        </p:grpSpPr>
        <p:sp>
          <p:nvSpPr>
            <p:cNvPr id="492" name=""/>
            <p:cNvSpPr/>
            <p:nvPr/>
          </p:nvSpPr>
          <p:spPr>
            <a:xfrm>
              <a:off x="109836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26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986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889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92" idx="3"/>
              <a:endCxn id="493" idx="1"/>
            </p:cNvCxnSpPr>
            <p:nvPr/>
          </p:nvCxnSpPr>
          <p:spPr>
            <a:xfrm>
              <a:off x="1834560" y="225540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3" idx="3"/>
              <a:endCxn id="494" idx="1"/>
            </p:cNvCxnSpPr>
            <p:nvPr/>
          </p:nvCxnSpPr>
          <p:spPr>
            <a:xfrm>
              <a:off x="3589200" y="225540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/>
            <p:nvPr/>
          </p:nvCxnSpPr>
          <p:spPr>
            <a:xfrm>
              <a:off x="5335560" y="226008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676520" y="1676520"/>
            <a:ext cx="5715000" cy="1197000"/>
            <a:chOff x="1676520" y="1676520"/>
            <a:chExt cx="5715000" cy="1197000"/>
          </a:xfrm>
        </p:grpSpPr>
        <p:sp>
          <p:nvSpPr>
            <p:cNvPr id="501" name=""/>
            <p:cNvSpPr/>
            <p:nvPr/>
          </p:nvSpPr>
          <p:spPr>
            <a:xfrm>
              <a:off x="1676520" y="167652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1080" y="1786320"/>
              <a:ext cx="1101240" cy="978840"/>
              <a:chOff x="1801080" y="1786320"/>
              <a:chExt cx="1101240" cy="978840"/>
            </a:xfrm>
          </p:grpSpPr>
          <p:sp>
            <p:nvSpPr>
              <p:cNvPr id="503" name=""/>
              <p:cNvSpPr/>
              <p:nvPr/>
            </p:nvSpPr>
            <p:spPr>
              <a:xfrm>
                <a:off x="1801080" y="178632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5cbc7"/>
                  </a:gs>
                  <a:gs pos="100000">
                    <a:srgbClr val="518d8a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1869840" y="184932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e1df"/>
                  </a:gs>
                  <a:gs pos="50000">
                    <a:srgbClr val="75cbc7">
                      <a:alpha val="0"/>
                    </a:srgbClr>
                  </a:gs>
                  <a:gs pos="100000">
                    <a:srgbClr val="b3e1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13760" y="2052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052080" y="186264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676520" y="3124080"/>
            <a:ext cx="5715000" cy="1197000"/>
            <a:chOff x="1676520" y="3124080"/>
            <a:chExt cx="5715000" cy="1197000"/>
          </a:xfrm>
        </p:grpSpPr>
        <p:sp>
          <p:nvSpPr>
            <p:cNvPr id="508" name=""/>
            <p:cNvSpPr/>
            <p:nvPr/>
          </p:nvSpPr>
          <p:spPr>
            <a:xfrm>
              <a:off x="1676520" y="312408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801080" y="3233880"/>
              <a:ext cx="1101240" cy="978840"/>
              <a:chOff x="1801080" y="3233880"/>
              <a:chExt cx="1101240" cy="978840"/>
            </a:xfrm>
          </p:grpSpPr>
          <p:sp>
            <p:nvSpPr>
              <p:cNvPr id="510" name=""/>
              <p:cNvSpPr/>
              <p:nvPr/>
            </p:nvSpPr>
            <p:spPr>
              <a:xfrm>
                <a:off x="1801080" y="323388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8f6a"/>
                  </a:gs>
                  <a:gs pos="100000">
                    <a:srgbClr val="666633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1869840" y="329688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33">
                      <a:alpha val="0"/>
                    </a:srgbClr>
                  </a:gs>
                  <a:gs pos="100000">
                    <a:srgbClr val="bdbd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13760" y="3501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3052080" y="328788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676520" y="4664160"/>
            <a:ext cx="5715000" cy="1197000"/>
            <a:chOff x="1676520" y="4664160"/>
            <a:chExt cx="5715000" cy="1197000"/>
          </a:xfrm>
        </p:grpSpPr>
        <p:sp>
          <p:nvSpPr>
            <p:cNvPr id="515" name=""/>
            <p:cNvSpPr/>
            <p:nvPr/>
          </p:nvSpPr>
          <p:spPr>
            <a:xfrm>
              <a:off x="1676520" y="466416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1080" y="4773960"/>
              <a:ext cx="1101240" cy="978840"/>
              <a:chOff x="1801080" y="4773960"/>
              <a:chExt cx="1101240" cy="978840"/>
            </a:xfrm>
          </p:grpSpPr>
          <p:sp>
            <p:nvSpPr>
              <p:cNvPr id="517" name=""/>
              <p:cNvSpPr/>
              <p:nvPr/>
            </p:nvSpPr>
            <p:spPr>
              <a:xfrm>
                <a:off x="1801080" y="477396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ebd5c"/>
                  </a:gs>
                  <a:gs pos="100000">
                    <a:srgbClr val="ff9900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1869840" y="483696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>
                      <a:alpha val="0"/>
                    </a:srgbClr>
                  </a:gs>
                  <a:gs pos="100000">
                    <a:srgbClr val="fecc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13760" y="50414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052080" y="482796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3256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3696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54320" y="328140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508760" y="1711080"/>
            <a:ext cx="6214680" cy="1324080"/>
            <a:chOff x="1508760" y="1711080"/>
            <a:chExt cx="6214680" cy="1324080"/>
          </a:xfrm>
        </p:grpSpPr>
        <p:sp>
          <p:nvSpPr>
            <p:cNvPr id="527" name=""/>
            <p:cNvSpPr/>
            <p:nvPr/>
          </p:nvSpPr>
          <p:spPr>
            <a:xfrm rot="3418800">
              <a:off x="171684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639520" y="2092320"/>
              <a:ext cx="901080" cy="124200"/>
              <a:chOff x="2639520" y="2092320"/>
              <a:chExt cx="901080" cy="12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26395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725920" y="209304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40416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7688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rot="3418800">
              <a:off x="3381480" y="1856160"/>
              <a:ext cx="873720" cy="970920"/>
            </a:xfrm>
            <a:prstGeom prst="rect">
              <a:avLst/>
            </a:prstGeom>
            <a:solidFill>
              <a:srgbClr val="75cb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4304160" y="2092320"/>
              <a:ext cx="901080" cy="124200"/>
              <a:chOff x="4304160" y="2092320"/>
              <a:chExt cx="901080" cy="12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430416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90560" y="209304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06880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4152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rot="3418800">
              <a:off x="4976640" y="185616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968800" y="2092320"/>
              <a:ext cx="1178280" cy="124200"/>
              <a:chOff x="5968800" y="2092320"/>
              <a:chExt cx="1178280" cy="124200"/>
            </a:xfrm>
          </p:grpSpPr>
          <p:sp>
            <p:nvSpPr>
              <p:cNvPr id="541" name=""/>
              <p:cNvSpPr/>
              <p:nvPr/>
            </p:nvSpPr>
            <p:spPr>
              <a:xfrm>
                <a:off x="596880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81840" y="209304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6852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06392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rot="3418800">
              <a:off x="6641280" y="1856160"/>
              <a:ext cx="873720" cy="970920"/>
            </a:xfrm>
            <a:prstGeom prst="rect">
              <a:avLst/>
            </a:prstGeom>
            <a:solidFill>
              <a:srgbClr val="75cb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8234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190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0652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608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298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5236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192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1452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11440" y="2271600"/>
          <a:ext cx="6400800" cy="2971800"/>
        </p:xfrm>
        <a:graphic>
          <a:graphicData uri="http://schemas.openxmlformats.org/drawingml/2006/table">
            <a:tbl>
              <a:tblPr/>
              <a:tblGrid>
                <a:gridCol w="1442880"/>
                <a:gridCol w="1009800"/>
                <a:gridCol w="985680"/>
                <a:gridCol w="986040"/>
                <a:gridCol w="988920"/>
                <a:gridCol w="98748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133280" y="1405080"/>
            <a:ext cx="6701040" cy="4630680"/>
            <a:chOff x="1133280" y="1405080"/>
            <a:chExt cx="6701040" cy="4630680"/>
          </a:xfrm>
        </p:grpSpPr>
        <p:sp>
          <p:nvSpPr>
            <p:cNvPr id="559" name=""/>
            <p:cNvSpPr/>
            <p:nvPr/>
          </p:nvSpPr>
          <p:spPr>
            <a:xfrm>
              <a:off x="2189160" y="4453920"/>
              <a:ext cx="5205240" cy="1184400"/>
            </a:xfrm>
            <a:prstGeom prst="ellipse">
              <a:avLst/>
            </a:prstGeom>
            <a:solidFill>
              <a:srgbClr val="777777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58360" y="239832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514160" y="224316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429200" y="223632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10480" y="225180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436400" y="224388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0602200">
              <a:off x="1418040" y="224100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9400" y="292788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61160" y="3141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20200" y="2264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57480" y="270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6181560" y="321444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539200">
              <a:off x="1438200" y="226476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4522320" y="367596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57480" y="365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47120" y="4383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88440" y="4237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3038400" y="3170160"/>
              <a:ext cx="2523240" cy="1045800"/>
            </a:xfrm>
            <a:prstGeom prst="ellipse">
              <a:avLst/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4694400" y="405504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599840" y="1752480"/>
            <a:ext cx="3747960" cy="3874680"/>
            <a:chOff x="1599840" y="1752480"/>
            <a:chExt cx="3747960" cy="3874680"/>
          </a:xfrm>
        </p:grpSpPr>
        <p:sp>
          <p:nvSpPr>
            <p:cNvPr id="580" name=""/>
            <p:cNvSpPr/>
            <p:nvPr/>
          </p:nvSpPr>
          <p:spPr>
            <a:xfrm flipH="1">
              <a:off x="1599840" y="5626080"/>
              <a:ext cx="166068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599840" y="4845600"/>
              <a:ext cx="214236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600200" y="4035960"/>
              <a:ext cx="251640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600200" y="3238560"/>
              <a:ext cx="294480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600200" y="2436840"/>
              <a:ext cx="337248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599840" y="1752480"/>
              <a:ext cx="374796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13320" y="1752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13320" y="243684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13320" y="324612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13320" y="405576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3320" y="4865400"/>
              <a:ext cx="144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65520" y="194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65520" y="2734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6552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65520" y="4317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6552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48000" y="1752480"/>
            <a:ext cx="4549320" cy="3878280"/>
            <a:chOff x="3348000" y="1752480"/>
            <a:chExt cx="4549320" cy="3878280"/>
          </a:xfrm>
        </p:grpSpPr>
        <p:sp>
          <p:nvSpPr>
            <p:cNvPr id="597" name="未知"/>
            <p:cNvSpPr/>
            <p:nvPr/>
          </p:nvSpPr>
          <p:spPr>
            <a:xfrm>
              <a:off x="7095240" y="4440240"/>
              <a:ext cx="802080" cy="11887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3711240" y="4440240"/>
              <a:ext cx="3738960" cy="506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3348000" y="4944600"/>
              <a:ext cx="4127400" cy="686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6676200" y="3767760"/>
              <a:ext cx="70920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136400" y="3767760"/>
              <a:ext cx="2808720" cy="3790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3780720" y="414540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6257160" y="3102120"/>
              <a:ext cx="620640" cy="9349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4558680" y="3102120"/>
              <a:ext cx="187524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4197600" y="3353040"/>
              <a:ext cx="2426400" cy="68364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5833440" y="2426400"/>
              <a:ext cx="534240" cy="81396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4988520" y="2426400"/>
              <a:ext cx="935640" cy="12204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4620240" y="2547000"/>
              <a:ext cx="1580040" cy="69300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5406480" y="1752480"/>
              <a:ext cx="45144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5040360" y="1752480"/>
              <a:ext cx="73260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6920" y="2118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46920" y="2845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46920" y="3634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6920" y="4425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6920" y="521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33720" y="2133720"/>
            <a:ext cx="4724280" cy="685800"/>
            <a:chOff x="2133720" y="213372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d88a"/>
                </a:gs>
                <a:gs pos="50000">
                  <a:srgbClr val="f1f5e5"/>
                </a:gs>
                <a:gs pos="100000">
                  <a:srgbClr val="c4d88a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133720"/>
              <a:ext cx="685800" cy="685800"/>
            </a:xfrm>
            <a:prstGeom prst="diamond">
              <a:avLst/>
            </a:prstGeom>
            <a:solidFill>
              <a:srgbClr val="c4d88a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2971800"/>
            <a:ext cx="4724280" cy="685800"/>
            <a:chOff x="2133720" y="297180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cbc7"/>
                </a:gs>
                <a:gs pos="50000">
                  <a:srgbClr val="e0f3f2"/>
                </a:gs>
                <a:gs pos="100000">
                  <a:srgbClr val="75cbc7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2971800"/>
              <a:ext cx="685800" cy="685800"/>
            </a:xfrm>
            <a:prstGeom prst="diamond">
              <a:avLst/>
            </a:prstGeom>
            <a:solidFill>
              <a:srgbClr val="75cbc7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3809880"/>
            <a:ext cx="4724280" cy="685800"/>
            <a:chOff x="2133720" y="38098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33"/>
                </a:gs>
                <a:gs pos="50000">
                  <a:srgbClr val="ddddd2"/>
                </a:gs>
                <a:gs pos="100000">
                  <a:srgbClr val="666633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3809880"/>
              <a:ext cx="685800" cy="685800"/>
            </a:xfrm>
            <a:prstGeom prst="diamond">
              <a:avLst/>
            </a:prstGeom>
            <a:solidFill>
              <a:srgbClr val="666633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39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33720" y="4724280"/>
            <a:ext cx="4724280" cy="685800"/>
            <a:chOff x="2133720" y="4724280"/>
            <a:chExt cx="4724280" cy="685800"/>
          </a:xfrm>
        </p:grpSpPr>
        <p:sp>
          <p:nvSpPr>
            <p:cNvPr id="115" name=""/>
            <p:cNvSpPr/>
            <p:nvPr/>
          </p:nvSpPr>
          <p:spPr>
            <a:xfrm>
              <a:off x="251460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4724280"/>
              <a:ext cx="685800" cy="68580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9600" y="48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2209680" y="342900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5cbc7"/>
                    </a:gs>
                    <a:gs pos="100000">
                      <a:srgbClr val="666633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5cbc7"/>
                  </a:gs>
                  <a:gs pos="100000">
                    <a:srgbClr val="666633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800600" y="1676160"/>
            <a:ext cx="40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8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663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590840"/>
            <a:ext cx="725976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– CD : Medicine Today  (PhotoDis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e5b3"/>
              </a:gs>
              <a:gs pos="100000">
                <a:srgbClr val="c4d8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cdbd"/>
              </a:gs>
              <a:gs pos="100000">
                <a:srgbClr val="66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29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3118"/>
                  </a:gs>
                  <a:gs pos="100000">
                    <a:srgbClr val="6666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6633"/>
                  </a:gs>
                  <a:gs pos="100000">
                    <a:srgbClr val="babaa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5cbc7"/>
                </a:gs>
                <a:gs pos="100000">
                  <a:srgbClr val="355d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bea"/>
                </a:gs>
                <a:gs pos="100000">
                  <a:srgbClr val="75cbc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5cbc7">
                    <a:alpha val="48235"/>
                  </a:srgbClr>
                </a:gs>
                <a:gs pos="100000">
                  <a:srgbClr val="5ca0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5cbc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5d5d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323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5cbc7"/>
                </a:gs>
                <a:gs pos="100000">
                  <a:srgbClr val="243f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4d88a"/>
                </a:gs>
                <a:gs pos="100000">
                  <a:srgbClr val="454c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2a2a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73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6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63636">
                    <a:alpha val="12156"/>
                  </a:srgbClr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6363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a7a7a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7a7a7">
                    <a:alpha val="12156"/>
                  </a:srgbClr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8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663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361b"/>
                  </a:gs>
                  <a:gs pos="50000">
                    <a:srgbClr val="666633"/>
                  </a:gs>
                  <a:gs pos="100000">
                    <a:srgbClr val="3636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9e3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0f9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6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a633f"/>
                </a:gs>
                <a:gs pos="50000">
                  <a:srgbClr val="c4d88a"/>
                </a:gs>
                <a:gs pos="100000">
                  <a:srgbClr val="5a6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c4d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75c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8d9c63"/>
                </a:gs>
                <a:gs pos="50000">
                  <a:srgbClr val="c4d88a"/>
                </a:gs>
                <a:gs pos="100000">
                  <a:srgbClr val="8d9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4924"/>
                </a:gs>
                <a:gs pos="50000">
                  <a:srgbClr val="666633"/>
                </a:gs>
                <a:gs pos="100000">
                  <a:srgbClr val="4949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b86e00"/>
                </a:gs>
                <a:gs pos="50000">
                  <a:srgbClr val="ff9900"/>
                </a:gs>
                <a:gs pos="100000">
                  <a:srgbClr val="b8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54928f"/>
                </a:gs>
                <a:gs pos="50000">
                  <a:srgbClr val="75cbc7"/>
                </a:gs>
                <a:gs pos="100000">
                  <a:srgbClr val="5492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5073480" y="1523880"/>
            <a:ext cx="1467000" cy="11559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737345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4320" y="2957400"/>
            <a:ext cx="2295360" cy="275760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2757600"/>
              <a:gd name="textAreaBottom" fmla="*/ 2726280 h 2757600"/>
            </a:gdLst>
            <a:ahLst/>
            <a:rect l="textAreaLeft" t="textAreaTop" r="textAreaRight" b="textAreaBottom"/>
            <a:pathLst>
              <a:path w="21600" h="25949">
                <a:moveTo>
                  <a:pt x="1013" y="0"/>
                </a:moveTo>
                <a:arcTo wR="1013" hR="1013" stAng="16200000" swAng="-5400000"/>
                <a:lnTo>
                  <a:pt x="0" y="24936"/>
                </a:lnTo>
                <a:arcTo wR="1013" hR="1013" stAng="10800000" swAng="-5400000"/>
                <a:lnTo>
                  <a:pt x="20587" y="2594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c4d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81952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633f"/>
              </a:gs>
              <a:gs pos="50000">
                <a:srgbClr val="c4d88a"/>
              </a:gs>
              <a:gs pos="100000">
                <a:srgbClr val="5a63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333400" y="2895480"/>
            <a:ext cx="73080" cy="1447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742560" y="2886120"/>
            <a:ext cx="71640" cy="14436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4240" y="2455920"/>
            <a:ext cx="2295360" cy="275760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2757600"/>
              <a:gd name="textAreaBottom" fmla="*/ 2726280 h 2757600"/>
            </a:gdLst>
            <a:ahLst/>
            <a:rect l="textAreaLeft" t="textAreaTop" r="textAreaRight" b="textAreaBottom"/>
            <a:pathLst>
              <a:path w="21600" h="25949">
                <a:moveTo>
                  <a:pt x="1013" y="0"/>
                </a:moveTo>
                <a:arcTo wR="1013" hR="1013" stAng="16200000" swAng="-5400000"/>
                <a:lnTo>
                  <a:pt x="0" y="24936"/>
                </a:lnTo>
                <a:arcTo wR="1013" hR="1013" stAng="10800000" swAng="-5400000"/>
                <a:lnTo>
                  <a:pt x="20587" y="2594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49880" y="2313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2f17"/>
              </a:gs>
              <a:gs pos="50000">
                <a:srgbClr val="666633"/>
              </a:gs>
              <a:gs pos="100000">
                <a:srgbClr val="2f2f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35040" y="2384280"/>
            <a:ext cx="7164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253200" y="2384280"/>
            <a:ext cx="7128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2492280" y="2025720"/>
            <a:ext cx="1467000" cy="11570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c36b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13200" y="27907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f9e3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27800" y="22953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3219480"/>
            <a:ext cx="2295360" cy="2903040"/>
            <a:chOff x="914400" y="3219480"/>
            <a:chExt cx="2295360" cy="2903040"/>
          </a:xfrm>
        </p:grpSpPr>
        <p:sp>
          <p:nvSpPr>
            <p:cNvPr id="243" name=""/>
            <p:cNvSpPr/>
            <p:nvPr/>
          </p:nvSpPr>
          <p:spPr>
            <a:xfrm>
              <a:off x="914400" y="3366000"/>
              <a:ext cx="2295360" cy="27565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6520"/>
                <a:gd name="textAreaBottom" fmla="*/ 2725200 h 2756520"/>
              </a:gdLst>
              <a:ahLst/>
              <a:rect l="textAreaLeft" t="textAreaTop" r="textAreaRight" b="textAreaBottom"/>
              <a:pathLst>
                <a:path w="21600" h="25939">
                  <a:moveTo>
                    <a:pt x="1013" y="0"/>
                  </a:moveTo>
                  <a:arcTo wR="1013" hR="1013" stAng="16200000" swAng="-5400000"/>
                  <a:lnTo>
                    <a:pt x="0" y="24926"/>
                  </a:lnTo>
                  <a:arcTo wR="1013" hR="1013" stAng="10800000" swAng="-5400000"/>
                  <a:lnTo>
                    <a:pt x="20587" y="2593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30400" y="3241800"/>
              <a:ext cx="1863720" cy="250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23b00"/>
                </a:gs>
                <a:gs pos="50000">
                  <a:srgbClr val="ff9900"/>
                </a:gs>
                <a:gs pos="100000">
                  <a:srgbClr val="62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13760" y="3303720"/>
              <a:ext cx="71640" cy="126000"/>
            </a:xfrm>
            <a:prstGeom prst="octagon">
              <a:avLst>
                <a:gd name="adj" fmla="val 29287"/>
              </a:avLst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231200" y="3303720"/>
              <a:ext cx="73080" cy="126000"/>
            </a:xfrm>
            <a:prstGeom prst="octagon">
              <a:avLst>
                <a:gd name="adj" fmla="val 29287"/>
              </a:avLst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8600" y="3219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f9e3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720" y="359388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505320" y="319104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29:23Z</dcterms:created>
  <dc:creator>Sung Ha, Park</dc:creator>
  <dc:description/>
  <dc:language>en-US</dc:language>
  <cp:lastModifiedBy>微软用户</cp:lastModifiedBy>
  <dcterms:modified xsi:type="dcterms:W3CDTF">2014-05-28T06:17:04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