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592-EF6A-4412-91B6-86CEF6DD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A8A-434B-42ED-84E2-F2024FD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C35-92A5-4867-8B00-D7EC283E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F09-D374-4474-92A2-D708113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6D32-010B-4B39-BF2F-36AC9CD7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A4C-4FAC-475D-8A08-E56692B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D88B-97C1-4173-A6D2-C55C373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8FE4-4364-4D71-9D9C-3F56489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47DF-D210-4DD9-9FB6-D2BCA15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68D-37CF-4292-8095-1BDBC40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760A-72AC-4A97-BA7F-5E02511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90F-FE68-4F74-AD57-612ED2D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7D60-BB75-44EC-A8B6-2483DC6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1C1-79A5-4CF9-9E20-96F91F8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3C9A-3558-42E7-8DF9-182CD34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8F6A-73F4-46B3-ADC3-13675523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ECF6-4465-4FBC-9CE7-DAC66ED7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788-6D3E-42A5-8790-08DE263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871-1723-4BC7-8162-3D60FBDE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6F5-557D-44C5-934B-2405A7E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033-D677-4F4E-BE6E-1E979E5C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2A9-58DD-468C-8047-922DB4D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45F-95E8-4271-B72E-4AEEC47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5A0-5FC1-4406-BF6D-D3237FF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1d0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1f2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1f2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1f2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6D5-6834-4C94-BD13-F077910E81C0}" type="slidenum">
              <a:rPr b="0" lang="en-US" sz="1200" spc="-1" strike="noStrike">
                <a:solidFill>
                  <a:srgbClr val="771f2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1d0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71d0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1f2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1f2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1f2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3EF5-5CE9-4C47-B3E9-4BA129482E28}" type="slidenum">
              <a:rPr b="0" lang="en-US" sz="1200" spc="-1" strike="noStrike">
                <a:solidFill>
                  <a:srgbClr val="771f2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744120"/>
            <a:ext cx="842976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-13320" y="6381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1d0f"/>
              </a:solidFill>
              <a:latin typeface="Constantia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"/>
          <p:cNvSpPr/>
          <p:nvPr/>
        </p:nvSpPr>
        <p:spPr>
          <a:xfrm>
            <a:off x="1722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f25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2:00Z</dcterms:created>
  <dc:creator/>
  <dc:description/>
  <dc:language>en-US</dc:language>
  <cp:lastModifiedBy/>
  <cp:lastPrinted>1899-12-30T00:00:00Z</cp:lastPrinted>
  <dcterms:modified xsi:type="dcterms:W3CDTF">2014-06-06T08:06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3626602052</vt:lpwstr>
  </property>
</Properties>
</file>