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F03-BD12-4289-874C-1E57F7F1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444-E40F-41A8-85EF-E1D06EF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4BA-2AD6-440A-888E-5D528AFF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39C-3297-49D4-8995-4264F0FA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2142-C95F-4550-B7C4-57FB85EA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C2A2-15F8-42C0-A50F-5545A73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010-3F80-43F9-9F9E-3A07DD3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D0D8-80F4-4E23-8BA1-334977BD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4994-E507-4332-B516-DA2873D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16000" y="169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A995-0B61-4455-A112-D2CFD97C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B95F-199C-494B-8D7A-76AEC0C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967-C929-4EA8-BB85-163C1C05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0930-C8C3-4DF1-85F1-65D3E6A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383-F434-40A6-8FE8-E233D20D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67A-43FE-47E5-9E2B-8464E2C7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EB7C-09E8-4DF8-A6F2-37B71B58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314136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747680"/>
            <a:ext cx="25023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DB71-2577-4E62-9F5B-9EDBA278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E17-2218-409F-864B-8D8D57C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6C7-E619-47BA-8DE9-BF0FA32B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366-494F-4300-A68C-D63E2F3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6000" y="169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9DB-9F90-4384-A550-F63B54C3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9DE-9C20-4325-9DA8-6123AD6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74768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D42-1ECE-4641-8481-153F7EA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3141360"/>
            <a:ext cx="3792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74768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0F2-DD87-4179-80B7-BF20548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33F6-653E-45CB-B441-7D32CCA63D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3141360"/>
            <a:ext cx="77724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759960" indent="-3369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13760" indent="-16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26720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rcRect l="24811" t="9947" r="16146" b="51738"/>
          <a:stretch/>
        </p:blipFill>
        <p:spPr>
          <a:xfrm>
            <a:off x="5867280" y="0"/>
            <a:ext cx="26272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B59-73E6-431A-B0C3-8845ABED7B4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7440" y="109440"/>
            <a:ext cx="33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湖南工学院电气与信息工程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31,3,&#24187;&#28783;&#29255; 3" TargetMode="External"/><Relationship Id="rId2" Type="http://schemas.openxmlformats.org/officeDocument/2006/relationships/hyperlink" Target="269,12,&#23454;&#39564;&#20108;  &#20856;&#22411;&#31995;&#32479;&#30636;&#24577;&#21709;&#24212;&#21644;&#31283;&#23450;&#24615;" TargetMode="External"/><Relationship Id="rId3" Type="http://schemas.openxmlformats.org/officeDocument/2006/relationships/hyperlink" Target="269,12,&#23454;&#39564;&#20108;  &#20856;&#22411;&#31995;&#32479;&#30636;&#24577;&#21709;&#24212;&#21644;&#31283;&#23450;&#24615;" TargetMode="External"/><Relationship Id="rId4" Type="http://schemas.openxmlformats.org/officeDocument/2006/relationships/hyperlink" Target="269,12,&#23454;&#39564;&#20108;  &#20856;&#22411;&#31995;&#32479;&#30636;&#24577;&#21709;&#24212;&#21644;&#31283;&#23450;&#24615;" TargetMode="External"/><Relationship Id="rId5" Type="http://schemas.openxmlformats.org/officeDocument/2006/relationships/hyperlink" Target="282,27,&#23454;&#39564;&#19977; &#25511;&#21046;&#31995;&#32479;&#30340;&#39057;&#29575;&#29305;&#24615; " TargetMode="External"/><Relationship Id="rId6" Type="http://schemas.openxmlformats.org/officeDocument/2006/relationships/hyperlink" Target="295,40,&#23454;&#39564;&#22235; &#32447;&#24615;&#36830;&#32493;&#31995;&#32479;&#26657;&#27491;" TargetMode="External"/><Relationship Id="rId7" Type="http://schemas.openxmlformats.org/officeDocument/2006/relationships/hyperlink" Target="305,50,&#23454;&#39564;&#20116; &#37319;&#26679;&#31995;&#32479;&#20998;&#26512;" TargetMode="External"/><Relationship Id="rId8" Type="http://schemas.openxmlformats.org/officeDocument/2006/relationships/hyperlink" Target="313,65,&#38468;:   &#23454;&#39564;&#31995;&#32479;&#20171;&#32461;" TargetMode="External"/><Relationship Id="rId9" Type="http://schemas.openxmlformats.org/officeDocument/2006/relationships/hyperlink" Target="313,65,&#38468;:   &#23454;&#39564;&#31995;&#32479;&#20171;&#32461;" TargetMode="Externa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</a:rPr>
              <a:t>自动控制原理实验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4292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湖南工学院电气与信息工程系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罗雪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845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）实验操作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的各典型环节的模拟电路图将线接好（先按比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不接）。将模拟电路输入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与阶跃信号的输出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相联接；模拟电路的输出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接至示波器。按下按钮（或松平按扭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时 ，用示波器观测输出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(t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实际响应曲线，且将结果记下。改变比例参数，重新观测结果。同理得出积分、比例积分、比例微分和惯性环节的实际响应曲线，它们的理想曲线和实际响应曲线见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观察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环节的响应曲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采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周期性方波信号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插针改为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1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波段开关置与“阶跃信号”档，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OUT”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的输出电压即为阶跃信号电压，信号周期由波段开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电位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W1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调节，信号幅值由电位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W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调节。以信号幅值小、信号周期较长比较适宜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参照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拟电路图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搭接好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79400" y="98748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③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①中产生的周期性方波加到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的输入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用示波器观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I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输出端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改变电路参数，重新观察并记录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567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实验二  典型系统瞬态响应和稳定性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6200" y="2206440"/>
            <a:ext cx="8641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本实验为验证性实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实验目的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有关二阶系统的特性和模拟仿真方法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研究二阶系统的两个重要参数阻尼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ζ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无阻尼自然频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ω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对过渡过程的影响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研究二阶对象的三种阻尼比下的响应曲线及系统的稳定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劳斯判据，用劳斯判据对三阶系统进行稳定性分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实验设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机一台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DN-A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列教学实验系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982440"/>
            <a:ext cx="5832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三、实验原理及电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1557360"/>
            <a:ext cx="80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典型二阶系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典型二阶系统的方块图及传递函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是典型二阶系统原理方块图，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0=1s,T1=0.1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57080" y="3286080"/>
            <a:ext cx="7777440" cy="309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23784" b="0"/>
          <a:stretch/>
        </p:blipFill>
        <p:spPr>
          <a:xfrm>
            <a:off x="757080" y="1052640"/>
            <a:ext cx="727236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0160" y="909720"/>
            <a:ext cx="785016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197160" y="3718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-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1400" y="4540320"/>
            <a:ext cx="696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5761080" cy="16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3502080"/>
            <a:ext cx="5977080" cy="194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90972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典型三阶系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9720" y="1728720"/>
            <a:ext cx="668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341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典型三阶系统的方块图：见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6408720" cy="16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拟电路图：见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4720" y="199080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18000" y="462276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2-4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86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270080"/>
            <a:ext cx="863784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开环传递函数为：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=500/R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的特征方程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G(S)H(S)=0 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3+12S2+20S+20K=0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outh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判据得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0&lt;K&lt;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&gt;41.7KΩ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稳定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=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=41.7 KΩ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临界稳定</a:t>
            </a:r>
            <a:br>
              <a:rPr sz="2400"/>
            </a:b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&gt;1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&lt;41.7 KΩ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系统不稳定</a:t>
            </a:r>
            <a:br>
              <a:rPr sz="40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33800" y="1125360"/>
            <a:ext cx="3311280" cy="8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2560" y="981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四、实验内容和步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12680" y="1646280"/>
            <a:ext cx="7448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准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“信号源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使运算放大器反馈网络上的场效应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DJ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夹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阶跃信号的产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见实验一中的阶跃信号的产生。将阶跃信号加至输入端，调节单次阶跃单元中的电位器，按动按钮，用示波器观察阶跃信号，使其幅值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．典型二阶系统瞬态性能指标的测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按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-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接线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R=10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用示波器观察系统阶跃响应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，测量并记录超调量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δ%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峰值时间和调节时间。记录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370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目  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6560" y="2060640"/>
            <a:ext cx="82296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1"/>
              </a:rPr>
              <a:t>实验一  典型环节的模拟研究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2"/>
              </a:rPr>
              <a:t>实验二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3"/>
              </a:rPr>
              <a:t> 典型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4"/>
              </a:rPr>
              <a:t>系统瞬态响应和稳定性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5"/>
              </a:rPr>
              <a:t>实验三  控制系统的频率特性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6"/>
              </a:rPr>
              <a:t>实验四  线性连续系统校正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7"/>
              </a:rPr>
              <a:t>实验五  采样系统分析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8"/>
              </a:rPr>
              <a:t>附: 实验系统介绍   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仿宋_GB2312"/>
                <a:ea typeface="仿宋_GB2312"/>
                <a:hlinkClick r:id="rId9"/>
              </a:rPr>
              <a:t>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4240" y="115236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=20K;40K;100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改变系统开环增益，观察相应的阶跃响应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(t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测量并记录性能指标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δ(%)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S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及系统的稳定性。并记录测量值和计算值（实验前必须按公式计算出）进行比较。并将实验结果填入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1054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表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836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实验系统接线提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773360"/>
            <a:ext cx="845820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．交通显示装置模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3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为一组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4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6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为一组，其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1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绿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2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黄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3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红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4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绿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5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黄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交通灯插孔</a:t>
            </a:r>
            <a:r>
              <a:rPr b="0" lang="en-US" sz="2800" spc="-1" strike="noStrike">
                <a:solidFill>
                  <a:srgbClr val="333300"/>
                </a:solidFill>
                <a:latin typeface="宋体"/>
              </a:rPr>
              <a:t>TL6</a:t>
            </a:r>
            <a:r>
              <a:rPr b="0" lang="zh-CN" sz="2800" spc="-1" strike="noStrike">
                <a:solidFill>
                  <a:srgbClr val="333300"/>
                </a:solidFill>
                <a:latin typeface="宋体"/>
              </a:rPr>
              <a:t>：红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实验仪器与设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637000"/>
            <a:ext cx="86104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 algn="ctr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黑体"/>
              </a:rPr>
              <a:t>实验四   传输实验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0200" y="449064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83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掌握用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控制传动控制系统的方法；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熟悉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编程技巧及程序调试方法。训练解决工程实际控制问题的能力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333300"/>
                </a:solidFill>
                <a:latin typeface="Times New Roman"/>
              </a:rPr>
              <a:t>、掌握传输控制技巧 </a:t>
            </a:r>
            <a:r>
              <a:rPr b="0" lang="zh-CN" sz="4400" spc="-1" strike="noStrike">
                <a:solidFill>
                  <a:srgbClr val="333300"/>
                </a:solidFill>
                <a:latin typeface="宋体"/>
              </a:rPr>
              <a:t>。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141e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14141e"/>
                </a:solidFill>
                <a:latin typeface="Times New Roman"/>
              </a:rPr>
              <a:t>PLC</a:t>
            </a:r>
            <a:r>
              <a:rPr b="0" lang="zh-CN" sz="2400" spc="-1" strike="noStrike">
                <a:solidFill>
                  <a:srgbClr val="14141e"/>
                </a:solidFill>
                <a:latin typeface="Times New Roman"/>
              </a:rPr>
              <a:t>构成传动控制系统 ，具体要求如下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启动按钮后，给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打开出料仓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检测各工位，在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（启动传送带的输出端子在仿真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D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）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工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传送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运输料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次以后，关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当运输料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S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亮时，表示料车装满，运输带会自动停止，此时应启动声光报警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后自动停止报警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另一部料车来时，重复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00720" y="981000"/>
            <a:ext cx="536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三、提示：系统工艺要求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PLC</a:t>
            </a:r>
            <a:br>
              <a:rPr sz="2400"/>
            </a:b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实验系统硬件接线如下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374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．传输装置模型说明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1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2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S3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工位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3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运输料车装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信号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4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传送带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料装入运输料车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SD2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传送带启动信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YSI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代表开出料仓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为灯光报警发光管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1e"/>
                </a:solidFill>
                <a:latin typeface="Times New Roman"/>
              </a:rPr>
              <a:t>FMQ</a:t>
            </a:r>
            <a:r>
              <a:rPr b="0" lang="zh-CN" sz="2000" spc="-1" strike="noStrike">
                <a:solidFill>
                  <a:srgbClr val="14141e"/>
                </a:solidFill>
                <a:latin typeface="Times New Roman"/>
              </a:rPr>
              <a:t>为报警蜂鸣器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960" y="157320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57320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4920" y="155736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8400" y="159228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5922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1560" y="1592280"/>
            <a:ext cx="228600" cy="228600"/>
          </a:xfrm>
          <a:prstGeom prst="ellipse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0320" y="11541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SD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349360"/>
            <a:ext cx="1371600" cy="1371600"/>
          </a:xfrm>
          <a:prstGeom prst="ellipse">
            <a:avLst/>
          </a:prstGeom>
          <a:solidFill>
            <a:srgbClr val="c9ddf1"/>
          </a:solidFill>
          <a:ln cap="rnd" w="1260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685800"/>
            <a:ext cx="0" cy="5943600"/>
          </a:xfrm>
          <a:prstGeom prst="line">
            <a:avLst/>
          </a:prstGeom>
          <a:ln cap="rnd" w="1260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9280" y="616572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传输实验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8360" y="1668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81400" y="939960"/>
            <a:ext cx="1104480" cy="914400"/>
            <a:chOff x="2381400" y="939960"/>
            <a:chExt cx="1104480" cy="914400"/>
          </a:xfrm>
        </p:grpSpPr>
        <p:sp>
          <p:nvSpPr>
            <p:cNvPr id="193" name=""/>
            <p:cNvSpPr/>
            <p:nvPr/>
          </p:nvSpPr>
          <p:spPr>
            <a:xfrm>
              <a:off x="2381400" y="1054440"/>
              <a:ext cx="304920" cy="176040"/>
            </a:xfrm>
            <a:prstGeom prst="line">
              <a:avLst/>
            </a:prstGeom>
            <a:ln cap="sq"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8160" y="1244880"/>
              <a:ext cx="609480" cy="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09840" y="939960"/>
              <a:ext cx="176040" cy="30492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8160" y="124488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7640" y="124488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48160" y="162576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028680" y="162576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362480" y="3954600"/>
            <a:ext cx="1104480" cy="990000"/>
            <a:chOff x="4362480" y="3954600"/>
            <a:chExt cx="1104480" cy="990000"/>
          </a:xfrm>
        </p:grpSpPr>
        <p:grpSp>
          <p:nvGrpSpPr>
            <p:cNvPr id="201" name=""/>
            <p:cNvGrpSpPr/>
            <p:nvPr/>
          </p:nvGrpSpPr>
          <p:grpSpPr>
            <a:xfrm>
              <a:off x="4362480" y="3954600"/>
              <a:ext cx="1104480" cy="913680"/>
              <a:chOff x="4362480" y="3954600"/>
              <a:chExt cx="1104480" cy="91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4362480" y="4068720"/>
                <a:ext cx="304920" cy="175680"/>
              </a:xfrm>
              <a:prstGeom prst="line">
                <a:avLst/>
              </a:prstGeom>
              <a:ln cap="sq" w="1908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9240" y="4259160"/>
                <a:ext cx="609480" cy="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290920" y="3954600"/>
                <a:ext cx="176040" cy="30456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29240" y="4259160"/>
                <a:ext cx="0" cy="38052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38720" y="4259160"/>
                <a:ext cx="0" cy="38052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29240" y="4640040"/>
                <a:ext cx="228600" cy="22824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009760" y="4640040"/>
                <a:ext cx="228600" cy="228240"/>
              </a:xfrm>
              <a:prstGeom prst="line">
                <a:avLst/>
              </a:prstGeom>
              <a:ln cap="sq"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819680" y="4716360"/>
              <a:ext cx="228600" cy="228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19680" y="4106520"/>
              <a:ext cx="228600" cy="2282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99088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3480" y="2106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28960" y="21258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712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33880" y="265896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78040"/>
            <a:ext cx="228600" cy="2286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5296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880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05200" y="319248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91040" y="3211560"/>
            <a:ext cx="228600" cy="2286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2600" y="3649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仿真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67000" y="907920"/>
            <a:ext cx="1104480" cy="914400"/>
            <a:chOff x="2367000" y="907920"/>
            <a:chExt cx="1104480" cy="914400"/>
          </a:xfrm>
        </p:grpSpPr>
        <p:sp>
          <p:nvSpPr>
            <p:cNvPr id="225" name=""/>
            <p:cNvSpPr/>
            <p:nvPr/>
          </p:nvSpPr>
          <p:spPr>
            <a:xfrm>
              <a:off x="2367000" y="1022400"/>
              <a:ext cx="304920" cy="176040"/>
            </a:xfrm>
            <a:prstGeom prst="line">
              <a:avLst/>
            </a:prstGeom>
            <a:ln cap="sq"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33760" y="1212840"/>
              <a:ext cx="609480" cy="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95440" y="907920"/>
              <a:ext cx="176040" cy="30492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3760" y="121284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3240" y="1212840"/>
              <a:ext cx="0" cy="38088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3760" y="159372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014280" y="1593720"/>
              <a:ext cx="228600" cy="228600"/>
            </a:xfrm>
            <a:prstGeom prst="line">
              <a:avLst/>
            </a:prstGeom>
            <a:ln cap="sq"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19480" y="403056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93000">
            <a:off x="2685600" y="3954240"/>
            <a:ext cx="457200" cy="152280"/>
          </a:xfrm>
          <a:custGeom>
            <a:avLst/>
            <a:gdLst>
              <a:gd name="textAreaLeft" fmla="*/ 100440 w 457200"/>
              <a:gd name="textAreaRight" fmla="*/ 356760 w 45720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85960" y="3897360"/>
            <a:ext cx="152640" cy="228600"/>
          </a:xfrm>
          <a:prstGeom prst="rect">
            <a:avLst/>
          </a:pr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81400" y="204948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1760" y="1211400"/>
            <a:ext cx="38124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90880" y="2658960"/>
            <a:ext cx="38088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0360" y="3116160"/>
            <a:ext cx="38124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3680" y="464040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3160" y="4640400"/>
            <a:ext cx="38124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05280" y="4030560"/>
            <a:ext cx="38088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81600" y="4640400"/>
            <a:ext cx="380880" cy="380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62280" y="4106880"/>
            <a:ext cx="0" cy="685800"/>
          </a:xfrm>
          <a:prstGeom prst="line">
            <a:avLst/>
          </a:prstGeom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33600" y="4259160"/>
            <a:ext cx="0" cy="381240"/>
          </a:xfrm>
          <a:prstGeom prst="line">
            <a:avLst/>
          </a:prstGeom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12114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57440" y="20685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28760" y="2735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8600" y="319248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S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28960" y="376380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57560" y="5021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S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43160" y="502128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0160" y="494496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M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99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实验五    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数码显示实验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2360" y="45810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综合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35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a3d7a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90972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实验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一   典型环节模拟研究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060640"/>
            <a:ext cx="82296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本实验为验证性实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实验目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学习构成典型环节的模拟电路，了解电路参数对环节特性影响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熟悉各种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典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环节的阶跃响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学习典型环节阶跃响应的测量方法，并学会由阶跃响应曲线计算典型环节的传递函数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实验设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PC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机一台，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TDN-AC</a:t>
            </a: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系列教学实验系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掌握用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控制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数码显示系统的方法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掌握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外部接线的方法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23520"/>
            <a:ext cx="864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用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控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系统，具体要求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在面包板上搭建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电路，对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编程，用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10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个按键分别传送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0~9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十个数字，每按动这十个键中的一个，则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控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数码显示电路显示对应的数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根据控制要求设计程序，写出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分配表、绘制程序梯形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、绘制</a:t>
            </a:r>
            <a:r>
              <a:rPr b="0" lang="en-US" sz="3200" spc="-1" strike="noStrike">
                <a:solidFill>
                  <a:srgbClr val="333300"/>
                </a:solidFill>
                <a:latin typeface="宋体"/>
              </a:rPr>
              <a:t>PLC I/O</a:t>
            </a:r>
            <a:r>
              <a:rPr b="0" lang="zh-CN" sz="3200" spc="-1" strike="noStrike">
                <a:solidFill>
                  <a:srgbClr val="333300"/>
                </a:solidFill>
                <a:latin typeface="宋体"/>
              </a:rPr>
              <a:t>接线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4120"/>
            <a:ext cx="842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数码管有两种显示接线方式，一种是共阴，另一种为共阳，当发光二极管正向偏置时，发光管（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）灯就亮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 用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控制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显示有两种方法，一种是输出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位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BC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码给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LE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显示（如用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BCD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码指令显示）；另一种方法是由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编制程序进行译码，来控制显示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a~g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段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99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面包板、数码管、电阻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/4w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Times New Roman"/>
                <a:ea typeface="黑体"/>
              </a:rPr>
              <a:t>实验六    功能指令实验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3840" y="45079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920" y="1557000"/>
            <a:ext cx="88200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熟悉跳转、分支指令的应用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掌握数据处理：比较、传送指令的使用 </a:t>
            </a:r>
            <a:r>
              <a:rPr b="0" lang="zh-CN" sz="3600" spc="-1" strike="noStrike">
                <a:solidFill>
                  <a:srgbClr val="333300"/>
                </a:solidFill>
                <a:latin typeface="宋体"/>
              </a:rPr>
              <a:t>。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827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、熟悉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3600" spc="-1" strike="noStrike">
                <a:solidFill>
                  <a:srgbClr val="333300"/>
                </a:solidFill>
                <a:latin typeface="Times New Roman"/>
              </a:rPr>
              <a:t>编程技巧及程序调试方法。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实验内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75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利用跳转、分支指令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现对两组彩灯轮流闪烁的控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其编程要求：利用分支指令编程，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K1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接通”时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闪烁；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K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开”时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B0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闪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利用比较、传送指令使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实现数据的传送与数据大小的比较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其编程要求：①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由按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1~PB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不同值，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比较结果通过输出显示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显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0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赋值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0H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当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〈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≤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=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≥ 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5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；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1≠S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则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灯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BO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亮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82090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写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/O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分配表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绘制所设计的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程序梯形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．记录实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操作结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08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L-PLC-Ⅰ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型可编程控制器实验系统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L-PLC-Ⅱ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型可编程控制器实验系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计算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X-20P-E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程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00000" y="2709720"/>
          <a:ext cx="7608960" cy="3633840"/>
        </p:xfrm>
        <a:graphic>
          <a:graphicData uri="http://schemas.openxmlformats.org/drawingml/2006/table">
            <a:tbl>
              <a:tblPr/>
              <a:tblGrid>
                <a:gridCol w="2508120"/>
                <a:gridCol w="2562480"/>
                <a:gridCol w="253836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典型环节名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块图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传递函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例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积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例积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376720" cy="795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376720" cy="795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1708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930240" y="1138320"/>
            <a:ext cx="760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94760"/>
            <a:ext cx="8526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三．实验原理及电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下面列出了各典型环节的方框图、传递函数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Verdana"/>
              </a:rPr>
              <a:t>模拟电路图、阶跃响应，实验前应熟悉了解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Verdana"/>
              </a:rPr>
              <a:t>、各环节的方块图及传递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8640" y="2867040"/>
            <a:ext cx="731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92360" y="4292640"/>
            <a:ext cx="2374920" cy="793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084720" y="4292640"/>
            <a:ext cx="2376720" cy="79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492360" y="522936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084720" y="5229360"/>
            <a:ext cx="2376720" cy="10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实验七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电动机自动往复运动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18240" y="450756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本实验为设计性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2101680"/>
            <a:ext cx="8512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掌握用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控制电动机往复运动软件互锁与硬件互锁的方法；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、掌握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外部接线的方法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380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设计并制作电动机往复运动电路，对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编程，实现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对电动机的往复运动控制。 编程要求：交流电动机起动有正转起动和反转起动，而且正、反转可切换，即在正转时可直接按下反转起动按，电动机即开始反转，同时切断正转电路，反之亦可；并且要求电动机能往复运动，往复运动由时间控制，即按下正转起动按钮，电动机正转，正转一段时间转为反转，反转一段时间又转为正转，如此自动往复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18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25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PL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控制交流电动机的正反转，除了软件互锁，硬件也要求互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正反转实现的方法：改变电源相序（两根火线对调）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4648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、正反转基本控制电路原理图：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1674720"/>
            <a:ext cx="8532720" cy="49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在上图中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主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主触点接通正相序电源—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正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主触点接通反相序电源—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反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控制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控制正转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控制反转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B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于停止控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常闭触点用于互锁控制，即使在接触器故障情况下，也可以保证不发生主电路短路现象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994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交流接触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三相异步电动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6400" y="1915920"/>
            <a:ext cx="85694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根据控制要求设计程序，写出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分配表、绘制程序梯形图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绘制主电路图、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控制电路图、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 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接线图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记录实验操作结果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820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92240" indent="0">
              <a:lnSpc>
                <a:spcPct val="13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实验八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广告艺术灯控制器设计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4920" y="465228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本实验为研究创新型实验）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实验目的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0560" y="2101680"/>
            <a:ext cx="85122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、掌握采用不同的编程思路实现用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控制广告艺术灯系统的方法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、熟悉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PLC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编程技巧及程序调试方法。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82560" y="1054080"/>
          <a:ext cx="7994520" cy="4076640"/>
        </p:xfrm>
        <a:graphic>
          <a:graphicData uri="http://schemas.openxmlformats.org/drawingml/2006/table">
            <a:tbl>
              <a:tblPr/>
              <a:tblGrid>
                <a:gridCol w="2373480"/>
                <a:gridCol w="2955600"/>
                <a:gridCol w="266544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微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惯性环节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分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e684"/>
                    </a:solidFill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8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519640" cy="100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13072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32000" y="2422440"/>
            <a:ext cx="280836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83280" y="2422440"/>
            <a:ext cx="252252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3646440"/>
            <a:ext cx="280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084720" y="3646440"/>
            <a:ext cx="251964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8480" y="836640"/>
            <a:ext cx="8885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二．设计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044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用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PLC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控制广告艺术灯电路系统 ，编程要求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某广告屏有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灯管（用黄色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代替），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流水灯，每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灯为一组。在面包板上搭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广告艺术灯电路，对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PLC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编程，控制彩色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LED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发光管轮流闪烁，其具体要求如下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该广告屏中间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个灯管亮灭的时序为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→…→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亮，时间间隔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全亮后，显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反过来从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→5→…→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顺序熄灭。全灭后，停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第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根灯管开始亮起，顺序点亮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6→5→…→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，时间间隔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全亮后，显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→2→…→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顺序熄灭。全熄灭后，停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，再从头开始运行，周而复始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广告屏四周的流水灯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只，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个一组，共分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组，每组灯间隔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向前移动一次，且即从Ⅰ→Ⅱ→Ⅲ→Ⅳ，移动一段时间后（如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秒），再反过来移动，即从Ⅳ→Ⅲ→Ⅱ→Ⅰ，如此循环往复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系统有单步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连续控制，有起动和停止按钮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）系统发光管的供电电源为</a:t>
            </a: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24V</a:t>
            </a:r>
            <a:r>
              <a:rPr b="0" lang="zh-CN" sz="2000" spc="-1" strike="noStrike">
                <a:solidFill>
                  <a:srgbClr val="2a3d7a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．设计提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设计方案提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根据霓虹灯时序控制程序的任务和要求，可先设计霓虹灯中间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根灯管的控制程序。由题意可知，用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输出分别控制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灯管。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控制程序可采用步进顺控指令来实现，也可采用移位指令和定时、计数指令组合起来设计该程序，或用基本指令加定时器、计数器指令来实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413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对于四周的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组流水灯泡的亮、灭控制，可利用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移位指令外加定时器、计数器指令来完成其循环左移和右移功能。或用基本指令加定时器、计数器指令来实现。也可采用步进顺控指令来实现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</a:rPr>
              <a:t>实验仪器与设备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2270160"/>
            <a:ext cx="82994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Ⅰ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 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EL-PLC-Ⅱ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型可编程控制器实验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计算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X-20P-E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编程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面包板、数码管、电阻（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2K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1/4w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实验报告要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根据控制要求设计程序，写出</a:t>
            </a: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I/O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分配表、绘制程序梯形图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92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333300"/>
                </a:solidFill>
                <a:latin typeface="宋体"/>
              </a:rPr>
              <a:t>．记录实验操作结果 ，分析是否符合设计要求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492360" y="3500280"/>
            <a:ext cx="27734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谢谢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036000" y="1844640"/>
            <a:ext cx="2664000" cy="9968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036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5b5249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0ae6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71640" y="1557360"/>
          <a:ext cx="7634160" cy="4683240"/>
        </p:xfrm>
        <a:graphic>
          <a:graphicData uri="http://schemas.openxmlformats.org/drawingml/2006/table">
            <a:tbl>
              <a:tblPr/>
              <a:tblGrid>
                <a:gridCol w="1635120"/>
                <a:gridCol w="3473280"/>
                <a:gridCol w="2525760"/>
              </a:tblGrid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各典型环节名称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模拟电路图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输出响应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 (t≥0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积分（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(t≥0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0C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  (t≥0)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1C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1800" y="2639880"/>
            <a:ext cx="3313080" cy="100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700360" y="3790800"/>
            <a:ext cx="3313080" cy="103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8283600" y="645336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返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985680" y="105552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各典型环节的模拟电路图及输出响应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701800" y="4943520"/>
            <a:ext cx="3311640" cy="122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5640" y="981000"/>
          <a:ext cx="7848720" cy="5149800"/>
        </p:xfrm>
        <a:graphic>
          <a:graphicData uri="http://schemas.openxmlformats.org/drawingml/2006/table">
            <a:tbl>
              <a:tblPr/>
              <a:tblGrid>
                <a:gridCol w="1490760"/>
                <a:gridCol w="3741480"/>
                <a:gridCol w="261648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Tδ(t)+K</a:t>
                      </a:r>
                      <a:r>
                        <a:rPr b="0" lang="zh-CN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δ(t)</a:t>
                      </a:r>
                      <a:r>
                        <a:rPr b="0" lang="zh-CN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为单位脉冲函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  <a:tr h="14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惯性环节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0(t)=K(1-e-t/T)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=R1/R0</a:t>
                      </a: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，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=R1C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>
                        <a:alpha val="50000"/>
                      </a:srgbClr>
                    </a:solidFill>
                  </a:tcPr>
                </a:tc>
              </a:tr>
              <a:tr h="20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比例积分微分（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ID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）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其中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δ(t)</a:t>
                      </a:r>
                      <a:r>
                        <a:rPr b="0" lang="zh-CN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为单位脉冲函数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p=R1/R0;Ti=R0C1Td=R1R2C2/R0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1054080"/>
            <a:ext cx="35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340000" y="2709720"/>
            <a:ext cx="35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340000" y="4151160"/>
            <a:ext cx="352728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17412" t="0" r="0" b="0"/>
          <a:stretch/>
        </p:blipFill>
        <p:spPr>
          <a:xfrm>
            <a:off x="6084720" y="1628640"/>
            <a:ext cx="245124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四、实验内容及步骤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观测比例、积分、比例积分、比例微分和惯性环节的阶跃响应曲线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实验接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①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准备：使运放处于工作状态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将信号源单元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 SG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（插针）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（插针）用“短路块”短接，使模拟电路中的场效应管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DJ6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夹断，这时运放处于工作状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②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阶跃信号的产生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电路可采用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示电路，它由“单脉冲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3 S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及“电位器单元”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组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具体线路形成：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3 S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中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+5V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2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排线接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；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U14 P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单元中，将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GN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插针用“短路块”短接，最后由插座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端输出信号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以后实现再用到阶跃信号时，方法同上，不再累赘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2720" y="8380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3:43:20Z</dcterms:created>
  <dc:creator/>
  <dc:description/>
  <dc:language>en-US</dc:language>
  <cp:lastModifiedBy>微软用户</cp:lastModifiedBy>
  <cp:lastPrinted>1899-12-30T00:00:00Z</cp:lastPrinted>
  <dcterms:modified xsi:type="dcterms:W3CDTF">2014-06-08T05:08:07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