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4F8-5BA4-4F45-B475-4964A123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9F0-EE8A-48B7-A3DA-345B0122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608-4004-40FB-BAFB-52EE4031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223-0E0A-4276-9512-DDF5554C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EB19-71DF-4960-83A6-E00C4C8C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5C22-CFCB-406D-BA43-724C95C3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28C0-72C2-4869-9419-61A6F769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523F-10B4-4AB7-9B63-40608123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157B-4695-4179-AD41-4451D7D2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2004-6663-4F02-BA23-2A4A54A9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9910-3598-4E34-B09A-B70C8AF7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968-71B1-4A04-B648-C6206319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040D-8164-4C81-A9B3-813AF632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EA2E-B617-4400-80D3-672CB202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8BC2-3055-49AF-AB1E-58DE2980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5E53-524E-4531-BB4B-080F2066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1C8B-271E-4043-A308-6F78CE76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9AA83-D65C-485B-8576-9EB8E90B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EFE99-5873-4CC7-A820-044BF849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9E6F-D9D7-4F5B-9FCC-37282DF9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C1799-0220-4332-8A1A-49FECB96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F403E-DE1D-4355-A070-6EF62807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CDD-8DD9-4BFA-A53C-9923E82F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A221-06B3-4AD5-B940-F0A6BBAA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854D-19EC-493C-B9E9-E4D45D0F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726F2-75A9-4A86-8639-02E0656A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3524B-0AA3-40ED-B444-DA23B8DA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EF17F-B144-4C44-9537-8749016D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FE71C-3077-4DAC-8B9E-A9AEF651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4E1D-635D-48C3-971F-7F5F1C87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5C8D7-47F4-4114-913D-F66D256C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F5B58-B879-4EC4-9FCE-3B722A09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261B9-FEE8-44A7-8621-DB10C4A4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FAA-91AD-471E-B14B-4C87AA60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46C6F-F6E2-4B75-BCB0-4663DF73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319A0-1249-4D1A-A815-6E133B0C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E4802-9835-4175-9D4E-18F604E2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CE505-6646-441D-BC1E-F4C4F0FE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98257-F307-4590-ADBE-6ABEA9AC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9CE0C-50AC-4208-ADF5-3B555CAB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0015F-3083-49BF-AC93-40A1F318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41896-64CD-4EDC-B879-823C2C87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51054-C2AF-4F91-ADBE-9F211222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883-5F37-46F3-A02D-E0C7E803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D00-2232-4B1B-BF33-0C8D9CE3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B4C-302F-4CBE-A66F-464C84D5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CAA-AC65-4AAF-92C7-0B78FF86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B09-B250-497F-BFAF-EA35B76A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21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e21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e21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2721-78D0-4C00-88B2-CFCEA04DDCB9}" type="slidenum">
              <a:rPr b="0" lang="en-US" sz="1400" spc="-1" strike="noStrike">
                <a:solidFill>
                  <a:srgbClr val="1e212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21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e21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e21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ACD7-7F24-44AA-9D74-657525D99843}" type="slidenum">
              <a:rPr b="0" lang="en-US" sz="1400" spc="-1" strike="noStrike">
                <a:solidFill>
                  <a:srgbClr val="1e212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21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e21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e21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9009-FE55-44D8-A1A7-B6C18F9B52EC}" type="slidenum">
              <a:rPr b="0" lang="en-US" sz="1400" spc="-1" strike="noStrike">
                <a:solidFill>
                  <a:srgbClr val="1e212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21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e21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e21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45F7-322C-41FB-B112-3073BBF12E5B}" type="slidenum">
              <a:rPr b="0" lang="en-US" sz="1400" spc="-1" strike="noStrike">
                <a:solidFill>
                  <a:srgbClr val="1e212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6440" y="41760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35240" y="1576440"/>
            <a:ext cx="6400800" cy="86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0200" y="64101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960480" y="1550880"/>
            <a:ext cx="1628640" cy="162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2305080" y="1549440"/>
            <a:ext cx="1628640" cy="1628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4"/>
          <a:stretch/>
        </p:blipFill>
        <p:spPr>
          <a:xfrm>
            <a:off x="3641760" y="1442880"/>
            <a:ext cx="1628640" cy="16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5094360" y="1549440"/>
            <a:ext cx="1630440" cy="1628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6"/>
          <a:stretch/>
        </p:blipFill>
        <p:spPr>
          <a:xfrm>
            <a:off x="6551640" y="1549440"/>
            <a:ext cx="1630440" cy="1628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984240" y="3400560"/>
            <a:ext cx="13762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2128"/>
                </a:solidFill>
                <a:latin typeface="Arial"/>
                <a:ea typeface="Arial"/>
              </a:rPr>
              <a:t>Bulle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2128"/>
                </a:solidFill>
                <a:latin typeface="Arial"/>
                <a:ea typeface="Arial"/>
              </a:rPr>
              <a:t>Bulle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2128"/>
                </a:solidFill>
                <a:latin typeface="Arial"/>
                <a:ea typeface="Arial"/>
              </a:rPr>
              <a:t>Bulle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2435400" y="3400560"/>
            <a:ext cx="13762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2128"/>
                </a:solidFill>
                <a:latin typeface="Arial"/>
                <a:ea typeface="Arial"/>
              </a:rPr>
              <a:t>Bulle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2128"/>
                </a:solidFill>
                <a:latin typeface="Arial"/>
                <a:ea typeface="Arial"/>
              </a:rPr>
              <a:t>Bulle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2128"/>
                </a:solidFill>
                <a:latin typeface="Arial"/>
                <a:ea typeface="Arial"/>
              </a:rPr>
              <a:t>Bulle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3884760" y="3400560"/>
            <a:ext cx="13762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2128"/>
                </a:solidFill>
                <a:latin typeface="Arial"/>
                <a:ea typeface="Arial"/>
              </a:rPr>
              <a:t>Bulle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2128"/>
                </a:solidFill>
                <a:latin typeface="Arial"/>
                <a:ea typeface="Arial"/>
              </a:rPr>
              <a:t>Bulle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2128"/>
                </a:solidFill>
                <a:latin typeface="Arial"/>
                <a:ea typeface="Arial"/>
              </a:rPr>
              <a:t>Bulle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332320" y="3400560"/>
            <a:ext cx="13762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2128"/>
                </a:solidFill>
                <a:latin typeface="Arial"/>
                <a:ea typeface="Arial"/>
              </a:rPr>
              <a:t>Bulle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2128"/>
                </a:solidFill>
                <a:latin typeface="Arial"/>
                <a:ea typeface="Arial"/>
              </a:rPr>
              <a:t>Bulle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2128"/>
                </a:solidFill>
                <a:latin typeface="Arial"/>
                <a:ea typeface="Arial"/>
              </a:rPr>
              <a:t>Bulle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783480" y="3400560"/>
            <a:ext cx="13762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2128"/>
                </a:solidFill>
                <a:latin typeface="Arial"/>
                <a:ea typeface="Arial"/>
              </a:rPr>
              <a:t>Bulle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2128"/>
                </a:solidFill>
                <a:latin typeface="Arial"/>
                <a:ea typeface="Arial"/>
              </a:rPr>
              <a:t>Bulle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2128"/>
                </a:solidFill>
                <a:latin typeface="Arial"/>
                <a:ea typeface="Arial"/>
              </a:rPr>
              <a:t>Bulle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2797920" y="2066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1215720" y="20653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4208040" y="206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5719680" y="2065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6948000" y="2066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2128"/>
                </a:solidFill>
                <a:latin typeface="Arial"/>
              </a:rPr>
              <a:t>Graph (3 Colour)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pic>
        <p:nvPicPr>
          <p:cNvPr id="188" name="Content Placeholder 3" descr=""/>
          <p:cNvPicPr/>
          <p:nvPr/>
        </p:nvPicPr>
        <p:blipFill>
          <a:blip r:embed="rId2"/>
          <a:stretch/>
        </p:blipFill>
        <p:spPr>
          <a:xfrm>
            <a:off x="1031760" y="1562040"/>
            <a:ext cx="7124760" cy="3962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064280" y="64404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e2128"/>
                </a:solidFill>
                <a:latin typeface="Arial"/>
              </a:rPr>
              <a:t>Example of a table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61840" y="1600200"/>
          <a:ext cx="7580160" cy="3441600"/>
        </p:xfrm>
        <a:graphic>
          <a:graphicData uri="http://schemas.openxmlformats.org/drawingml/2006/table">
            <a:tbl>
              <a:tblPr/>
              <a:tblGrid>
                <a:gridCol w="3801960"/>
                <a:gridCol w="3778200"/>
              </a:tblGrid>
              <a:tr h="54756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solidFill>
                      <a:srgbClr val="79b2d0"/>
                    </a:solidFill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solidFill>
                      <a:srgbClr val="79b2d0"/>
                    </a:solidFill>
                  </a:tcPr>
                </a:tc>
              </a:tr>
              <a:tr h="48276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1e2128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1e2128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9"/>
          <p:cNvSpPr/>
          <p:nvPr/>
        </p:nvSpPr>
        <p:spPr>
          <a:xfrm>
            <a:off x="2554200" y="5216400"/>
            <a:ext cx="60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te:  PowerPoint does not allow you to have nice default tables - but you can cut and paste 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e2128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04760" y="3625920"/>
            <a:ext cx="468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e2128"/>
                </a:solidFill>
                <a:latin typeface="Arial"/>
              </a:rPr>
              <a:t>Text and lines are like this</a:t>
            </a:r>
            <a:endParaRPr b="0" lang="en-US" sz="2400" spc="-1" strike="noStrike">
              <a:solidFill>
                <a:srgbClr val="1e2128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79b2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79b2d0"/>
                </a:solidFill>
                <a:uFillTx/>
                <a:latin typeface="Arial"/>
              </a:rPr>
              <a:t>Hyperlinks like this</a:t>
            </a:r>
            <a:endParaRPr b="0" lang="en-US" sz="2400" spc="-1" strike="noStrike">
              <a:solidFill>
                <a:srgbClr val="1e2128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193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193048"/>
                </a:solidFill>
                <a:uFillTx/>
                <a:latin typeface="Arial"/>
              </a:rPr>
              <a:t>Visited hyperlinks like this</a:t>
            </a:r>
            <a:endParaRPr b="0" lang="en-US" sz="2400" spc="-1" strike="noStrike">
              <a:solidFill>
                <a:srgbClr val="1e2128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210360" y="1830240"/>
          <a:ext cx="2182680" cy="1368360"/>
        </p:xfrm>
        <a:graphic>
          <a:graphicData uri="http://schemas.openxmlformats.org/drawingml/2006/table">
            <a:tbl>
              <a:tblPr/>
              <a:tblGrid>
                <a:gridCol w="1092240"/>
                <a:gridCol w="1090440"/>
              </a:tblGrid>
              <a:tr h="685800">
                <a:tc>
                  <a:txBody>
                    <a:bodyPr lIns="72720" rIns="72720" tIns="36360" bIns="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e2128"/>
                          </a:solidFill>
                          <a:latin typeface="Arial"/>
                        </a:rPr>
                        <a:t>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720" marR="7272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noFill/>
                  </a:tcPr>
                </a:tc>
                <a:tc>
                  <a:txBody>
                    <a:bodyPr lIns="72720" rIns="72720" tIns="36360" bIns="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720" marR="7272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72720" rIns="72720" tIns="36360" bIns="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720" marR="7272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noFill/>
                  </a:tcPr>
                </a:tc>
                <a:tc>
                  <a:txBody>
                    <a:bodyPr lIns="72720" rIns="72720" tIns="36360" bIns="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720" marR="72720">
                    <a:lnL w="5760">
                      <a:solidFill>
                        <a:srgbClr val="1e2128"/>
                      </a:solidFill>
                    </a:lnL>
                    <a:lnR w="5760">
                      <a:solidFill>
                        <a:srgbClr val="1e2128"/>
                      </a:solidFill>
                    </a:lnR>
                    <a:lnT w="5760">
                      <a:solidFill>
                        <a:srgbClr val="1e2128"/>
                      </a:solidFill>
                    </a:lnT>
                    <a:lnB w="5760">
                      <a:solidFill>
                        <a:srgbClr val="1e212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15"/>
          <p:cNvSpPr/>
          <p:nvPr/>
        </p:nvSpPr>
        <p:spPr>
          <a:xfrm>
            <a:off x="646200" y="1830240"/>
            <a:ext cx="22320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1e2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3441600" y="1830240"/>
            <a:ext cx="22320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1e2128"/>
            </a:solidFill>
            <a:miter/>
          </a:ln>
          <a:effectLst>
            <a:outerShdw dist="107932" dir="2700000" blurRad="0" rotWithShape="0">
              <a:srgbClr val="2b303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44360" y="525924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9b2d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4" descr="http://www.elixirinteractive.com/LookFeel/elixirinteractive.com/images/headers/brand-awareness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79b2d0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0" lang="zh-CN" sz="3200" spc="-1" strike="noStrike" u="sng">
                  <a:solidFill>
                    <a:srgbClr val="79b2d0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0" lang="en-US" sz="3200" spc="-1" strike="noStrike" u="sng">
                  <a:solidFill>
                    <a:srgbClr val="79b2d0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Owner</cp:lastModifiedBy>
  <cp:lastPrinted>1899-12-30T00:00:00Z</cp:lastPrinted>
  <dcterms:modified xsi:type="dcterms:W3CDTF">2014-05-14T06:16:53Z</dcterms:modified>
  <cp:revision>45</cp:revision>
  <dc:subject/>
  <dc:title>Standard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