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B3A0E-D0E3-4745-B964-4C9EE2FE7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3040" y="0"/>
            <a:ext cx="8502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cf7ff"/>
              </a:solidFill>
              <a:latin typeface="楷体_GB2312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3040" y="1142640"/>
            <a:ext cx="8502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3040" y="3610440"/>
            <a:ext cx="8502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F75E7-F402-4A56-9E8E-059DBCA64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3040" y="0"/>
            <a:ext cx="8502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cf7ff"/>
              </a:solidFill>
              <a:latin typeface="楷体_GB2312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3040" y="1142640"/>
            <a:ext cx="4149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99760" y="1142640"/>
            <a:ext cx="4149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3040" y="3610440"/>
            <a:ext cx="4149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99760" y="3610440"/>
            <a:ext cx="4149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B76B5-EAF1-400B-A1B1-2AD23644F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3040" y="0"/>
            <a:ext cx="8502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cf7ff"/>
              </a:solidFill>
              <a:latin typeface="楷体_GB2312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3040" y="1142640"/>
            <a:ext cx="2737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17640" y="1142640"/>
            <a:ext cx="2737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2600" y="1142640"/>
            <a:ext cx="2737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3040" y="3610440"/>
            <a:ext cx="2737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17640" y="3610440"/>
            <a:ext cx="2737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2600" y="3610440"/>
            <a:ext cx="2737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61ECD-A474-4CE8-9375-8B984E654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022E4-6726-4985-8432-3BCD10E56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43040" y="0"/>
            <a:ext cx="8502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cf7ff"/>
              </a:solidFill>
              <a:latin typeface="楷体_GB2312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743040" y="1142640"/>
            <a:ext cx="850248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AD7AD-156F-4EC9-A19F-0B9111DC0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43040" y="0"/>
            <a:ext cx="8502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cf7ff"/>
              </a:solidFill>
              <a:latin typeface="楷体_GB2312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43040" y="1142640"/>
            <a:ext cx="8502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4289A-8C7B-4B64-A645-8B835F917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43040" y="0"/>
            <a:ext cx="8502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cf7ff"/>
              </a:solidFill>
              <a:latin typeface="楷体_GB2312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43040" y="1142640"/>
            <a:ext cx="4149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99760" y="1142640"/>
            <a:ext cx="4149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03A3F-795F-45F3-9DE7-A6836917A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43040" y="0"/>
            <a:ext cx="8502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cf7ff"/>
              </a:solidFill>
              <a:latin typeface="楷体_GB2312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98C1B-9D1A-48D7-A3ED-1F46C03D0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743040" y="0"/>
            <a:ext cx="85024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7354B-8056-40B2-AA53-5BDE9DC38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43040" y="0"/>
            <a:ext cx="8502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cf7ff"/>
              </a:solidFill>
              <a:latin typeface="楷体_GB2312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43040" y="1142640"/>
            <a:ext cx="4149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99760" y="1142640"/>
            <a:ext cx="4149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743040" y="3610440"/>
            <a:ext cx="4149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A15F1-8AE6-4732-9F9F-AAFECCA0B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3040" y="0"/>
            <a:ext cx="8502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cf7ff"/>
              </a:solidFill>
              <a:latin typeface="楷体_GB2312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3040" y="1142640"/>
            <a:ext cx="850248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C0C64-731C-4132-A99E-DA643D470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43040" y="0"/>
            <a:ext cx="8502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cf7ff"/>
              </a:solidFill>
              <a:latin typeface="楷体_GB2312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43040" y="1142640"/>
            <a:ext cx="4149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99760" y="1142640"/>
            <a:ext cx="4149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99760" y="3610440"/>
            <a:ext cx="4149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56361-85E0-423A-9C00-CF66098BC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43040" y="0"/>
            <a:ext cx="8502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cf7ff"/>
              </a:solidFill>
              <a:latin typeface="楷体_GB2312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43040" y="1142640"/>
            <a:ext cx="4149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99760" y="1142640"/>
            <a:ext cx="4149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43040" y="3610440"/>
            <a:ext cx="8502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646D0-AABA-4635-87F7-8553CBEBB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43040" y="0"/>
            <a:ext cx="8502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cf7ff"/>
              </a:solidFill>
              <a:latin typeface="楷体_GB2312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43040" y="1142640"/>
            <a:ext cx="8502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43040" y="3610440"/>
            <a:ext cx="8502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F7281-B6DC-495A-87C0-E18673D65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43040" y="0"/>
            <a:ext cx="8502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cf7ff"/>
              </a:solidFill>
              <a:latin typeface="楷体_GB2312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43040" y="1142640"/>
            <a:ext cx="4149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99760" y="1142640"/>
            <a:ext cx="4149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43040" y="3610440"/>
            <a:ext cx="4149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99760" y="3610440"/>
            <a:ext cx="4149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936CE-3956-43DE-AB82-BD35BBA00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43040" y="0"/>
            <a:ext cx="8502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cf7ff"/>
              </a:solidFill>
              <a:latin typeface="楷体_GB2312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43040" y="1142640"/>
            <a:ext cx="2737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17640" y="1142640"/>
            <a:ext cx="2737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492600" y="1142640"/>
            <a:ext cx="2737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743040" y="3610440"/>
            <a:ext cx="2737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17640" y="3610440"/>
            <a:ext cx="2737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492600" y="3610440"/>
            <a:ext cx="2737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8C20F-06FE-4E74-B331-BA5D259BD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3040" y="0"/>
            <a:ext cx="8502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cf7ff"/>
              </a:solidFill>
              <a:latin typeface="楷体_GB2312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3040" y="1142640"/>
            <a:ext cx="8502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7C632-00CE-410E-BA5E-1881FF95E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3040" y="0"/>
            <a:ext cx="8502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cf7ff"/>
              </a:solidFill>
              <a:latin typeface="楷体_GB2312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3040" y="1142640"/>
            <a:ext cx="4149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99760" y="1142640"/>
            <a:ext cx="4149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4EC11-9560-48F1-8ACC-01221929C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3040" y="0"/>
            <a:ext cx="8502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cf7ff"/>
              </a:solidFill>
              <a:latin typeface="楷体_GB2312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D3061-50EF-40CF-B60A-351CF1D70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3040" y="0"/>
            <a:ext cx="85024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D9A9C-F60A-4CF4-A550-4C91CB04D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3040" y="0"/>
            <a:ext cx="8502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cf7ff"/>
              </a:solidFill>
              <a:latin typeface="楷体_GB2312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3040" y="1142640"/>
            <a:ext cx="4149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99760" y="1142640"/>
            <a:ext cx="4149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3040" y="3610440"/>
            <a:ext cx="4149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C2BAE-DE96-40ED-9C10-E3AC0EF00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3040" y="0"/>
            <a:ext cx="8502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cf7ff"/>
              </a:solidFill>
              <a:latin typeface="楷体_GB2312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3040" y="1142640"/>
            <a:ext cx="4149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99760" y="1142640"/>
            <a:ext cx="4149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99760" y="3610440"/>
            <a:ext cx="4149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33E5B-1F09-4DF2-A71F-0042F6069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3040" y="0"/>
            <a:ext cx="8502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cf7ff"/>
              </a:solidFill>
              <a:latin typeface="楷体_GB2312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3040" y="1142640"/>
            <a:ext cx="4149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99760" y="1142640"/>
            <a:ext cx="4149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3040" y="3610440"/>
            <a:ext cx="8502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767E1-76FA-423E-AF05-872E88377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3040" y="0"/>
            <a:ext cx="8502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f7ff"/>
                </a:solidFill>
                <a:latin typeface="楷体_GB2312"/>
              </a:rPr>
              <a:t>Click to edit the title text format</a:t>
            </a:r>
            <a:endParaRPr b="0" lang="en-US" sz="3600" spc="-1" strike="noStrike">
              <a:solidFill>
                <a:srgbClr val="fcf7ff"/>
              </a:solidFill>
              <a:latin typeface="楷体_GB2312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3040" y="1142640"/>
            <a:ext cx="8502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019920"/>
            <a:ext cx="206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66800" y="6019920"/>
            <a:ext cx="31366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182000" y="6019920"/>
            <a:ext cx="206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C63AF-7374-4B03-B559-AF6871A3E4ED}" type="slidenum">
              <a:rPr b="1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43040" y="0"/>
            <a:ext cx="8502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f7ff"/>
                </a:solidFill>
                <a:latin typeface="楷体_GB2312"/>
              </a:rPr>
              <a:t>Click to edit the title text format</a:t>
            </a:r>
            <a:endParaRPr b="0" lang="en-US" sz="3600" spc="-1" strike="noStrike">
              <a:solidFill>
                <a:srgbClr val="fcf7ff"/>
              </a:solidFill>
              <a:latin typeface="楷体_GB2312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43040" y="1142640"/>
            <a:ext cx="8502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53880" y="594360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5283360" y="5943600"/>
            <a:ext cx="2311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759800" y="5943600"/>
            <a:ext cx="1898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3E43F-8BAD-44C4-8B90-4655FEC32DC2}" type="slidenum">
              <a:rPr b="1" lang="zh-CN" sz="12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210200" y="380520"/>
            <a:ext cx="544824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cf7ff"/>
              </a:solidFill>
              <a:latin typeface="楷体_GB2312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210200" y="2590920"/>
            <a:ext cx="5448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华文宋体"/>
            </a:endParaRPr>
          </a:p>
        </p:txBody>
      </p:sp>
      <p:sp>
        <p:nvSpPr>
          <p:cNvPr id="84" name=""/>
          <p:cNvSpPr/>
          <p:nvPr/>
        </p:nvSpPr>
        <p:spPr>
          <a:xfrm>
            <a:off x="7836840" y="647712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43040" y="0"/>
            <a:ext cx="8502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cf7ff"/>
              </a:solidFill>
              <a:latin typeface="楷体_GB2312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743040" y="1142640"/>
            <a:ext cx="8502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898280" y="5257800"/>
            <a:ext cx="56332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e1b7d0"/>
                </a:solidFill>
                <a:uFillTx/>
                <a:latin typeface="华文新魏"/>
                <a:ea typeface="华文新魏"/>
                <a:hlinkClick r:id="rId2"/>
              </a:rPr>
              <a:t>PPT之家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整理发布，更多免费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PPT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www.eeppt.c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"/>
          <p:cNvGrpSpPr/>
          <p:nvPr/>
        </p:nvGrpSpPr>
        <p:grpSpPr>
          <a:xfrm>
            <a:off x="0" y="0"/>
            <a:ext cx="9172440" cy="6858000"/>
            <a:chOff x="0" y="0"/>
            <a:chExt cx="9172440" cy="6858000"/>
          </a:xfrm>
        </p:grpSpPr>
        <p:sp>
          <p:nvSpPr>
            <p:cNvPr id="89" name="矩形 4"/>
            <p:cNvSpPr/>
            <p:nvPr/>
          </p:nvSpPr>
          <p:spPr>
            <a:xfrm>
              <a:off x="9075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90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917244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TextBox 7"/>
            <p:cNvSpPr/>
            <p:nvPr/>
          </p:nvSpPr>
          <p:spPr>
            <a:xfrm rot="20926800">
              <a:off x="2080080" y="3572280"/>
              <a:ext cx="505656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e1b7d0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e1b7d0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e1b7d0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17:15:01Z</dcterms:created>
  <dc:creator/>
  <dc:description/>
  <dc:language>en-US</dc:language>
  <cp:lastModifiedBy>秋叶</cp:lastModifiedBy>
  <cp:lastPrinted>1899-12-30T00:00:00Z</cp:lastPrinted>
  <dcterms:modified xsi:type="dcterms:W3CDTF">2014-05-15T14:18:06Z</dcterms:modified>
  <cp:revision>5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  <property fmtid="{D5CDD505-2E9C-101B-9397-08002B2CF9AE}" pid="3" name="_TemplateID">
    <vt:lpwstr>TC010721382052</vt:lpwstr>
  </property>
</Properties>
</file>