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04A-6EF0-4C5F-AEE2-08C864A3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498-FF25-47F3-AAC9-63DCEF56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AC6-DAFD-45E7-855B-D9D4F612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123-1E12-4480-B698-3D29D3FD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E84-F3C1-4AA8-B3B5-1A6E12AB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CC5-B50C-4ED2-8156-6151ED0C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E12-D571-4D61-A3E9-E97BCDB8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9EE-7BBF-4100-8728-2934BDD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492-AFFB-49B6-936C-E493E6DC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A3F-C7B8-40A7-91E9-F2051625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46D-DC8E-4DEE-8045-9B74E27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446-036B-4710-A562-8FCED52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usiness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76C-E09A-4C08-84C5-23CD640DE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usiness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0360" y="6435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54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3:14:34Z</dcterms:created>
  <dc:creator/>
  <dc:description/>
  <dc:language>en-US</dc:language>
  <cp:lastModifiedBy>echo</cp:lastModifiedBy>
  <cp:lastPrinted>1899-12-30T00:00:00Z</cp:lastPrinted>
  <dcterms:modified xsi:type="dcterms:W3CDTF">2014-06-02T14:52:4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