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AE9-10FE-4A3A-B982-BF1EDD1B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770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2720" y="3427920"/>
            <a:ext cx="770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43C-2D24-4FD7-AC8D-E0DA2C7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272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48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CB0-F861-4141-B6CB-4EBE650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7680" y="106380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2280" y="106380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2720" y="342792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7680" y="342792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2280" y="342792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66C-F410-45D7-8A63-DF1EB59D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E708-1C42-4E45-84DD-6514A90F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2720" y="10638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E167-0BF2-482D-A06C-41896F4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422D-BEA7-45FB-B8E3-B9C8FD89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A928-4875-4447-83F2-E39EC24D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83CE-D34B-4694-B415-69EC5CCF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187200"/>
            <a:ext cx="77040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ED5F-7B00-4171-AED5-0CF18D3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272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6EAC-8F51-4E62-9825-B640886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2720" y="10638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67C-E00D-4DFA-A314-B66ABBC9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048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D46E-3293-42C1-AF90-ED2A343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2720" y="3427920"/>
            <a:ext cx="770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35DD-8C35-4E14-9014-8DB9B6A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770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2720" y="3427920"/>
            <a:ext cx="770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E131-C845-4BF4-AD51-EFD1EA00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272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048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AB4-1FA2-4A63-ACF4-60E430F8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7680" y="106380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2280" y="106380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2720" y="342792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7680" y="342792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2280" y="342792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9625-7C25-4C68-8224-2AD642A0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DDC-C471-4A0A-B73E-775CD8C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9A6-6A43-453B-9E5F-1C13A27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FC6-3ED6-4DFD-8296-BDA099FD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187200"/>
            <a:ext cx="77040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329-5F45-45BC-8EE8-E597084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272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C34-9A11-4892-8E73-FE572A08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480" y="342792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4B2-C9E0-4F2A-849C-10BF438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480" y="106380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2720" y="3427920"/>
            <a:ext cx="770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A5C-B6BF-4420-B316-B01C239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2720" y="10638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57E9-0DA5-471D-B21F-3FDDA39488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52578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D77-A60F-45FB-83E4-3940150917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38163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3640" y="2491920"/>
            <a:ext cx="3816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79640" y="3141720"/>
            <a:ext cx="228924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4943520" y="1889280"/>
            <a:ext cx="955800" cy="3999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918040" y="1889280"/>
            <a:ext cx="955800" cy="3999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6891480" y="1889280"/>
            <a:ext cx="955440" cy="39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7864560" y="1889280"/>
            <a:ext cx="955440" cy="399960"/>
          </a:xfrm>
          <a:prstGeom prst="rect">
            <a:avLst/>
          </a:prstGeom>
          <a:solidFill>
            <a:srgbClr val="cc8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968640" y="1884240"/>
            <a:ext cx="954360" cy="400320"/>
          </a:xfrm>
          <a:prstGeom prst="rect">
            <a:avLst/>
          </a:prstGeom>
          <a:solidFill>
            <a:srgbClr val="e20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298620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201456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104292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1392120" y="4822920"/>
            <a:ext cx="414360" cy="785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2057400" y="4465800"/>
            <a:ext cx="41292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2720880" y="4179960"/>
            <a:ext cx="414360" cy="1428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3386160" y="3822840"/>
            <a:ext cx="412560" cy="1785960"/>
          </a:xfrm>
          <a:prstGeom prst="rect">
            <a:avLst/>
          </a:prstGeom>
          <a:solidFill>
            <a:srgbClr val="cc8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4049640" y="3465360"/>
            <a:ext cx="428760" cy="2143440"/>
          </a:xfrm>
          <a:prstGeom prst="rect">
            <a:avLst/>
          </a:prstGeom>
          <a:solidFill>
            <a:srgbClr val="e20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472932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129384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19796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290520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905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100980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488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592596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88644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785484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100980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856120" y="3098880"/>
            <a:ext cx="2598480" cy="2522160"/>
            <a:chOff x="5856120" y="3098880"/>
            <a:chExt cx="2598480" cy="2522160"/>
          </a:xfrm>
        </p:grpSpPr>
        <p:sp>
          <p:nvSpPr>
            <p:cNvPr id="112" name="未知"/>
            <p:cNvSpPr/>
            <p:nvPr/>
          </p:nvSpPr>
          <p:spPr>
            <a:xfrm>
              <a:off x="6012720" y="3098880"/>
              <a:ext cx="135324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98765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691812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ec064"/>
                </a:gs>
                <a:gs pos="100000">
                  <a:srgbClr val="ff99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5856120" y="4088520"/>
              <a:ext cx="1191240" cy="13363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cc8800"/>
                </a:gs>
                <a:gs pos="100000">
                  <a:srgbClr val="e7c98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247160" y="3274920"/>
              <a:ext cx="120744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ba9854"/>
                </a:gs>
                <a:gs pos="100000">
                  <a:srgbClr val="9966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770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2720" y="10638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84360" y="3500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7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1162080" y="421488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7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"/>
          <p:cNvSpPr/>
          <p:nvPr/>
        </p:nvSpPr>
        <p:spPr>
          <a:xfrm>
            <a:off x="114552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99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9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9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9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46:04Z</dcterms:created>
  <dc:creator/>
  <dc:description/>
  <dc:language>en-US</dc:language>
  <cp:lastModifiedBy>GHOST</cp:lastModifiedBy>
  <cp:lastPrinted>1899-12-30T00:00:00Z</cp:lastPrinted>
  <dcterms:modified xsi:type="dcterms:W3CDTF">2014-05-21T04:28:16Z</dcterms:modified>
  <cp:revision>3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