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08000" y="189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的地球 我们的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08000" y="83664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低碳生活 做时尚环保达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669080" y="638172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forest gre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668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2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现在大家都崇尚低碳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最近总会发现身边的人有了些微的变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每次回家坐电梯的人变得少起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反而公车比以前是越来越拥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来到公司 今天也没开空调改吹风扇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我还不能理解的时候 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</a:rPr>
              <a:t>‘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低碳生活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</a:rPr>
              <a:t>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这个新概念在我生活中 渐渐落下种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现在大家都崇尚低碳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低碳生活虽然是一个新概念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但是他的核心却是可持续发展 这个年年都要被搬上桌面来讨论的经典话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它反应了全球变暖 南北极消融 海平面上升 这个恶性循环的气候变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使的人们  对未来产生了担忧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并且已经达到世界的共识  低碳的理念也被世界所接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开始要尽快淘汰掉高耗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高污染的生产单位推进节能的科技创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现在大家都崇尚低碳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听起来似乎很遥远  但是其实落实到每个人身上的时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低碳生活变得是那样的简单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它对于我们来说是一种生活态度 而不是一种能力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只要我们积极参与 在生活的小事中去实现低碳的理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注意节点节水 也是可以为环境的保护出一份力的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据统计在中国 年人均的二氧化碳的排放量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吨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仅一个白领 假设他只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平的房子 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.6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汽车上下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一年乘飞机只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次 碳恩哒排放量也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.6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由此看来个人的节能也同样势在必行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当我们面对全球气候环境的急剧恶化 我们必须强力推行主张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以减低和控制二氧化碳排放为主流的生活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5840" y="6300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现在大家都崇尚低碳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当然低碳并不代表 要使自己原始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有的人会认为  低碳生活的实施会使生活品质降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回到那个没有汽车没有空调的年代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当然 不吹空调 不开私家车我很赞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但是平时我们只要从小事做起  就可以在享受的同时也节能的效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今天起把灯泡换成节能的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空调的温度开低两度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减少看电视的时间  平时没事多看看书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还可以把洗脸水留下来 冲马桶。。。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只要这一点点改变 你就可以加入低碳族的行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成为一个环保人士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为整个地球的保护除了一份力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我们都将感到自豪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-101520" y="5734080"/>
            <a:ext cx="91375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倡导保护环境，以提高环境质量为目标，坚持“低碳”好习惯以减少二氧化碳等气体排放的节能环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229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80808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锐普PPT</cp:lastModifiedBy>
  <cp:lastPrinted>1899-12-30T00:00:00Z</cp:lastPrinted>
  <dcterms:modified xsi:type="dcterms:W3CDTF">2014-06-07T07:22:35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