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1C73-E94F-4570-8FA8-184ECBCB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32000" y="396432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6DA9-F340-4E9B-98F4-68CE5B64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3968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7E8-DA3F-4CCE-8BC2-BBF296D2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1468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700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3200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1468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700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532F-F5F6-406A-B54D-43DA0F40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45AD-64FB-41E6-BF06-8F008738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D324-589E-41B5-BED7-0C1E6050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BB33-FE97-4225-9D28-19A13F2B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7BDC-D693-41DF-9D22-A22B9F59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595B-B707-409C-89A5-0683D306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32000" y="274320"/>
            <a:ext cx="64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A770-8EAD-4218-9FD6-E7A2CE5D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4341-DC32-4D43-BEF9-435D8CCA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AC5B-72DE-416C-B899-504A8EC6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3968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6790-E0BB-4ED7-A68D-B2AB55E6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7A26-BEFF-4425-95DE-7798E75A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32000" y="396432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3F79-1F9F-4429-8631-A538D962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3968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23F6-A256-4E93-9FCA-B6FD29BF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468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700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3200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1468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700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08CA-C3C1-4C7D-873E-000FC0B8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E71C5-4626-4CA2-87E3-8A53C070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FD624-A3EB-4BC6-8B63-F79A3D64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EA039-2D6C-41D4-B63F-F70B84BC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96592-DDB4-4497-9094-950CC4B9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CC075-E0B9-4504-BCFB-AB8428C1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B1E-C790-4F42-8C5E-16F53DC8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32000" y="274320"/>
            <a:ext cx="64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0768C-78D2-49BE-923D-812B821F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A002A-3BB0-4C5F-8E74-D75039BC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3968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E2381-0CB6-4E98-8D9B-FCE4665A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1053F-20F3-4611-B440-ABD724B2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32000" y="396432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FE487-A074-4C00-B0A0-750DD093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3968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5D773-264D-4BCB-9A14-313B1BA1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1468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9700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3200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41468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9700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72573-1E92-4F7C-90BE-605B5710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DAADD-6442-4CAF-93FA-AD96CC01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7DDD6-23DB-4AC1-8383-C83A5BA7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3B391-AF5A-45A2-93CA-49C4CDDE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873-686A-4C8E-9F36-AC8ACA77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DA258-6E00-487C-8158-6DDBB7F7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2D93C-5C17-4C6B-A407-8EB9BF17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32000" y="274320"/>
            <a:ext cx="64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FC2CD-6884-4669-BF73-1EBFFECA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82697-87A8-4FE7-8C0C-BFAA64C5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53968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37AA5-FF3D-4C36-9F48-4DF103DA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98443-6641-4D54-A873-038248E0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232000" y="396432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E3860-CE03-41D1-8C09-4174934B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53968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576B1-8678-4D22-96E6-A22058E4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1468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9700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23200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41468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9700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35F93-F615-405F-9777-6497C319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8B22F-7987-4CE5-8B2A-586A555C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BC7-2620-4CFF-99E9-544917E7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393A4-CD9C-4B7B-9724-0516DB55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8A576-433A-49E2-B3C0-B160AA0A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54F0C-E65F-4047-A1AD-F5B0C80A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43FB5-60B2-44B1-88B6-0FB32F81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32000" y="274320"/>
            <a:ext cx="64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A357C-2EA5-4B66-9057-1DAA152B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0DB08-E7B8-4210-9CAF-5FDF79BE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53968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37626-3346-4217-817C-904F9B21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A3CF8-8156-4829-BB47-3B8FCCC8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232000" y="396432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F4E6C-46E6-4F7C-8F39-CE7E8C1B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53968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737EC-3041-4125-863C-BB077309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32000" y="274320"/>
            <a:ext cx="64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8935-8804-4D75-A4DE-BCCE10DE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41468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9700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223200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41468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9700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A179D-4CD0-4F8B-8D09-DE3B4DB1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859-8969-4F95-8E05-59420078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3968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3A45-7BFF-454A-8382-DC22EC61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BD34-5DE9-45B6-A1B1-F3BDEC98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D618-F934-4916-A34C-2E10F72A2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7AAE-EAFD-4BF7-AAEC-32203AA47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3718080" y="728280"/>
            <a:ext cx="51624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710C-3E95-401D-8F82-03B6FC3FC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87A0-7DCD-470E-9AC2-6F943ADE6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37FB-923B-44F0-9D49-16D67E148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3718080" y="728280"/>
            <a:ext cx="51624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38120" y="7617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038120" y="1752120"/>
            <a:ext cx="4800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206" name=""/>
          <p:cNvSpPr/>
          <p:nvPr/>
        </p:nvSpPr>
        <p:spPr>
          <a:xfrm>
            <a:off x="74880" y="630864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3" name=""/>
          <p:cNvSpPr/>
          <p:nvPr/>
        </p:nvSpPr>
        <p:spPr>
          <a:xfrm>
            <a:off x="28800" y="635472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663200" y="644508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1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21:35:02Z</dcterms:created>
  <dc:creator/>
  <dc:description/>
  <dc:language>en-US</dc:language>
  <cp:lastModifiedBy>eclipse</cp:lastModifiedBy>
  <cp:lastPrinted>1899-12-30T00:00:00Z</cp:lastPrinted>
  <dcterms:modified xsi:type="dcterms:W3CDTF">2014-05-24T09:15:2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