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BCF1-4536-4AC8-84FC-79508A74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9736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60C9-6995-4E95-A239-1998E230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973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973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B6B1-3403-4784-B3DF-17171DB4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855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855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973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973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973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CF3B-C202-495E-BF8E-465C644E5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54B9-DA8C-4278-88FB-A1C26B05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7D4A-4779-435D-BBF1-D552C6F1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EEE7-E381-40B9-BE4D-8D1459F5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59AB-A4A2-4C5C-B9CE-2DA308A6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D82A-FD7D-4CC1-B4B8-4629DD6E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0720" y="713880"/>
            <a:ext cx="822960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0DC5-3251-4CED-BB04-D2D79DB4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973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0AE2-F6C1-4514-8490-99B2AB69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1FF3-5273-47FE-9739-9BC9E93A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8973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64DD-F8CB-4EF3-B221-B912CA68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9736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E2BF-7F25-4B23-9EFD-42C05F01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89736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1E64-CCB4-4A26-BEAF-8177CCB7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973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8973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A3A9-670E-4A4B-9786-443CB6084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2855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2855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8973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8973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8973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3D64-069E-4871-A810-2B7308A3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AC47D-49BD-4021-853A-32017DCA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22D71-1FDD-4F00-8284-FCA707BC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ECBA7-737C-44AD-BA11-A239EC61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841C3-FD6F-47F2-9369-E821C6FD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8FCCA-6DBF-4378-9324-2FD6C53B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B219-2EA1-4C64-8425-C9719C20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0720" y="713880"/>
            <a:ext cx="822960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D15F7-CA77-424A-995D-9739411A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973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834E2-ECF1-4F51-90E0-0E12B1F3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8973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B2D17-7181-4555-9015-6978B771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9736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8EA01-5656-45DD-9EA5-E00E4D37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89736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044CE-79CB-4610-8C25-10A756A6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973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8973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F6714-302D-473D-9777-C32A934DC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2855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2855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8973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8973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8973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AA159-81F4-44DB-AEB5-D3C04BC87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37A65-A8C9-4F30-80F7-FB04AA19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A0E3F-D194-48E3-AF1A-DF327E93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C54A7-8F14-47EB-9E0D-C81D4721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AA6F-0082-4A67-B4A3-3B56C36E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A89B9-B82E-4D1B-B7B3-BE714DF6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6C189-393C-469A-BED8-8792A743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0720" y="713880"/>
            <a:ext cx="822960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5A85C-668F-4F92-AFCB-B1138734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73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38FB9-4FC6-4780-96F3-7A622FF1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8973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ECBC7-D59E-4957-BF43-EA0369DE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89736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0CAF6-B0BE-457B-B546-54BA16C8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89736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C1D85-C8F3-406D-A97D-85113A9F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973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8973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BE3A2-9110-4FC4-A97E-3029B33A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2855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2855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8973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8973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89736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A6536-0457-4B5B-98D0-00D343DBF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BAED-382A-43BC-8DB3-0F624A46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0720" y="713880"/>
            <a:ext cx="822960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C8AC-6C2C-404C-B9DD-F2785095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973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A1A4-4BC4-4FBF-89CE-BBC661FE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973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427C-63EF-42F5-B0E1-A13222A6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8556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9736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9EAA-5C0F-4591-90BF-AFE1CD68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内页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0720" y="71388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530d"/>
                </a:solidFill>
                <a:latin typeface="华文细黑"/>
              </a:rPr>
              <a:t>Click to edit the title text format</a:t>
            </a: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5530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Click to edit the outline text format</a:t>
            </a: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  <a:p>
            <a:pPr lvl="1" marL="743040" indent="-285840">
              <a:spcBef>
                <a:spcPts val="649"/>
              </a:spcBef>
              <a:buClr>
                <a:srgbClr val="35530d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Second Outline Level</a:t>
            </a: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  <a:p>
            <a:pPr lvl="2" marL="1143000" indent="-228600">
              <a:spcBef>
                <a:spcPts val="649"/>
              </a:spcBef>
              <a:buClr>
                <a:srgbClr val="35530d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Third Outline Level</a:t>
            </a: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  <a:p>
            <a:pPr lvl="3" marL="1600200" indent="-228600">
              <a:spcBef>
                <a:spcPts val="649"/>
              </a:spcBef>
              <a:buClr>
                <a:srgbClr val="35530d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Fourth Outline Level</a:t>
            </a: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  <a:p>
            <a:pPr lvl="4" marL="2057400" indent="-228600">
              <a:spcBef>
                <a:spcPts val="649"/>
              </a:spcBef>
              <a:buClr>
                <a:srgbClr val="35530d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Fifth Outline Level</a:t>
            </a: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  <a:p>
            <a:pPr lvl="5" marL="2057400" indent="-228600">
              <a:spcBef>
                <a:spcPts val="649"/>
              </a:spcBef>
              <a:buClr>
                <a:srgbClr val="26262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Sixth Outline Level</a:t>
            </a: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  <a:p>
            <a:pPr lvl="6" marL="2057400" indent="-228600">
              <a:spcBef>
                <a:spcPts val="649"/>
              </a:spcBef>
              <a:buClr>
                <a:srgbClr val="26262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Seventh Outline Level</a:t>
            </a: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EF4E-0D46-45B4-BA3A-88FDDF68717C}" type="slidenum">
              <a:rPr b="0" lang="zh-CN" sz="1200" spc="-1" strike="noStrike">
                <a:solidFill>
                  <a:srgbClr val="8d8d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7" descr="首页副本22.png"/>
          <p:cNvPicPr/>
          <p:nvPr/>
        </p:nvPicPr>
        <p:blipFill>
          <a:blip r:embed="rId2"/>
          <a:srcRect l="50002" t="45835" r="0" b="19793"/>
          <a:stretch/>
        </p:blipFill>
        <p:spPr>
          <a:xfrm>
            <a:off x="4572000" y="3143160"/>
            <a:ext cx="4572000" cy="2357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BD52-62F5-497B-B811-C74D8BC4A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图片 8" descr="首页副本.png"/>
          <p:cNvPicPr/>
          <p:nvPr/>
        </p:nvPicPr>
        <p:blipFill>
          <a:blip r:embed="rId3"/>
          <a:srcRect l="0" t="0" r="0" b="89588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0" y="0"/>
            <a:ext cx="9144000" cy="6855840"/>
            <a:chOff x="0" y="0"/>
            <a:chExt cx="9144000" cy="6855840"/>
          </a:xfrm>
        </p:grpSpPr>
        <p:grpSp>
          <p:nvGrpSpPr>
            <p:cNvPr id="48" name=""/>
            <p:cNvGrpSpPr/>
            <p:nvPr/>
          </p:nvGrpSpPr>
          <p:grpSpPr>
            <a:xfrm>
              <a:off x="0" y="2214720"/>
              <a:ext cx="9144000" cy="4641120"/>
              <a:chOff x="0" y="2214720"/>
              <a:chExt cx="9144000" cy="464112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4572000" y="4071600"/>
                <a:ext cx="4571280" cy="1713960"/>
                <a:chOff x="4572000" y="4071600"/>
                <a:chExt cx="4571280" cy="1713960"/>
              </a:xfrm>
            </p:grpSpPr>
            <p:pic>
              <p:nvPicPr>
                <p:cNvPr id="50" name="图片 13" descr="2.png"/>
                <p:cNvPicPr/>
                <p:nvPr/>
              </p:nvPicPr>
              <p:blipFill>
                <a:blip r:embed="rId4"/>
                <a:srcRect l="50782" t="63546" r="0" b="15625"/>
                <a:stretch/>
              </p:blipFill>
              <p:spPr>
                <a:xfrm>
                  <a:off x="4643640" y="4357080"/>
                  <a:ext cx="4499640" cy="1428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" name="图片 15" descr="6.png"/>
                <p:cNvPicPr/>
                <p:nvPr/>
              </p:nvPicPr>
              <p:blipFill>
                <a:blip r:embed="rId5"/>
                <a:srcRect l="50002" t="59379" r="31251" b="25001"/>
                <a:stretch/>
              </p:blipFill>
              <p:spPr>
                <a:xfrm>
                  <a:off x="4572000" y="4071600"/>
                  <a:ext cx="1713960" cy="1071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2" name=""/>
              <p:cNvGrpSpPr/>
              <p:nvPr/>
            </p:nvGrpSpPr>
            <p:grpSpPr>
              <a:xfrm>
                <a:off x="0" y="2214720"/>
                <a:ext cx="9144000" cy="4641120"/>
                <a:chOff x="0" y="2214720"/>
                <a:chExt cx="9144000" cy="4641120"/>
              </a:xfrm>
            </p:grpSpPr>
            <p:pic>
              <p:nvPicPr>
                <p:cNvPr id="53" name="图片 10" descr="首页副 本.png"/>
                <p:cNvPicPr/>
                <p:nvPr/>
              </p:nvPicPr>
              <p:blipFill>
                <a:blip r:embed="rId6"/>
                <a:srcRect l="0" t="32296" r="47657" b="18752"/>
                <a:stretch/>
              </p:blipFill>
              <p:spPr>
                <a:xfrm>
                  <a:off x="0" y="2214720"/>
                  <a:ext cx="4786560" cy="33562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4" name=""/>
                <p:cNvGrpSpPr/>
                <p:nvPr/>
              </p:nvGrpSpPr>
              <p:grpSpPr>
                <a:xfrm>
                  <a:off x="0" y="3285360"/>
                  <a:ext cx="9144000" cy="3570480"/>
                  <a:chOff x="0" y="3285360"/>
                  <a:chExt cx="9144000" cy="3570480"/>
                </a:xfrm>
              </p:grpSpPr>
              <p:pic>
                <p:nvPicPr>
                  <p:cNvPr id="55" name="图片 11" descr="首页副本.png"/>
                  <p:cNvPicPr/>
                  <p:nvPr/>
                </p:nvPicPr>
                <p:blipFill>
                  <a:blip r:embed="rId7"/>
                  <a:srcRect l="0" t="79172" r="0" b="0"/>
                  <a:stretch/>
                </p:blipFill>
                <p:spPr>
                  <a:xfrm>
                    <a:off x="0" y="5427720"/>
                    <a:ext cx="9144000" cy="142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6" name="图片 12" descr="首页 副本.png"/>
                  <p:cNvPicPr/>
                  <p:nvPr/>
                </p:nvPicPr>
                <p:blipFill>
                  <a:blip r:embed="rId8"/>
                  <a:srcRect l="0" t="89588" r="0" b="0"/>
                  <a:stretch/>
                </p:blipFill>
                <p:spPr>
                  <a:xfrm>
                    <a:off x="0" y="5427720"/>
                    <a:ext cx="9144000" cy="71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7" name="图片 16" descr="1.png"/>
                  <p:cNvPicPr/>
                  <p:nvPr/>
                </p:nvPicPr>
                <p:blipFill>
                  <a:blip r:embed="rId9"/>
                  <a:srcRect l="50782" t="47921" r="3906" b="15625"/>
                  <a:stretch/>
                </p:blipFill>
                <p:spPr>
                  <a:xfrm>
                    <a:off x="4643640" y="3285360"/>
                    <a:ext cx="4143240" cy="24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pic>
          <p:nvPicPr>
            <p:cNvPr id="58" name="图片 9" descr="首页 副本.png"/>
            <p:cNvPicPr/>
            <p:nvPr/>
          </p:nvPicPr>
          <p:blipFill>
            <a:blip r:embed="rId10"/>
            <a:srcRect l="0" t="0" r="0" b="89588"/>
            <a:stretch/>
          </p:blipFill>
          <p:spPr>
            <a:xfrm>
              <a:off x="0" y="0"/>
              <a:ext cx="9144000" cy="71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" name="图片 14" descr="3.png"/>
          <p:cNvPicPr/>
          <p:nvPr/>
        </p:nvPicPr>
        <p:blipFill>
          <a:blip r:embed="rId11"/>
          <a:srcRect l="46876" t="46875" r="28125" b="18752"/>
          <a:stretch/>
        </p:blipFill>
        <p:spPr>
          <a:xfrm>
            <a:off x="4286160" y="3214800"/>
            <a:ext cx="2286000" cy="23572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4"/>
          <p:cNvSpPr>
            <a:spLocks noGrp="1"/>
          </p:cNvSpPr>
          <p:nvPr>
            <p:ph type="title"/>
          </p:nvPr>
        </p:nvSpPr>
        <p:spPr>
          <a:xfrm>
            <a:off x="9000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5530d"/>
                </a:solidFill>
                <a:latin typeface="华文细黑"/>
              </a:rPr>
              <a:t>Click to edit the title text format</a:t>
            </a:r>
            <a:endParaRPr b="1" lang="en-US" sz="3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5530d"/>
                </a:solidFill>
                <a:latin typeface="华文细黑"/>
              </a:rPr>
              <a:t>Click to edit the outline text format</a:t>
            </a: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530d"/>
                </a:solidFill>
                <a:latin typeface="华文细黑"/>
              </a:rPr>
              <a:t>Second Outline Level</a:t>
            </a:r>
            <a:endParaRPr b="0" lang="en-US" sz="2400" spc="-1" strike="noStrike">
              <a:solidFill>
                <a:srgbClr val="35530d"/>
              </a:solidFill>
              <a:latin typeface="华文细黑"/>
            </a:endParaRPr>
          </a:p>
          <a:p>
            <a:pPr lvl="2" marL="914400" algn="ctr">
              <a:spcBef>
                <a:spcPts val="499"/>
              </a:spcBef>
              <a:buClr>
                <a:srgbClr val="35530d"/>
              </a:buClr>
              <a:buSzPct val="80000"/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530d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35530d"/>
              </a:solidFill>
              <a:latin typeface="华文细黑"/>
            </a:endParaRPr>
          </a:p>
          <a:p>
            <a:pPr lvl="3" marL="1371600" algn="ctr">
              <a:spcBef>
                <a:spcPts val="349"/>
              </a:spcBef>
              <a:buClr>
                <a:srgbClr val="35530d"/>
              </a:buClr>
              <a:buSzPct val="80000"/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5530d"/>
                </a:solidFill>
                <a:latin typeface="华文细黑"/>
              </a:rPr>
              <a:t>Fourth Outline Level</a:t>
            </a:r>
            <a:endParaRPr b="0" lang="en-US" sz="1400" spc="-1" strike="noStrike">
              <a:solidFill>
                <a:srgbClr val="35530d"/>
              </a:solidFill>
              <a:latin typeface="华文细黑"/>
            </a:endParaRPr>
          </a:p>
          <a:p>
            <a:pPr lvl="4" marL="1828800" algn="ctr">
              <a:spcBef>
                <a:spcPts val="300"/>
              </a:spcBef>
              <a:buClr>
                <a:srgbClr val="35530d"/>
              </a:buClr>
              <a:buSzPct val="80000"/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5530d"/>
                </a:solidFill>
                <a:latin typeface="华文细黑"/>
              </a:rPr>
              <a:t>Fifth Outline Level</a:t>
            </a:r>
            <a:endParaRPr b="0" lang="en-US" sz="1200" spc="-1" strike="noStrike">
              <a:solidFill>
                <a:srgbClr val="35530d"/>
              </a:solidFill>
              <a:latin typeface="华文细黑"/>
            </a:endParaRPr>
          </a:p>
          <a:p>
            <a:pPr lvl="5" marL="1828800">
              <a:spcBef>
                <a:spcPts val="300"/>
              </a:spcBef>
              <a:buClr>
                <a:srgbClr val="26262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5530d"/>
                </a:solidFill>
                <a:latin typeface="华文细黑"/>
              </a:rPr>
              <a:t>Sixth Outline Level</a:t>
            </a:r>
            <a:endParaRPr b="0" lang="en-US" sz="1200" spc="-1" strike="noStrike">
              <a:solidFill>
                <a:srgbClr val="35530d"/>
              </a:solidFill>
              <a:latin typeface="华文细黑"/>
            </a:endParaRPr>
          </a:p>
          <a:p>
            <a:pPr lvl="6" marL="1828800">
              <a:spcBef>
                <a:spcPts val="300"/>
              </a:spcBef>
              <a:buClr>
                <a:srgbClr val="26262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5530d"/>
                </a:solidFill>
                <a:latin typeface="华文细黑"/>
              </a:rPr>
              <a:t>Seventh Outline Level</a:t>
            </a:r>
            <a:endParaRPr b="0" lang="en-US" sz="1200" spc="-1" strike="noStrike">
              <a:solidFill>
                <a:srgbClr val="35530d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0720" y="71388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530d"/>
                </a:solidFill>
                <a:latin typeface="华文细黑"/>
              </a:rPr>
              <a:t>Click to edit the title text format</a:t>
            </a:r>
            <a:endParaRPr b="0" lang="en-US" sz="24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5530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530d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35530d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35530d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530d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35530d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35530d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530d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35530d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35530d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530d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35530d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35530d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530d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35530d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26262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530d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35530d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26262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530d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D126-7E66-4B31-B0DE-A7A80473F4DA}" type="slidenum">
              <a:rPr b="0" lang="zh-CN" sz="1200" spc="-1" strike="noStrike">
                <a:solidFill>
                  <a:srgbClr val="8d8d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0"/>
            <a:ext cx="9144000" cy="714240"/>
            <a:chOff x="0" y="0"/>
            <a:chExt cx="9144000" cy="714240"/>
          </a:xfrm>
        </p:grpSpPr>
        <p:pic>
          <p:nvPicPr>
            <p:cNvPr id="104" name="图片 9" descr="首页 副本.png"/>
            <p:cNvPicPr/>
            <p:nvPr/>
          </p:nvPicPr>
          <p:blipFill>
            <a:blip r:embed="rId2"/>
            <a:srcRect l="0" t="0" r="0" b="89588"/>
            <a:stretch/>
          </p:blipFill>
          <p:spPr>
            <a:xfrm>
              <a:off x="0" y="0"/>
              <a:ext cx="914400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图片 8" descr="首页副本.png"/>
            <p:cNvPicPr/>
            <p:nvPr/>
          </p:nvPicPr>
          <p:blipFill>
            <a:blip r:embed="rId3"/>
            <a:srcRect l="0" t="0" r="0" b="89588"/>
            <a:stretch/>
          </p:blipFill>
          <p:spPr>
            <a:xfrm>
              <a:off x="0" y="0"/>
              <a:ext cx="914400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图片 9" descr="首页 副本.png"/>
            <p:cNvPicPr/>
            <p:nvPr/>
          </p:nvPicPr>
          <p:blipFill>
            <a:blip r:embed="rId4"/>
            <a:srcRect l="0" t="0" r="0" b="89588"/>
            <a:stretch/>
          </p:blipFill>
          <p:spPr>
            <a:xfrm>
              <a:off x="0" y="0"/>
              <a:ext cx="9144000" cy="71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" name="图片 3" descr="粽子.png"/>
          <p:cNvPicPr/>
          <p:nvPr/>
        </p:nvPicPr>
        <p:blipFill>
          <a:blip r:embed="rId5"/>
          <a:srcRect l="0" t="25001" r="50002" b="39586"/>
          <a:stretch/>
        </p:blipFill>
        <p:spPr>
          <a:xfrm>
            <a:off x="6373800" y="5384880"/>
            <a:ext cx="2773440" cy="147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0720" y="71388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530d"/>
                </a:solidFill>
                <a:latin typeface="华文细黑"/>
              </a:rPr>
              <a:t>Click to edit the title text format</a:t>
            </a:r>
            <a:endParaRPr b="0" lang="en-US" sz="24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5530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530d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35530d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35530d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530d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35530d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35530d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530d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35530d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35530d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530d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35530d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35530d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530d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35530d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26262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530d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35530d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26262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530d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B255-7AE9-4F56-B95B-330FA91908DD}" type="slidenum">
              <a:rPr b="0" lang="zh-CN" sz="1200" spc="-1" strike="noStrike">
                <a:solidFill>
                  <a:srgbClr val="8d8d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000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627200" y="292572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87" name=""/>
          <p:cNvSpPr/>
          <p:nvPr/>
        </p:nvSpPr>
        <p:spPr>
          <a:xfrm>
            <a:off x="709308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0720" y="673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0720" y="71388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5530d"/>
              </a:solidFill>
              <a:latin typeface="华文细黑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0720" y="71388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5530d"/>
              </a:solidFill>
              <a:latin typeface="华文细黑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000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5530d"/>
                </a:solidFill>
                <a:latin typeface="华文细黑"/>
              </a:rPr>
              <a:t>谢谢欣赏</a:t>
            </a:r>
            <a:endParaRPr b="1" lang="en-US" sz="3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627200" y="292572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5530d"/>
              </a:solidFill>
              <a:latin typeface="华文细黑"/>
            </a:endParaRPr>
          </a:p>
        </p:txBody>
      </p:sp>
      <p:sp>
        <p:nvSpPr>
          <p:cNvPr id="196" name=""/>
          <p:cNvSpPr/>
          <p:nvPr/>
        </p:nvSpPr>
        <p:spPr>
          <a:xfrm>
            <a:off x="1505160" y="6165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bad16f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9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262626"/>
                </a:solidFill>
                <a:latin typeface="Arial"/>
              </a:endParaRPr>
            </a:p>
          </p:txBody>
        </p:sp>
        <p:pic>
          <p:nvPicPr>
            <p:cNvPr id="19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bad16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bad16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bad16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1:01:12Z</dcterms:created>
  <dc:creator/>
  <dc:description/>
  <dc:language>en-US</dc:language>
  <cp:lastModifiedBy/>
  <cp:lastPrinted>1899-12-30T00:00:00Z</cp:lastPrinted>
  <dcterms:modified xsi:type="dcterms:W3CDTF">2014-05-18T06:20:3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