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72C5-7E2A-4494-A05A-629C4565E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372C-DB41-4AD4-B02F-B421F7D30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26B5-1F8D-4E6A-AF5A-11B49D997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1B5B-9DF2-45D9-B463-B17CC4F5B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829F-2F4C-41C6-9F06-C9EA96C0F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6005-30F6-4AA1-BA6C-55A81AEC3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B9E8-C859-4A49-B482-FCC5C49EB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4A98-5623-4EC2-A771-C66CC01FF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2225-4E64-491C-9A90-D361F0556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4008-28D2-4BAE-A785-B0680701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6592-2652-427C-92E9-A07D7C34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2238-A6DB-40DE-AD65-790C9806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92cf7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c1c1c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c1c1c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c1c1c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c1c1c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c1c1c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c1c1c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452A4-4748-4967-A1E5-B21618D6B1F2}" type="slidenum">
              <a:rPr b="0" lang="zh-CN" sz="14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45"/>
          <p:cNvSpPr/>
          <p:nvPr/>
        </p:nvSpPr>
        <p:spPr>
          <a:xfrm>
            <a:off x="6608160" y="6453360"/>
            <a:ext cx="326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www.rapidppt.com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7" name="Picture 53" descr=""/>
          <p:cNvPicPr/>
          <p:nvPr/>
        </p:nvPicPr>
        <p:blipFill>
          <a:blip r:embed="rId3"/>
          <a:stretch/>
        </p:blipFill>
        <p:spPr>
          <a:xfrm>
            <a:off x="324000" y="404640"/>
            <a:ext cx="1423800" cy="646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-25560"/>
            <a:ext cx="9145080" cy="6856560"/>
            <a:chOff x="0" y="-25560"/>
            <a:chExt cx="9145080" cy="6856560"/>
          </a:xfrm>
        </p:grpSpPr>
        <p:pic>
          <p:nvPicPr>
            <p:cNvPr id="45" name="Picture 47" descr=""/>
            <p:cNvPicPr/>
            <p:nvPr/>
          </p:nvPicPr>
          <p:blipFill>
            <a:blip r:embed="rId1"/>
            <a:stretch/>
          </p:blipFill>
          <p:spPr>
            <a:xfrm>
              <a:off x="1080" y="-25560"/>
              <a:ext cx="9144000" cy="685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48" descr=""/>
            <p:cNvPicPr/>
            <p:nvPr/>
          </p:nvPicPr>
          <p:blipFill>
            <a:blip r:embed="rId2"/>
            <a:stretch/>
          </p:blipFill>
          <p:spPr>
            <a:xfrm>
              <a:off x="0" y="4347360"/>
              <a:ext cx="9143640" cy="2481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Text Box 12"/>
          <p:cNvSpPr/>
          <p:nvPr/>
        </p:nvSpPr>
        <p:spPr>
          <a:xfrm>
            <a:off x="48600" y="1844640"/>
            <a:ext cx="201240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" name="Text Box 13"/>
          <p:cNvSpPr/>
          <p:nvPr/>
        </p:nvSpPr>
        <p:spPr>
          <a:xfrm>
            <a:off x="626760" y="2781360"/>
            <a:ext cx="37191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eacba"/>
                </a:solidFill>
                <a:latin typeface="微软雅黑"/>
                <a:ea typeface="微软雅黑"/>
              </a:rPr>
              <a:t>适用于大学教学及相关机构演示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94440" y="6454800"/>
            <a:ext cx="38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-335880" y="0"/>
            <a:ext cx="8802000" cy="6858000"/>
            <a:chOff x="-335880" y="0"/>
            <a:chExt cx="8802000" cy="6858000"/>
          </a:xfrm>
        </p:grpSpPr>
        <p:sp>
          <p:nvSpPr>
            <p:cNvPr id="51" name="矩形 4"/>
            <p:cNvSpPr/>
            <p:nvPr/>
          </p:nvSpPr>
          <p:spPr>
            <a:xfrm>
              <a:off x="-335880" y="0"/>
              <a:ext cx="85712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1c1c1c"/>
                </a:solidFill>
                <a:latin typeface="Arial"/>
              </a:endParaRPr>
            </a:p>
          </p:txBody>
        </p:sp>
        <p:pic>
          <p:nvPicPr>
            <p:cNvPr id="5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74b16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74b16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74b16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03:25:00Z</dcterms:created>
  <dc:creator/>
  <dc:description/>
  <dc:language>en-US</dc:language>
  <cp:lastModifiedBy>kevin</cp:lastModifiedBy>
  <dcterms:modified xsi:type="dcterms:W3CDTF">2014-10-27T00:15:13Z</dcterms:modified>
  <cp:revision>7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5</vt:lpwstr>
  </property>
</Properties>
</file>