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2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23.gif" ContentType="image/gif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CE1-54A1-4A70-8AD4-1E96CD98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6BA-59AA-4540-8458-443056D7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7B4-2A91-43CB-AFB9-F47AC443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9DC-EE73-498B-8300-B4E7487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1756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BC2-ABD8-4D71-8854-9406F59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3608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FF7-B0DD-4C75-A00E-1F773C56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E7E-9BD7-4165-B45C-66B7CCD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FF5-1536-47BE-8F74-21A7B3A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640" y="1756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B8C-E1DB-48A6-901A-1A476E8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388-C37C-4D2F-A716-B4FFAA0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08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FEB-24B0-4B62-B387-E0C00DC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BBB-25AE-48D0-8F4C-932EDEEF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2AEE6731-E0A1-4EDF-9591-FD9522DBD3D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199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1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85A-001E-4CF3-9184-95555B628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33320" y="4521240"/>
            <a:ext cx="6024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6040" algn="ctr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22160" algn="ctr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algn="ctr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666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大学生健康与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31800" y="6400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6600" y="3420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2360" y="45720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760" y="228600"/>
            <a:ext cx="148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健 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50080" y="228600"/>
            <a:ext cx="231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疾 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8920" y="2286000"/>
            <a:ext cx="8750160" cy="1752480"/>
            <a:chOff x="88920" y="2286000"/>
            <a:chExt cx="8750160" cy="1752480"/>
          </a:xfrm>
        </p:grpSpPr>
        <p:sp>
          <p:nvSpPr>
            <p:cNvPr id="129" name=""/>
            <p:cNvSpPr/>
            <p:nvPr/>
          </p:nvSpPr>
          <p:spPr>
            <a:xfrm>
              <a:off x="88920" y="2438280"/>
              <a:ext cx="1073160" cy="1295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ShuSong-Z01"/>
                  <a:ea typeface="黑体"/>
                </a:rPr>
                <a:t>处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ShuSong-Z01"/>
                  <a:ea typeface="黑体"/>
                </a:rPr>
                <a:t>低危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ShuSong-Z01"/>
                  <a:ea typeface="黑体"/>
                </a:rPr>
                <a:t>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57440" y="2438280"/>
              <a:ext cx="1155600" cy="12956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进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疾病危险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08400" y="2438280"/>
              <a:ext cx="1073160" cy="1295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发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早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改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2438280"/>
              <a:ext cx="1155600" cy="12956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出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临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症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4080" y="2286000"/>
              <a:ext cx="495000" cy="175248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27880" y="2438280"/>
              <a:ext cx="1073160" cy="12956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FZHei-B01"/>
                  <a:ea typeface="黑体"/>
                </a:rPr>
                <a:t>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27320" y="2819520"/>
              <a:ext cx="247680" cy="457200"/>
            </a:xfrm>
            <a:custGeom>
              <a:avLst/>
              <a:gdLst>
                <a:gd name="textAreaLeft" fmla="*/ 38520 w 247680"/>
                <a:gd name="textAreaRight" fmla="*/ 216720 w 2476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ea5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65920" y="2819520"/>
              <a:ext cx="495360" cy="457200"/>
            </a:xfrm>
            <a:custGeom>
              <a:avLst/>
              <a:gdLst>
                <a:gd name="textAreaLeft" fmla="*/ 77400 w 495360"/>
                <a:gd name="textAreaRight" fmla="*/ 433440 w 4953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ea5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97760" y="2819520"/>
              <a:ext cx="247680" cy="457200"/>
            </a:xfrm>
            <a:custGeom>
              <a:avLst/>
              <a:gdLst>
                <a:gd name="textAreaLeft" fmla="*/ 38520 w 247680"/>
                <a:gd name="textAreaRight" fmla="*/ 216720 w 2476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ea5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6800" y="2819520"/>
              <a:ext cx="247320" cy="457200"/>
            </a:xfrm>
            <a:custGeom>
              <a:avLst/>
              <a:gdLst>
                <a:gd name="textAreaLeft" fmla="*/ 38520 w 247320"/>
                <a:gd name="textAreaRight" fmla="*/ 216720 w 2473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ea5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8280" y="2819520"/>
              <a:ext cx="247680" cy="457200"/>
            </a:xfrm>
            <a:custGeom>
              <a:avLst/>
              <a:gdLst>
                <a:gd name="textAreaLeft" fmla="*/ 38520 w 247680"/>
                <a:gd name="textAreaRight" fmla="*/ 216720 w 2476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ea5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784520" y="380880"/>
            <a:ext cx="4539960" cy="457200"/>
          </a:xfrm>
          <a:custGeom>
            <a:avLst/>
            <a:gdLst>
              <a:gd name="textAreaLeft" fmla="*/ 709200 w 4539960"/>
              <a:gd name="textAreaRight" fmla="*/ 4322880 w 4539960"/>
              <a:gd name="textAreaTop" fmla="*/ 96480 h 457200"/>
              <a:gd name="textAreaBottom" fmla="*/ 3607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4564"/>
                </a:moveTo>
                <a:lnTo>
                  <a:pt x="19809" y="4564"/>
                </a:lnTo>
                <a:lnTo>
                  <a:pt x="19809" y="0"/>
                </a:lnTo>
                <a:lnTo>
                  <a:pt x="21600" y="10800"/>
                </a:lnTo>
                <a:lnTo>
                  <a:pt x="19809" y="21600"/>
                </a:lnTo>
                <a:lnTo>
                  <a:pt x="19809" y="17036"/>
                </a:lnTo>
                <a:lnTo>
                  <a:pt x="3375" y="17036"/>
                </a:lnTo>
                <a:close/>
              </a:path>
              <a:path w="21600" h="21600">
                <a:moveTo>
                  <a:pt x="0" y="4564"/>
                </a:moveTo>
                <a:lnTo>
                  <a:pt x="675" y="4564"/>
                </a:lnTo>
                <a:lnTo>
                  <a:pt x="675" y="17036"/>
                </a:lnTo>
                <a:lnTo>
                  <a:pt x="0" y="17036"/>
                </a:lnTo>
                <a:close/>
              </a:path>
              <a:path w="21600" h="21600">
                <a:moveTo>
                  <a:pt x="1350" y="4564"/>
                </a:moveTo>
                <a:lnTo>
                  <a:pt x="2700" y="4564"/>
                </a:lnTo>
                <a:lnTo>
                  <a:pt x="2700" y="17036"/>
                </a:lnTo>
                <a:lnTo>
                  <a:pt x="1350" y="1703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711680" y="3962160"/>
            <a:ext cx="3301560" cy="533160"/>
            <a:chOff x="4711680" y="3962160"/>
            <a:chExt cx="3301560" cy="533160"/>
          </a:xfrm>
        </p:grpSpPr>
        <p:sp>
          <p:nvSpPr>
            <p:cNvPr id="142" name=""/>
            <p:cNvSpPr/>
            <p:nvPr/>
          </p:nvSpPr>
          <p:spPr>
            <a:xfrm rot="16200000">
              <a:off x="6095880" y="2577960"/>
              <a:ext cx="533160" cy="330156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137520 h 3301560"/>
                <a:gd name="textAreaBottom" fmla="*/ 3164040 h 330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7200" y="3962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临床干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574640" y="1523880"/>
            <a:ext cx="4705200" cy="536040"/>
            <a:chOff x="1574640" y="1523880"/>
            <a:chExt cx="4705200" cy="536040"/>
          </a:xfrm>
        </p:grpSpPr>
        <p:sp>
          <p:nvSpPr>
            <p:cNvPr id="145" name=""/>
            <p:cNvSpPr/>
            <p:nvPr/>
          </p:nvSpPr>
          <p:spPr>
            <a:xfrm rot="5400000">
              <a:off x="3660480" y="-561960"/>
              <a:ext cx="533520" cy="4705200"/>
            </a:xfrm>
            <a:custGeom>
              <a:avLst/>
              <a:gdLst>
                <a:gd name="textAreaLeft" fmla="*/ 156600 w 533520"/>
                <a:gd name="textAreaRight" fmla="*/ 533880 w 533520"/>
                <a:gd name="textAreaTop" fmla="*/ 195840 h 4705200"/>
                <a:gd name="textAreaBottom" fmla="*/ 4509360 h 47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5520" y="160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FZShuSong-Z01"/>
                </a:rPr>
                <a:t>预防干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V="1">
            <a:off x="838080" y="4190760"/>
            <a:ext cx="0" cy="1523880"/>
          </a:xfrm>
          <a:prstGeom prst="line">
            <a:avLst/>
          </a:prstGeom>
          <a:ln w="39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881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应该从这里开始未雨绸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391520" y="4114440"/>
            <a:ext cx="0" cy="1523880"/>
          </a:xfrm>
          <a:prstGeom prst="line">
            <a:avLst/>
          </a:prstGeom>
          <a:ln w="39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65080" y="5881680"/>
            <a:ext cx="22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此处已经为时过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大学生的合理膳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食物是人类生存的最基本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一个人一年的平均饮食消费量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营养不仅是个人问题，而且是社会问题，关系整个民族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膳食安排不合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-------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每天都损害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食品业是“天下第一产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营养学是“朝阳产业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72200" y="441180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体所必须的营养素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468440"/>
            <a:ext cx="803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营养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食物中可为人体提供能量、机体构成成分、修复组织以、生理调节功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化学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42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45924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3209760"/>
            <a:ext cx="66387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宏量营养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微量营养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763800"/>
            <a:ext cx="5333760" cy="1295640"/>
          </a:xfrm>
          <a:prstGeom prst="ellipse">
            <a:avLst/>
          </a:prstGeom>
          <a:noFill/>
          <a:ln w="25560">
            <a:solidFill>
              <a:srgbClr val="c4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（三大产能营养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221000"/>
            <a:ext cx="1600200" cy="1447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417760"/>
            <a:ext cx="1981080" cy="762120"/>
          </a:xfrm>
          <a:prstGeom prst="ellipse">
            <a:avLst/>
          </a:prstGeom>
          <a:noFill/>
          <a:ln w="25560">
            <a:solidFill>
              <a:srgbClr val="c4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916440"/>
            <a:ext cx="58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蛋白质、脂类、碳水化合物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54403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矿物质、维生素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膳食纤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1554120"/>
            <a:ext cx="431640" cy="54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79280" y="3497400"/>
            <a:ext cx="432000" cy="541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5480" y="63244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食物多样，谷类为主，粗细搭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3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每种食物含不同的营养成分，任何天然食物都不能提供完全的营养。多种食物搭配，才能满足人体各种营养需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3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没有不好的食物，只有不合理的膳食，关键在于平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3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谷类食物是能量的主要来源，应保持中国传统饮食习惯。米面类不宜加工过细，避免维生素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、矿物质等营养素和膳食纤维的丢失 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300672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514600" cy="153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二、多吃蔬菜、水果和薯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蔬菜、水果是维生素、矿物质、膳食纤维和植物化学物质的重要来源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薯类含丰富膳食纤维、多种维生素和矿物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建议每天吃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蔬菜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300~500 g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最好深色蔬菜约占一半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水果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200~400 g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三、每天吃奶类、大豆或其制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奶类含钙量较高，利用率高，含丰富的优质蛋白和维生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儿童、青少年饮奶有利于其生长发育 ，中老年人饮奶可减少骨质丢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我国平均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摄入量仅为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389m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，建议每人每天饮奶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</a:rPr>
              <a:t>300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或相当量的奶制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30477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常吃适量的鱼、禽、蛋和瘦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性食物蛋白质含量高，是优质蛋白的良好来源，氨基酸组成更适合人体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鹅、鸭、鸡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猪、牛、羊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含较多脂溶性维生素、维生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矿物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含有一定量的饱和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肪和胆固醇，摄入过多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心血管病的危险性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2004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42920" y="1292400"/>
            <a:ext cx="4572000" cy="55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把蔬菜一把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个鸡蛋加点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谷杂粮要吃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508720" y="1447920"/>
            <a:ext cx="3200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减少烹调油，吃清淡少盐膳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城乡居民平均每天摄入烹调油，推荐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食盐平均摄入量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议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摄入过多是引起肥胖、高血脂、动脉粥样硬化等多种慢性疾病的危险因素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盐的摄入量过高与高血压的患病率密切相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1800" y="63244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71800" y="76320"/>
            <a:ext cx="60199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362320"/>
            <a:ext cx="464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健康的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3678120"/>
            <a:ext cx="449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大学生的合理膳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9528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似是而非的饮食误区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、食不过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天运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持健康适宜体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重与能量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摄入﹥能量消耗，体重增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量摄入﹤能量消耗，体重减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健康体重的主要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进食量和运动的平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3637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14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建议成人每天进行相当于步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6 00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的身体活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3940200" cy="4659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2209680"/>
            <a:ext cx="35812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手洗衣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钟，上楼、打篮球、慢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钟，打羽毛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钟，舞蹈、瑜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钟等均相对于身体活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千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适度运动三，五，七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”每天步行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公里，时间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分钟以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五”指每周要运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次以上，规律性运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七”指运动后心率加年龄约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中等度运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、三餐分配要合理，零食要适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学生的早餐状况令人担忧，应及时进餐，使血糖维持在一定的水平。如果不吃早餐或吃的很少，人体会出现饥饿感，学生上课会精力不集中，学习效率差等表现，严重者还会有头晕、乏力、出虚汗等低血糖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早餐营养充足，午餐要吃好，晚餐宜节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餐能量分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全天总能量的比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餐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餐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晚餐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0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、每天足量饮水，合理选择饮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温和气候条件下轻体力活动的成人每日最少饮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200-1500 ml 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开水是最好的饮料，喝水要一口一口慢慢喝，早晨空腹一杯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乳饮料和纯果汁饮料含有一定量的营养素和有益膳食成分，有些饮料添加了一定的矿物质和维生素，适量饮用可作为膳食的补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避免喝只含糖和香精香料饮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九、如饮酒应限量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适  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适  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适  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22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7920" y="3505320"/>
            <a:ext cx="8541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危害全身的各个系统和器官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633000">
            <a:off x="2362320" y="2087640"/>
            <a:ext cx="6629400" cy="2666880"/>
          </a:xfrm>
          <a:prstGeom prst="irregularSeal1">
            <a:avLst/>
          </a:prstGeom>
          <a:solidFill>
            <a:srgbClr val="91919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期大量饮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2520" y="6400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饮酒选低度数。成年男性酒精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25g/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天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年女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15g /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孕妇和儿童青少年应忌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葡萄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健 康的守护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酒精和饮料最好少“掺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不宜饮两种混合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不宜边吸烟边饮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食用海鲜不要喝啤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烧烤下酒易“招惹”消化道肿瘤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943680" y="2514600"/>
            <a:ext cx="1895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十、吃新鲜卫生的食物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确采购食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理储藏，避免污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物性食物加热熟透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烹调加工避免交叉污染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个人卫生环境和用具的洁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248520" y="16588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304920"/>
            <a:ext cx="752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4c7013"/>
                </a:solidFill>
                <a:latin typeface="Times New Roman"/>
                <a:ea typeface="黑体"/>
              </a:rPr>
              <a:t>建议每人日平均摄入食物种类及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13918" t="-0" r="0" b="4711"/>
          <a:stretch/>
        </p:blipFill>
        <p:spPr>
          <a:xfrm>
            <a:off x="650880" y="1179360"/>
            <a:ext cx="82645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健康的含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3520" y="1752480"/>
            <a:ext cx="533520" cy="533520"/>
            <a:chOff x="533520" y="1752480"/>
            <a:chExt cx="533520" cy="53352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533520" y="175248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315200" y="51055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1640" y="1756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以日本为代表的膳食模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92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特点：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动、植物性食物消费量均衡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粮谷为主，粗细搭配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水产、奶类摄入较多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热能、营养素摄入量和比例基本符合营养要求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蛋白质充足、热能和脂肪摄入量适宜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营养不良与营养过剩问题控制较好，使日本人均预期寿命现在居世界前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1800" y="6400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286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似是而非的饮食误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175680"/>
            <a:ext cx="698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关于食物营养的认识误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米、面粉越白越好质量越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吃碳水化合物容易长胖，主食吃的越少越好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要吃得好必定营养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纯天然食品一定对人体无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了添加剂的食品一定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价格贵的食品，保健食品好，花钱买健康值。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520" y="175680"/>
            <a:ext cx="698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关于食物营养的认识误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56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少吃饭，多吃菜，饭没有营养，营养都在菜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热油炒菜香，做菜时加调味料多多益善，吃菜不喝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动物性脂肪对人体有害，但是植物油多吃点不要紧。“只吃油、不吃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鸡蛋含胆固醇高，应该少吃或不吃鸡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喝多了容易上火，肚子不舒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奶茶营养价值高，应该多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175680"/>
            <a:ext cx="7061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关于食物营养的认识误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渴就不需要喝水，饮用蒸馏水、纯净水比白开水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吃素能长寿减肥，多吃水果、蔬菜就行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饭后吃水果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果比蔬菜的营养好，蔬菜营养不如鱼肉蛋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果和蔬菜能够相互代替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鸡鸭鱼肉中才有优质蛋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洋快餐既营养又方便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685800" y="380880"/>
            <a:ext cx="41904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微软雅黑"/>
              </a:rPr>
              <a:t>3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304920"/>
            <a:ext cx="88390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55520" indent="-15552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垃圾饮食”危害健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洋快餐”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619560" indent="-236160">
              <a:spcAft>
                <a:spcPts val="9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三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高热量、高脂肪、高蛋白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9560" indent="-236160">
              <a:spcAft>
                <a:spcPts val="9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三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矿物质、低维生素和低膳食纤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9560" indent="-23616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具有成瘾性，诱发肥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炸土豆条、炸鸡块含致癌物质“丙烯酰胺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基因突变，诱发肿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的量约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毫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/K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超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WH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规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477120" y="990720"/>
            <a:ext cx="2135160" cy="3047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2960" y="5334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40505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520" y="1066680"/>
            <a:ext cx="6019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什么才是健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286000"/>
            <a:ext cx="373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人生的最大财富是健康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933640"/>
            <a:ext cx="403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健康长寿是人类追求的理想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4086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健康的影响因素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648320"/>
            <a:ext cx="419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世界卫生组织提出的健康新概念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510000"/>
            <a:ext cx="419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人们对健康的认识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2360520"/>
            <a:ext cx="4114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1066680"/>
            <a:ext cx="6019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健康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0"/>
            <a:ext cx="5943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zh-CN" sz="19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健康不仅仅是没有疾病和不虚弱，而且是身体上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心理上、和社会适应能力上三方面的完美状态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1990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，世界卫生组织在对健康定义的阐述中，又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增加了道德健康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2000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，世界卫生组织又提出了“合理膳食，戒烟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心理健康，克服紧张压力，体育锻炼”的促进健康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准则。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5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2895480"/>
            <a:ext cx="7162200" cy="2742480"/>
            <a:chOff x="1447920" y="2895480"/>
            <a:chExt cx="7162200" cy="2742480"/>
          </a:xfrm>
        </p:grpSpPr>
        <p:cxnSp>
          <p:nvCxnSpPr>
            <p:cNvPr id="98" name="_s46094"/>
            <p:cNvCxnSpPr>
              <a:stCxn id="99" idx="0"/>
              <a:endCxn id="100" idx="2"/>
            </p:cNvCxnSpPr>
            <p:nvPr/>
          </p:nvCxnSpPr>
          <p:spPr>
            <a:xfrm flipH="1" flipV="1" rot="5400000">
              <a:off x="4290120" y="3801600"/>
              <a:ext cx="549000" cy="92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46092"/>
            <p:cNvCxnSpPr>
              <a:stCxn id="102" idx="0"/>
              <a:endCxn id="100" idx="2"/>
            </p:cNvCxnSpPr>
            <p:nvPr/>
          </p:nvCxnSpPr>
          <p:spPr>
            <a:xfrm flipV="1" rot="16200000">
              <a:off x="6144480" y="2872080"/>
              <a:ext cx="549000" cy="278784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46091"/>
            <p:cNvCxnSpPr>
              <a:stCxn id="104" idx="0"/>
              <a:endCxn id="100" idx="2"/>
            </p:cNvCxnSpPr>
            <p:nvPr/>
          </p:nvCxnSpPr>
          <p:spPr>
            <a:xfrm flipV="1" rot="16200000">
              <a:off x="5216040" y="3792600"/>
              <a:ext cx="549000" cy="9309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6090"/>
            <p:cNvCxnSpPr>
              <a:stCxn id="106" idx="0"/>
              <a:endCxn id="100" idx="2"/>
            </p:cNvCxnSpPr>
            <p:nvPr/>
          </p:nvCxnSpPr>
          <p:spPr>
            <a:xfrm flipH="1" flipV="1" rot="5400000">
              <a:off x="3361680" y="2873160"/>
              <a:ext cx="549000" cy="278604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46086"/>
            <p:cNvSpPr/>
            <p:nvPr/>
          </p:nvSpPr>
          <p:spPr>
            <a:xfrm>
              <a:off x="4233240" y="2895480"/>
              <a:ext cx="1591560" cy="109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健  康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6087"/>
            <p:cNvSpPr/>
            <p:nvPr/>
          </p:nvSpPr>
          <p:spPr>
            <a:xfrm>
              <a:off x="1447920" y="4541040"/>
              <a:ext cx="1591560" cy="1096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生  理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6088"/>
            <p:cNvSpPr/>
            <p:nvPr/>
          </p:nvSpPr>
          <p:spPr>
            <a:xfrm>
              <a:off x="5161680" y="4541040"/>
              <a:ext cx="1591560" cy="1096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社  会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6089"/>
            <p:cNvSpPr/>
            <p:nvPr/>
          </p:nvSpPr>
          <p:spPr>
            <a:xfrm>
              <a:off x="7018560" y="4541040"/>
              <a:ext cx="1591560" cy="1096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道 德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46093"/>
            <p:cNvSpPr/>
            <p:nvPr/>
          </p:nvSpPr>
          <p:spPr>
            <a:xfrm>
              <a:off x="3304800" y="4541040"/>
              <a:ext cx="1591560" cy="1096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心  理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819520" y="1066680"/>
            <a:ext cx="6019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什么才是健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7339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19520" y="1066680"/>
            <a:ext cx="6019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影响健康的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649600"/>
            <a:ext cx="571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学基础因素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15%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97240"/>
            <a:ext cx="4648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17%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906720"/>
            <a:ext cx="556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卫生保健设施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8%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516560"/>
            <a:ext cx="2895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●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人的生活方式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60%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541008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7320" y="543996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卫生组织研究数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79520" y="63244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32000" y="1930320"/>
            <a:ext cx="509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充沛的精力，能从容不迫的担负日常生活和繁重的工作而不感到过分紧张疲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处事乐观、态度积极、乐于承担责任、事无大小、不挑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善于休息、睡眠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应变能力强、能适应外界环境中的各种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能抵御一般感冒和传染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体重适当、身体匀称、站立时头肩位置协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眼睛明亮、反应敏捷、眼睑不发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牙齿清洁、无龋齿、不疼痛、牙龈颜色正常、无出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头发光泽、无头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肌肉丰满、皮肤有弹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066680"/>
            <a:ext cx="60199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制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条健康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42200" y="4191120"/>
            <a:ext cx="2701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295280"/>
            <a:ext cx="7467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成人标准体重的计算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准体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高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（身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㎝以下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准体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高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10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（身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6-17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㎝以下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准体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高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1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（身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㎝以上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791320"/>
            <a:ext cx="754380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重在健康范围内者患各种疾病的危险性小于体重不良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613240" cy="2895480"/>
          </a:xfrm>
          <a:prstGeom prst="rect">
            <a:avLst/>
          </a:prstGeom>
          <a:ln w="19080">
            <a:solidFill>
              <a:srgbClr val="4c7013"/>
            </a:solidFill>
            <a:miter/>
          </a:ln>
          <a:effectLst>
            <a:outerShdw dist="17819" dir="2700000" blurRad="0" rotWithShape="0">
              <a:srgbClr val="0061b2"/>
            </a:outerShdw>
          </a:effectLst>
        </p:spPr>
      </p:pic>
      <p:sp>
        <p:nvSpPr>
          <p:cNvPr id="123" name=""/>
          <p:cNvSpPr/>
          <p:nvPr/>
        </p:nvSpPr>
        <p:spPr>
          <a:xfrm>
            <a:off x="609480" y="3124080"/>
            <a:ext cx="74678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国际上通用体质指数（ＢＭ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判断体重是否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质指数＝体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kg)/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高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MI&lt;18.5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.5&lt;BMI&lt;23.9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&lt;BMI&lt;27.9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超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MI&gt;28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肥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8:26:18Z</dcterms:created>
  <dc:creator/>
  <dc:description/>
  <dc:language>en-US</dc:language>
  <cp:lastModifiedBy>USER</cp:lastModifiedBy>
  <dcterms:modified xsi:type="dcterms:W3CDTF">2014-05-22T08:51:14Z</dcterms:modified>
  <cp:revision>3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