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7BD-2A18-4EE7-AACA-385902BA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E96-EE63-4496-A91F-C3F9410D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CF4-574E-46A2-8F75-14776ADA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808-B0F6-43A0-BF9A-B8D02C46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F6E-B446-4185-A348-EC9EC4E7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FFF-D8DA-4E34-9EB2-CD2589D4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E8C-EAAD-46AB-ABB0-ED8C260E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5F7-2901-4F95-8552-594EF86A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83D-DF44-4F2C-A1AE-C50407F0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7FA-D1E3-4D6F-824B-CE39B446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776-452E-4651-ACBF-15776E1E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34D-225B-4B3A-90D2-F3120950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F88A-8BC2-45D2-8829-E229BA6A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545F-FD88-453B-A555-EFFC2266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BB33-0056-46A6-AD15-671419A4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D9A5-EAD1-49AA-831D-86577B40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9E9A-7640-473F-9D3D-8B908994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A347-05AB-4E62-BAF7-CCE9DC20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7310-C627-479F-AEC0-1EB92EE5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0B69-ED82-4333-B9C3-C120EE54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BF0E-B967-4B9C-8478-234E1C9F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4DCC-E0FD-48A3-96DC-74B79312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F47B-C4F8-49FA-9309-E1FAC587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7D77-48DE-4DA3-B384-08A190E7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A6265-50BE-409D-886A-7B17CA8A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90FCF-0FB7-467C-8E5D-38AED5C8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683E-B32D-4463-8D59-641D3DD1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F1FB-1CC9-4D94-9382-9741F7C0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2B7F-A2F2-4170-9448-DD57BFE8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5C9A1-B9DA-4F2A-8504-6D664124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3F3D7-FE02-4885-A281-A9BC3154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A6DE-3B5A-4FF4-99FF-CB0876BC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00CE-BC07-4610-A6D7-E52F98D2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938C-53E9-4D33-B533-7FE7B98E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7D7B8-8F8A-405C-9E8F-8050A439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B94C-E470-489B-A3E8-0E4DBC92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79C7-02F3-459B-A51E-F96DC5C4F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0000"/>
            </a:gs>
            <a:gs pos="100000">
              <a:srgbClr val="4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9ECC-D46B-477E-A2AB-E2641E28EA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2935-5DE2-4B38-9CA6-14C3133AE9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488,25,&#20108;&#12289;&#22914;&#20309;&#35268;&#21010;&#32844;&#19994;&#29983;&#28079;" TargetMode="External"/><Relationship Id="rId2" Type="http://schemas.openxmlformats.org/officeDocument/2006/relationships/hyperlink" Target="488,25,&#20108;&#12289;&#22914;&#20309;&#35268;&#21010;&#32844;&#19994;&#29983;&#28079;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473,10,&#20154;&#30340;&#29983;&#28079;&#21457;&#23637;" TargetMode="External"/><Relationship Id="rId2" Type="http://schemas.openxmlformats.org/officeDocument/2006/relationships/hyperlink" Target="482,17,&#29983;&#28079;&#35268;&#21010;&#30340;&#24847;&#20041;" TargetMode="External"/><Relationship Id="rId3" Type="http://schemas.openxmlformats.org/officeDocument/2006/relationships/hyperlink" Target="486,19,4.&#32844;&#19994;&#21457;&#23637;&#19982;&#20154;&#29983;&#25104;&#21151;" TargetMode="Externa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1"/>
          <p:cNvSpPr/>
          <p:nvPr/>
        </p:nvSpPr>
        <p:spPr>
          <a:xfrm>
            <a:off x="0" y="765000"/>
            <a:ext cx="896472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华文彩云"/>
              </a:rPr>
              <a:t>规划人生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华文彩云"/>
              </a:rPr>
              <a:t>  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华文彩云"/>
              </a:rPr>
              <a:t>成就未来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971640" y="2349360"/>
            <a:ext cx="6983280" cy="19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大学生职业生涯规划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徐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14480" y="6381720"/>
            <a:ext cx="1720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大学生职业选择的误区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0040" y="1714320"/>
            <a:ext cx="8282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从众心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羊群效应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经验至上论和信心过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先入为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安于现状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总想证明过去的决策是正确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寻求支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形式决定答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人的生涯发展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年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人的年龄可以分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生日年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生理年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社会年龄（或心理年龄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容貌年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人生发展周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将人生分为三个维度的发展周期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生命周期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家庭周期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职业生涯周期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职业发展的特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15760" y="1844640"/>
            <a:ext cx="74278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不可逆转性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可规划性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阶段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人生发展周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3"/>
          <p:cNvSpPr/>
          <p:nvPr/>
        </p:nvSpPr>
        <p:spPr>
          <a:xfrm>
            <a:off x="755640" y="2206800"/>
            <a:ext cx="1368360" cy="64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幼年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2195640" y="2205000"/>
            <a:ext cx="1368360" cy="6494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少年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3706920" y="2205000"/>
            <a:ext cx="1368360" cy="6494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青年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5291280" y="2206800"/>
            <a:ext cx="1368360" cy="64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壮年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7"/>
          <p:cNvSpPr/>
          <p:nvPr/>
        </p:nvSpPr>
        <p:spPr>
          <a:xfrm>
            <a:off x="6875640" y="2206800"/>
            <a:ext cx="1368360" cy="64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老年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8"/>
          <p:cNvSpPr/>
          <p:nvPr/>
        </p:nvSpPr>
        <p:spPr>
          <a:xfrm>
            <a:off x="1476360" y="3068640"/>
            <a:ext cx="5761080" cy="792000"/>
          </a:xfrm>
          <a:prstGeom prst="downArrowCallout">
            <a:avLst>
              <a:gd name="adj1" fmla="val 181802"/>
              <a:gd name="adj2" fmla="val 181852"/>
              <a:gd name="adj3" fmla="val 50301"/>
              <a:gd name="adj4" fmla="val 34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9"/>
          <p:cNvSpPr/>
          <p:nvPr/>
        </p:nvSpPr>
        <p:spPr>
          <a:xfrm>
            <a:off x="755640" y="4005360"/>
            <a:ext cx="7488360" cy="143964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岁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岁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事职业的时间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，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46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2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3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4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涯发展阶段理论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468360" y="1052640"/>
            <a:ext cx="82184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舒伯的职业生涯发展理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成长阶段、探索阶段、建立阶段、维持阶段、衰退阶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金斯伯格的职业生涯阶段理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幻想期、尝试期、现实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格林豪斯的职业生涯阶段理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职业准备、进入组织、职业生涯初期、职业生涯中期、职业生涯后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丹尼尔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莱文森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Daniel J. Levinson)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：职业生涯七阶段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1052640"/>
          <a:ext cx="8785080" cy="5472000"/>
        </p:xfrm>
        <a:graphic>
          <a:graphicData uri="http://schemas.openxmlformats.org/drawingml/2006/table">
            <a:tbl>
              <a:tblPr/>
              <a:tblGrid>
                <a:gridCol w="1197000"/>
                <a:gridCol w="1512720"/>
                <a:gridCol w="607536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年龄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职业生涯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主要任务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-22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建立基础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建立个人独立性及自信心，学习基础知识和技能的阶段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3-29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进入成年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选择自己的生活方式，建立工作目标，面对第一次事业成功或失败的阶段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9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-32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改变适应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个人的事业逐渐成熟，许多人通过更换工作来调整生活方式，确定和强化个人的价值及生活方向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-39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事业前进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工作是个人生活的最主要项目，工作能力达到最高峰，但常常遇到家庭的压力和重新适应社会变化的困难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39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-42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中年危机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有些人回顾以往不如意，但并非每个人都将此视为危机，有些人将目标及生活方式重新再调整，做一些新尝试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2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-50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开放发展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大部分人的事业已达到顶峰，能力和事业心已获充分展现，是重新调整工作兴趣的阶段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50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退休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维持回忆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这一阶段许多人继续发展，增进自我了解，但有些人却开始衰退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ff"/>
                </a:solidFill>
                <a:latin typeface="文鼎特粗圆简"/>
                <a:ea typeface="文鼎特粗圆简"/>
              </a:rPr>
              <a:t>几个生涯发展小故事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395280" y="1413000"/>
            <a:ext cx="874872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孔子的人生阶段规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吾十有五而志于学，三十而立，四十而不惑，五十而知天命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六十而耳顺，七十而从心所欲，不逾矩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耐基的人生阶段划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变化的二十岁，充实的三十岁，成熟的四十岁，秋暮的五十岁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比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拉福的职业发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95280" y="4292640"/>
            <a:ext cx="81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中学毕业时，拉福立志经商，但他大学并没有直接读贸易专业，而是选择了工科中最基础的机械制造。四年学习中他广泛接触其他课程，毕业后也没有立即扎进商海，而是攻读经济学硕士学位。在拿到硕士学位后，他报考了公务员，并且一干就是五年。之后，拉福辞去公职，去了通用公司熟悉商业业务。又经过两年，他才辞职创立拉福商贸公司，开始正式实施中学毕业时的梦想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8028000" y="6093000"/>
            <a:ext cx="762120" cy="457200"/>
          </a:xfrm>
          <a:custGeom>
            <a:avLst/>
            <a:gdLst>
              <a:gd name="textAreaLeft" fmla="*/ 28440 w 762120"/>
              <a:gd name="textAreaRight" fmla="*/ 733680 w 7621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644" y="1350"/>
                </a:lnTo>
                <a:lnTo>
                  <a:pt x="1350" y="135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644" y="20250"/>
                </a:lnTo>
                <a:lnTo>
                  <a:pt x="34644" y="135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44" y="2025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994" h="21600">
                <a:moveTo>
                  <a:pt x="17997" y="3800"/>
                </a:moveTo>
                <a:lnTo>
                  <a:pt x="20587" y="6425"/>
                </a:lnTo>
                <a:lnTo>
                  <a:pt x="20587" y="4675"/>
                </a:lnTo>
                <a:lnTo>
                  <a:pt x="22372" y="4675"/>
                </a:lnTo>
                <a:lnTo>
                  <a:pt x="22372" y="8210"/>
                </a:lnTo>
                <a:lnTo>
                  <a:pt x="24997" y="10800"/>
                </a:lnTo>
                <a:lnTo>
                  <a:pt x="23335" y="10800"/>
                </a:lnTo>
                <a:lnTo>
                  <a:pt x="23335" y="18028"/>
                </a:lnTo>
                <a:lnTo>
                  <a:pt x="12660" y="18028"/>
                </a:lnTo>
                <a:lnTo>
                  <a:pt x="12660" y="10800"/>
                </a:lnTo>
                <a:lnTo>
                  <a:pt x="10997" y="10800"/>
                </a:lnTo>
                <a:close/>
              </a:path>
              <a:path fill="darkenLess" w="35994" h="21600">
                <a:moveTo>
                  <a:pt x="20587" y="6425"/>
                </a:moveTo>
                <a:lnTo>
                  <a:pt x="20587" y="4675"/>
                </a:lnTo>
                <a:lnTo>
                  <a:pt x="22372" y="4675"/>
                </a:lnTo>
                <a:lnTo>
                  <a:pt x="22372" y="8210"/>
                </a:lnTo>
                <a:close/>
              </a:path>
              <a:path fill="darkenLess" w="35994" h="21600">
                <a:moveTo>
                  <a:pt x="17070" y="14318"/>
                </a:moveTo>
                <a:lnTo>
                  <a:pt x="18925" y="14318"/>
                </a:lnTo>
                <a:lnTo>
                  <a:pt x="18925" y="18028"/>
                </a:lnTo>
                <a:lnTo>
                  <a:pt x="23335" y="18028"/>
                </a:lnTo>
                <a:lnTo>
                  <a:pt x="23335" y="10800"/>
                </a:lnTo>
                <a:lnTo>
                  <a:pt x="12660" y="10800"/>
                </a:lnTo>
                <a:lnTo>
                  <a:pt x="12660" y="18028"/>
                </a:lnTo>
                <a:lnTo>
                  <a:pt x="17070" y="18028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涯规划的意义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457200" y="1812960"/>
            <a:ext cx="850752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实施战略举措，经营美好未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把握自己，争取成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先设定一个高度，经过努力会跳得更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没有规划的人生注定要失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242480" y="6237360"/>
            <a:ext cx="1720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确立人生的方向，提供奋斗的策略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塑造充实自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准确评价个人特点和强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评估个人目标和现状的差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准确定位职业方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重新认识自身价值并使其增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发现新的职业机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增强职业竞争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将个人、事业与家庭联系起来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职业发展与人生成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457200" y="1812960"/>
            <a:ext cx="82184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生需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马斯洛的需求理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生理需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安全需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友爱和归属的需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受尊敬的需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自我实现的需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理论观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人的需要是有规律和分层次的，是由低级向高级不断发展的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这个层次一般是在低级需求满足之后，就会自动上升到新的更高级需求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性格是命，职业是运！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人们常说：性格决定命运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其实，这句话只说对了一半。一个人的命运始终是由其性格和他所选择的职业来共同决定的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两个性格相同的人如果选择了不同的职业，其命运也注定不同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因此，性格是命，职业是运，性格与职业的组合，才真正构成了一个人的命运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性格是支点，职业是杠杆！支点与杠杆同等重要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职业生涯规划，任何时候都不算晚，</a:t>
            </a:r>
            <a:r>
              <a:rPr b="1" i="1" lang="zh-CN" sz="3200" spc="-1" strike="noStrike">
                <a:solidFill>
                  <a:srgbClr val="ffffff"/>
                </a:solidFill>
                <a:latin typeface="黑体"/>
              </a:rPr>
              <a:t>立即行动吧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250920" y="692280"/>
            <a:ext cx="82184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职业成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职业成功评价体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自我评价：本人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根据个人的价值观及个人知识能力水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家庭评价：父母、配偶、子女等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根据家庭文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企业评价：上级、平级、下级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根据企业管理体系、企业文化及企业总体经营结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社会评价：社会舆论或组织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根据社会文明程度、历史进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职业生涯成功是人生成功的核心组成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591920"/>
            <a:ext cx="86421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宋体"/>
                <a:ea typeface="宋体"/>
              </a:rPr>
              <a:t>职业生涯成功方向和成功标准的多样性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00"/>
              </a:lnSpc>
              <a:buClr>
                <a:srgbClr val="0099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宋体"/>
              </a:rPr>
              <a:t>进取型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视成功为升入组织或职业的最高阶层。特  别注重在群体中的地位，追求更好职务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00"/>
              </a:lnSpc>
              <a:buClr>
                <a:srgbClr val="0099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宋体"/>
              </a:rPr>
              <a:t>安全型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追求认可、稳定；视成功为长期的稳定和相应不变的工作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00"/>
              </a:lnSpc>
              <a:buClr>
                <a:srgbClr val="0099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宋体"/>
              </a:rPr>
              <a:t>自由型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追求不被控制；视成功为经历的多样性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00"/>
              </a:lnSpc>
              <a:buClr>
                <a:srgbClr val="0099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宋体"/>
              </a:rPr>
              <a:t>攀登型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挑战、冒险，愿意做创新工作，视成功为螺旋式不断上升、自我完善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00"/>
              </a:lnSpc>
              <a:buClr>
                <a:srgbClr val="0099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宋体"/>
              </a:rPr>
              <a:t>平衡型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视成功为家庭、事业、自我事物等均衡协调发展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职业生涯规划的关键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在职业生涯发展的道路上，重要的不是你现在所处的位置，而是你迈出下一步的方向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什么时候你的工作热情和努力程度不为你的工资、待遇以及同事、老板对你的议论、评价所减低时，从这个时候起，你就开始为自己打工了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文鼎特粗圆简"/>
              </a:rPr>
              <a:t>二、如何规划职业生涯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493560" y="1557360"/>
            <a:ext cx="8686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规划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步法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O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析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asv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循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职业＝行业＋职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成本收益分析法（出国、读研、就业与创业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要素综合分析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宏观微观分析法（行业分析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995400" y="260280"/>
            <a:ext cx="7824600" cy="6408720"/>
            <a:chOff x="995400" y="260280"/>
            <a:chExt cx="7824600" cy="6408720"/>
          </a:xfrm>
        </p:grpSpPr>
        <p:sp>
          <p:nvSpPr>
            <p:cNvPr id="394" name="Rectangle 3"/>
            <p:cNvSpPr/>
            <p:nvPr/>
          </p:nvSpPr>
          <p:spPr>
            <a:xfrm>
              <a:off x="1908000" y="404640"/>
              <a:ext cx="6769080" cy="9367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"/>
            <p:cNvSpPr/>
            <p:nvPr/>
          </p:nvSpPr>
          <p:spPr>
            <a:xfrm>
              <a:off x="1908000" y="1628640"/>
              <a:ext cx="6769080" cy="9367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5"/>
            <p:cNvSpPr/>
            <p:nvPr/>
          </p:nvSpPr>
          <p:spPr>
            <a:xfrm>
              <a:off x="1908000" y="2924280"/>
              <a:ext cx="6769080" cy="936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6"/>
            <p:cNvSpPr/>
            <p:nvPr/>
          </p:nvSpPr>
          <p:spPr>
            <a:xfrm>
              <a:off x="1908000" y="4292640"/>
              <a:ext cx="6769080" cy="936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7"/>
            <p:cNvSpPr/>
            <p:nvPr/>
          </p:nvSpPr>
          <p:spPr>
            <a:xfrm>
              <a:off x="1908000" y="5661000"/>
              <a:ext cx="6769080" cy="9367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8"/>
            <p:cNvSpPr/>
            <p:nvPr/>
          </p:nvSpPr>
          <p:spPr>
            <a:xfrm>
              <a:off x="4932360" y="1197000"/>
              <a:ext cx="647640" cy="64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9"/>
            <p:cNvSpPr/>
            <p:nvPr/>
          </p:nvSpPr>
          <p:spPr>
            <a:xfrm>
              <a:off x="4932360" y="2492280"/>
              <a:ext cx="647640" cy="64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0"/>
            <p:cNvSpPr/>
            <p:nvPr/>
          </p:nvSpPr>
          <p:spPr>
            <a:xfrm>
              <a:off x="4932360" y="3716280"/>
              <a:ext cx="647640" cy="64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1"/>
            <p:cNvSpPr/>
            <p:nvPr/>
          </p:nvSpPr>
          <p:spPr>
            <a:xfrm>
              <a:off x="4859280" y="5157720"/>
              <a:ext cx="647640" cy="64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2"/>
            <p:cNvSpPr/>
            <p:nvPr/>
          </p:nvSpPr>
          <p:spPr>
            <a:xfrm>
              <a:off x="2195280" y="765000"/>
              <a:ext cx="619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3"/>
            <p:cNvSpPr/>
            <p:nvPr/>
          </p:nvSpPr>
          <p:spPr>
            <a:xfrm>
              <a:off x="2339640" y="765000"/>
              <a:ext cx="5616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4"/>
            <p:cNvSpPr/>
            <p:nvPr/>
          </p:nvSpPr>
          <p:spPr>
            <a:xfrm>
              <a:off x="2268360" y="476280"/>
              <a:ext cx="5975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  <a:ea typeface="隶书"/>
                </a:rPr>
                <a:t>what are you ?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（我是谁？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5"/>
            <p:cNvSpPr/>
            <p:nvPr/>
          </p:nvSpPr>
          <p:spPr>
            <a:xfrm>
              <a:off x="2268360" y="1773000"/>
              <a:ext cx="6264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  <a:ea typeface="隶书"/>
                </a:rPr>
                <a:t>what you want?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（我想做什么？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6"/>
            <p:cNvSpPr/>
            <p:nvPr/>
          </p:nvSpPr>
          <p:spPr>
            <a:xfrm>
              <a:off x="2124000" y="2997000"/>
              <a:ext cx="6696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  <a:ea typeface="隶书"/>
                </a:rPr>
                <a:t>what can you do?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（我能做什么 ？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2195280" y="4149720"/>
              <a:ext cx="65516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  <a:ea typeface="隶书"/>
                </a:rPr>
                <a:t>what can you support you?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（环境支持或允许我做什么？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2050920" y="5661000"/>
              <a:ext cx="6553080" cy="96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  <a:ea typeface="隶书"/>
                </a:rPr>
                <a:t>what can you be in the end?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（我的职业与生活规划是什么？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9"/>
            <p:cNvSpPr/>
            <p:nvPr/>
          </p:nvSpPr>
          <p:spPr>
            <a:xfrm>
              <a:off x="1187280" y="404640"/>
              <a:ext cx="576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20"/>
            <p:cNvSpPr/>
            <p:nvPr/>
          </p:nvSpPr>
          <p:spPr>
            <a:xfrm>
              <a:off x="1361160" y="260280"/>
              <a:ext cx="54684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vert="eaVer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35b1b"/>
                  </a:solidFill>
                  <a:latin typeface="Times New Roman"/>
                  <a:ea typeface="华文彩云"/>
                </a:rPr>
                <a:t>第一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995400" y="1557360"/>
              <a:ext cx="91260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vert="eaVer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35b1b"/>
                  </a:solidFill>
                  <a:latin typeface="Times New Roman"/>
                  <a:ea typeface="华文彩云"/>
                </a:rPr>
                <a:t>第二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 flipH="1">
              <a:off x="996120" y="2781360"/>
              <a:ext cx="9126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vert="eaVer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35b1b"/>
                  </a:solidFill>
                  <a:latin typeface="Times New Roman"/>
                  <a:ea typeface="华文彩云"/>
                </a:rPr>
                <a:t>第三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3"/>
            <p:cNvSpPr/>
            <p:nvPr/>
          </p:nvSpPr>
          <p:spPr>
            <a:xfrm flipH="1">
              <a:off x="996120" y="4076640"/>
              <a:ext cx="912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vert="eaVer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35b1b"/>
                  </a:solidFill>
                  <a:latin typeface="Times New Roman"/>
                  <a:ea typeface="华文彩云"/>
                </a:rPr>
                <a:t>第四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4"/>
            <p:cNvSpPr/>
            <p:nvPr/>
          </p:nvSpPr>
          <p:spPr>
            <a:xfrm>
              <a:off x="995400" y="5516640"/>
              <a:ext cx="9126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vert="eaVer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35b1b"/>
                  </a:solidFill>
                  <a:latin typeface="Times New Roman"/>
                  <a:ea typeface="华文彩云"/>
                </a:rPr>
                <a:t>第五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25"/>
          <p:cNvSpPr/>
          <p:nvPr/>
        </p:nvSpPr>
        <p:spPr>
          <a:xfrm>
            <a:off x="303120" y="476280"/>
            <a:ext cx="66852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6"/>
          <p:cNvSpPr/>
          <p:nvPr/>
        </p:nvSpPr>
        <p:spPr>
          <a:xfrm>
            <a:off x="-357120" y="0"/>
            <a:ext cx="1400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职业生涯自我规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五步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己、知彼，择优选择职业目标和路径，并用高效行动去达成职业目标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84360" y="1916280"/>
            <a:ext cx="7704000" cy="3951000"/>
            <a:chOff x="684360" y="1916280"/>
            <a:chExt cx="7704000" cy="3951000"/>
          </a:xfrm>
        </p:grpSpPr>
        <p:pic>
          <p:nvPicPr>
            <p:cNvPr id="420" name="Picture 5" descr="olympic symbol"/>
            <p:cNvPicPr/>
            <p:nvPr/>
          </p:nvPicPr>
          <p:blipFill>
            <a:blip r:embed="rId1"/>
            <a:stretch/>
          </p:blipFill>
          <p:spPr>
            <a:xfrm>
              <a:off x="684360" y="1916280"/>
              <a:ext cx="7704000" cy="39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Rectangle 6"/>
            <p:cNvSpPr/>
            <p:nvPr/>
          </p:nvSpPr>
          <p:spPr>
            <a:xfrm>
              <a:off x="1220400" y="2839320"/>
              <a:ext cx="147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客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认识自我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3722400" y="2839320"/>
              <a:ext cx="160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评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职业机会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6245280" y="2839320"/>
              <a:ext cx="17395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确定职业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目标和路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2292480" y="4225680"/>
              <a:ext cx="192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终生学习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高效行动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5039640" y="4186800"/>
              <a:ext cx="14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与时俱进灵活调整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WOT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自我评估法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将与你密切相关的各种主要内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优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因素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engthe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弱点因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aknesse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机会因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portunitie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威胁因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eat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通过调查罗列出来，并依照一定的次序按矩阵形式排列起来，然后运用系统分析的方法，把各种因素相互匹配起来加以分析，从中得出一系列相应的结论（如对策等）。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构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矩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57200" y="2637000"/>
          <a:ext cx="8229600" cy="3127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部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优势 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劣势 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W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外部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机遇 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O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挑战 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T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大学生职业生涯规划三阶段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3880" y="1785960"/>
            <a:ext cx="777564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大一：生涯探索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大二：生涯规划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生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就业能力提升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大三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就业准备期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大一：生涯探索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28760" y="3642840"/>
            <a:ext cx="828648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主要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理念导入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自我认知如职业兴趣、价值观、能力、个性特质、发展意愿等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专业与职业探索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劳动力市场信息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214200" y="135720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探索期：对自我的认知和职业的探索阶段。特征表现为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开始在课堂、工作实践中尝试，并有意的收集相关的信息，尝试性的开始选择并发展相关的技能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在这个阶段，职业偏好开始出现，并逐步形成一两种具体的职业选择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这个阶段的发展任务是使职业偏好逐渐具体化、特定化并实现职业偏好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1928880" y="1857240"/>
            <a:ext cx="5410080" cy="3035520"/>
            <a:chOff x="1928880" y="1857240"/>
            <a:chExt cx="5410080" cy="3035520"/>
          </a:xfrm>
        </p:grpSpPr>
        <p:sp>
          <p:nvSpPr>
            <p:cNvPr id="326" name="AutoShape 6"/>
            <p:cNvSpPr/>
            <p:nvPr/>
          </p:nvSpPr>
          <p:spPr>
            <a:xfrm>
              <a:off x="1935000" y="1870560"/>
              <a:ext cx="755640" cy="803160"/>
            </a:xfrm>
            <a:prstGeom prst="hexagon">
              <a:avLst>
                <a:gd name="adj" fmla="val 2888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7"/>
            <p:cNvSpPr/>
            <p:nvPr/>
          </p:nvSpPr>
          <p:spPr>
            <a:xfrm>
              <a:off x="1928880" y="1857240"/>
              <a:ext cx="755640" cy="803160"/>
            </a:xfrm>
            <a:prstGeom prst="hexagon">
              <a:avLst>
                <a:gd name="adj" fmla="val 2888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8"/>
            <p:cNvSpPr/>
            <p:nvPr/>
          </p:nvSpPr>
          <p:spPr>
            <a:xfrm>
              <a:off x="1973160" y="1906200"/>
              <a:ext cx="663480" cy="704880"/>
            </a:xfrm>
            <a:prstGeom prst="hexagon">
              <a:avLst>
                <a:gd name="adj" fmla="val 28866"/>
                <a:gd name="vf" fmla="val 11547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0"/>
            <p:cNvSpPr/>
            <p:nvPr/>
          </p:nvSpPr>
          <p:spPr>
            <a:xfrm>
              <a:off x="1935000" y="2993760"/>
              <a:ext cx="755640" cy="803160"/>
            </a:xfrm>
            <a:prstGeom prst="hexagon">
              <a:avLst>
                <a:gd name="adj" fmla="val 2888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1"/>
            <p:cNvSpPr/>
            <p:nvPr/>
          </p:nvSpPr>
          <p:spPr>
            <a:xfrm>
              <a:off x="1928880" y="2980080"/>
              <a:ext cx="755640" cy="803160"/>
            </a:xfrm>
            <a:prstGeom prst="hexagon">
              <a:avLst>
                <a:gd name="adj" fmla="val 2888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2"/>
            <p:cNvSpPr/>
            <p:nvPr/>
          </p:nvSpPr>
          <p:spPr>
            <a:xfrm>
              <a:off x="1973160" y="3028680"/>
              <a:ext cx="663480" cy="704880"/>
            </a:xfrm>
            <a:prstGeom prst="hexagon">
              <a:avLst>
                <a:gd name="adj" fmla="val 28866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2538360" y="26056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4"/>
            <p:cNvSpPr/>
            <p:nvPr/>
          </p:nvSpPr>
          <p:spPr>
            <a:xfrm>
              <a:off x="3337920" y="1954080"/>
              <a:ext cx="18266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文鼎特粗圆简"/>
                </a:rPr>
                <a:t>职业发展与人生规划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5"/>
            <p:cNvSpPr/>
            <p:nvPr/>
          </p:nvSpPr>
          <p:spPr>
            <a:xfrm>
              <a:off x="2127960" y="1977840"/>
              <a:ext cx="349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>
              <a:off x="2538360" y="37288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7"/>
            <p:cNvSpPr/>
            <p:nvPr/>
          </p:nvSpPr>
          <p:spPr>
            <a:xfrm>
              <a:off x="3274560" y="3078000"/>
              <a:ext cx="16437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ea typeface="文鼎特粗圆简"/>
                  <a:hlinkClick r:id="rId1"/>
                </a:rPr>
                <a:t>如何规划职业生涯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8"/>
            <p:cNvSpPr/>
            <p:nvPr/>
          </p:nvSpPr>
          <p:spPr>
            <a:xfrm>
              <a:off x="2127960" y="3101040"/>
              <a:ext cx="349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0"/>
            <p:cNvSpPr/>
            <p:nvPr/>
          </p:nvSpPr>
          <p:spPr>
            <a:xfrm>
              <a:off x="1935000" y="4089600"/>
              <a:ext cx="755640" cy="803160"/>
            </a:xfrm>
            <a:prstGeom prst="hexagon">
              <a:avLst>
                <a:gd name="adj" fmla="val 2888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21"/>
            <p:cNvSpPr/>
            <p:nvPr/>
          </p:nvSpPr>
          <p:spPr>
            <a:xfrm>
              <a:off x="1928880" y="4075920"/>
              <a:ext cx="755640" cy="803160"/>
            </a:xfrm>
            <a:prstGeom prst="hexagon">
              <a:avLst>
                <a:gd name="adj" fmla="val 2888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>
              <a:off x="1973160" y="4124520"/>
              <a:ext cx="663480" cy="704880"/>
            </a:xfrm>
            <a:prstGeom prst="hexagon">
              <a:avLst>
                <a:gd name="adj" fmla="val 28866"/>
                <a:gd name="vf" fmla="val 11547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>
              <a:off x="2538360" y="48247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28"/>
            <p:cNvSpPr/>
            <p:nvPr/>
          </p:nvSpPr>
          <p:spPr>
            <a:xfrm>
              <a:off x="3337920" y="4173840"/>
              <a:ext cx="182664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ea typeface="文鼎特粗圆简"/>
                  <a:hlinkClick r:id="rId2"/>
                </a:rPr>
                <a:t>职业生涯规划书格式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29"/>
            <p:cNvSpPr/>
            <p:nvPr/>
          </p:nvSpPr>
          <p:spPr>
            <a:xfrm>
              <a:off x="2127960" y="4196880"/>
              <a:ext cx="349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大二：生涯规划</a:t>
            </a: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就业能力提升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48840" y="2420640"/>
            <a:ext cx="7931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职业定位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目标设定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行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深造计划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生涯决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矩形 3"/>
          <p:cNvSpPr/>
          <p:nvPr/>
        </p:nvSpPr>
        <p:spPr>
          <a:xfrm>
            <a:off x="720720" y="1700280"/>
            <a:ext cx="4572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生涯规划主要内容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就业能力提升期主要内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职业技能、素质（包括心理素质）提升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潜能开发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知识、技能的学术或资格认证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其他能力提升如时间管理、压力管理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大三：就业准备期主要内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就业观念与心态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就业技能包括求职面试技巧、简历制作、职场礼仪等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习、社会实践、社工、志愿者活动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就业信息收集与生涯安置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职前适应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心理素质提升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社会支持系统的建设与应用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职业生涯规划五步曲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425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（一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自我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评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环境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评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（三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职业定位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（四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计划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执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反馈修正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3635280" y="2565360"/>
            <a:ext cx="5977080" cy="1871640"/>
          </a:xfrm>
          <a:prstGeom prst="cloudCallout">
            <a:avLst>
              <a:gd name="adj1" fmla="val -31462"/>
              <a:gd name="adj2" fmla="val 118449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五部分缺一不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6" descr="ipr2275"/>
          <p:cNvPicPr/>
          <p:nvPr/>
        </p:nvPicPr>
        <p:blipFill>
          <a:blip r:embed="rId1"/>
          <a:stretch/>
        </p:blipFill>
        <p:spPr>
          <a:xfrm>
            <a:off x="0" y="0"/>
            <a:ext cx="3203640" cy="727236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68360" y="213012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  <a:ea typeface="华文彩云"/>
              </a:rPr>
              <a:t>1</a:t>
            </a:r>
            <a:br>
              <a:rPr sz="11000"/>
            </a:br>
            <a:r>
              <a:rPr b="1" lang="zh-CN" sz="11000" spc="-1" strike="noStrike">
                <a:solidFill>
                  <a:srgbClr val="000000"/>
                </a:solidFill>
                <a:latin typeface="Arial"/>
                <a:ea typeface="华文彩云"/>
              </a:rPr>
              <a:t>自我评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86120" y="6381720"/>
            <a:ext cx="1720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</a:rPr>
              <a:t>步骤：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认真审视并思考你的测评报告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了解有关的测评理论及知识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对照自我认识与测评结果的异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分析与测评结果形成差距的原因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确定自我评估结果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3739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ff"/>
                </a:solidFill>
                <a:latin typeface="Arial"/>
              </a:rPr>
              <a:t>个人特质包括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、知    识</a:t>
            </a: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某一职业领域需要的信息；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、技    能</a:t>
            </a: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掌握和运用专门技术的能力；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                                 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、社会角色</a:t>
            </a: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个体对于社会规范的认知与理解；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                                 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、自我认知</a:t>
            </a: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对自己身份的认识、知觉和评价；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、人格特质</a:t>
            </a: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某人所具有的特征或其典型的行为方式；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                                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、动机</a:t>
            </a: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需要</a:t>
            </a: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决定外显行为的内在稳定的想法或念头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4"/>
          <p:cNvSpPr/>
          <p:nvPr/>
        </p:nvSpPr>
        <p:spPr>
          <a:xfrm>
            <a:off x="642960" y="1928880"/>
            <a:ext cx="832176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恭喜你！你获得了一次免费度假游的机会，有机会去下列六个岛屿中的一个。唯一的要求是你必须要在这个岛上呆满至少半年的时间。请不要考虑其他因素，仅凭自己的兴趣按一、二、三的顺序挑出你最想前往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个岛屿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99960" y="587520"/>
            <a:ext cx="30196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职业兴趣小测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reeform 2"/>
          <p:cNvSpPr/>
          <p:nvPr/>
        </p:nvSpPr>
        <p:spPr>
          <a:xfrm>
            <a:off x="-104760" y="-23760"/>
            <a:ext cx="3308400" cy="3309840"/>
          </a:xfrm>
          <a:prstGeom prst="pie">
            <a:avLst/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0" y="214200"/>
            <a:ext cx="270036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: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自然原始的岛屿。岛上自然生态保持得很好，有各种野生动物。居民以手工见长，自己种植花果蔬菜、修缮房屋、打造器物、制作工具，喜欢户外运动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>
            <a:off x="5435640" y="-23760"/>
            <a:ext cx="3889440" cy="410040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6084720" y="492120"/>
            <a:ext cx="305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：美丽浪漫的岛屿。充满了美术馆、音乐厅，街头雕塑和街边艺人，弥漫着浓厚的艺术文化气息。居民保留了传统的舞蹈、音乐与绘画，许多文艺界的朋友都喜欢来这里找寻灵感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"/>
          <p:cNvSpPr/>
          <p:nvPr/>
        </p:nvSpPr>
        <p:spPr>
          <a:xfrm>
            <a:off x="-104760" y="2852640"/>
            <a:ext cx="3957480" cy="3745080"/>
          </a:xfrm>
          <a:prstGeom prst="pi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0" y="3714840"/>
            <a:ext cx="296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：现代、井然的岛屿。岛上建筑十分现代化，是进步的都市形态，以完善的户政管理、地政管理、金融管理见长。岛民个性冷静保守，处事有条不紊，善于组织规划，细心高效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>
            <a:off x="2411280" y="2924280"/>
            <a:ext cx="4032360" cy="39607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9"/>
          <p:cNvSpPr/>
          <p:nvPr/>
        </p:nvSpPr>
        <p:spPr>
          <a:xfrm>
            <a:off x="5364000" y="3271680"/>
            <a:ext cx="3961080" cy="3500640"/>
          </a:xfrm>
          <a:prstGeom prst="pie">
            <a:avLst/>
          </a:prstGeom>
          <a:solidFill>
            <a:srgbClr val="e40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6012000" y="3933720"/>
            <a:ext cx="288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：友善亲切的岛屿。居民个性温和、友善、乐于助人，社区均自成一个密切互动的服务网络，人们重视互助合作，重视教育，关怀他人，充满人文气息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>
            <a:off x="2484360" y="-23760"/>
            <a:ext cx="3527640" cy="36687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2916360" y="476280"/>
            <a:ext cx="2735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：深思冥想的岛屿。有多处天文馆、科技博览馆及图书馆。居民喜好观察、学习，祟尚和追求真知，常有机会和来自各地的哲学家、科学家、心理学家等交换心得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3205080" y="3716280"/>
            <a:ext cx="251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：显赫富庶的岛屿。居民善于企业经营和贸易，能言善道。经济高度发展，处处是高级饭店、俱乐部、高尔夫球场。来往者多是企业家、经理人、政治家、律师等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903960" y="571680"/>
            <a:ext cx="7621200" cy="6659280"/>
            <a:chOff x="903960" y="571680"/>
            <a:chExt cx="7621200" cy="6659280"/>
          </a:xfrm>
        </p:grpSpPr>
        <p:sp>
          <p:nvSpPr>
            <p:cNvPr id="467" name="AutoShape 5"/>
            <p:cNvSpPr/>
            <p:nvPr/>
          </p:nvSpPr>
          <p:spPr>
            <a:xfrm>
              <a:off x="1814760" y="907920"/>
              <a:ext cx="5535720" cy="4944600"/>
            </a:xfrm>
            <a:prstGeom prst="hexagon">
              <a:avLst>
                <a:gd name="adj" fmla="val 27989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6"/>
            <p:cNvSpPr/>
            <p:nvPr/>
          </p:nvSpPr>
          <p:spPr>
            <a:xfrm>
              <a:off x="2714760" y="1214640"/>
              <a:ext cx="193860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4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拥有创造或机械方面的能力，喜欢与实体、机器、工具、动植物在一起的工作或户外工作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4786200" y="1287000"/>
              <a:ext cx="149004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4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喜欢观察、学习、研究、分析、评估或解决问题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>
              <a:off x="4584960" y="907920"/>
              <a:ext cx="0" cy="494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>
              <a:off x="2371320" y="2415960"/>
              <a:ext cx="442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>
              <a:off x="2371320" y="4345200"/>
              <a:ext cx="442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1"/>
            <p:cNvSpPr/>
            <p:nvPr/>
          </p:nvSpPr>
          <p:spPr>
            <a:xfrm>
              <a:off x="2142720" y="2861280"/>
              <a:ext cx="210204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4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喜欢和资料在一起的工作，拥有事务或数值能力，在别人的指示下，完成各种细节事项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2"/>
            <p:cNvSpPr/>
            <p:nvPr/>
          </p:nvSpPr>
          <p:spPr>
            <a:xfrm>
              <a:off x="4786200" y="2785320"/>
              <a:ext cx="221040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4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拥有艺术、创新或直觉上的能力，喜欢在非结构性的环境下工作，发挥他们的想象力与创造力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3"/>
            <p:cNvSpPr/>
            <p:nvPr/>
          </p:nvSpPr>
          <p:spPr>
            <a:xfrm>
              <a:off x="2643120" y="4345200"/>
              <a:ext cx="20102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喜欢和人在一起的工作</a:t>
              </a:r>
              <a:r>
                <a:rPr b="1" lang="en-US" sz="14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——</a:t>
              </a:r>
              <a:r>
                <a:rPr b="1" lang="zh-CN" sz="1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基于组织或经济收益，去影响说服人们或从事任务的执行、领导或管理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4723920" y="4345200"/>
              <a:ext cx="19908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喜欢和人在一起的工作</a:t>
              </a:r>
              <a:r>
                <a:rPr b="1" lang="en-US" sz="14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——</a:t>
              </a:r>
              <a:r>
                <a:rPr b="1" lang="zh-CN" sz="1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告知、唤醒、训练、帮助、培养他们、具有言谈上的能力技巧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1778040" y="571680"/>
              <a:ext cx="15634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实际型</a:t>
              </a:r>
              <a:r>
                <a:rPr b="1" lang="en-US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6302520" y="571680"/>
              <a:ext cx="912240" cy="17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研究型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I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7"/>
            <p:cNvSpPr/>
            <p:nvPr/>
          </p:nvSpPr>
          <p:spPr>
            <a:xfrm>
              <a:off x="7612920" y="2999520"/>
              <a:ext cx="912240" cy="17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艺术型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8"/>
            <p:cNvSpPr/>
            <p:nvPr/>
          </p:nvSpPr>
          <p:spPr>
            <a:xfrm>
              <a:off x="903960" y="2999520"/>
              <a:ext cx="912240" cy="17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常规型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19"/>
            <p:cNvSpPr/>
            <p:nvPr/>
          </p:nvSpPr>
          <p:spPr>
            <a:xfrm>
              <a:off x="1888200" y="5516280"/>
              <a:ext cx="167616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企业型</a:t>
              </a:r>
              <a:r>
                <a:rPr b="1" lang="en-US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0"/>
            <p:cNvSpPr/>
            <p:nvPr/>
          </p:nvSpPr>
          <p:spPr>
            <a:xfrm>
              <a:off x="6264360" y="5518440"/>
              <a:ext cx="912240" cy="17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社会型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 Box 21"/>
          <p:cNvSpPr/>
          <p:nvPr/>
        </p:nvSpPr>
        <p:spPr>
          <a:xfrm>
            <a:off x="2428920" y="214200"/>
            <a:ext cx="4176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霍兰德职业兴趣六角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文鼎特粗圆简"/>
              </a:rPr>
              <a:t>一、职业发展与人生规划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826920" y="1925640"/>
            <a:ext cx="770580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※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生涯与职业生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※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/>
              </a:rPr>
              <a:t>人的生涯发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※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生涯规划的意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※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职业发展与人生成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7308720" y="1916280"/>
            <a:ext cx="1371600" cy="39621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91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实用型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doer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矩形 4"/>
          <p:cNvSpPr/>
          <p:nvPr/>
        </p:nvSpPr>
        <p:spPr>
          <a:xfrm>
            <a:off x="1500120" y="1857240"/>
            <a:ext cx="5086440" cy="33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喜欢具体的任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机械、动手能力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喜欢做体力工作、户外活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更喜欢与物打交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技术性行业工作人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工程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60958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研究型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thinker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6227640" y="1700280"/>
            <a:ext cx="1995480" cy="4632120"/>
          </a:xfrm>
          <a:prstGeom prst="rect">
            <a:avLst/>
          </a:prstGeom>
          <a:ln w="0">
            <a:noFill/>
          </a:ln>
        </p:spPr>
      </p:pic>
      <p:sp>
        <p:nvSpPr>
          <p:cNvPr id="489" name="矩形 4"/>
          <p:cNvSpPr/>
          <p:nvPr/>
        </p:nvSpPr>
        <p:spPr>
          <a:xfrm>
            <a:off x="1714680" y="2000160"/>
            <a:ext cx="4255920" cy="33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喜欢探索和理解事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爱分析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有智慧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独立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实验室研究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科学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27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艺术型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creator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tretch/>
        </p:blipFill>
        <p:spPr>
          <a:xfrm>
            <a:off x="6516720" y="1916280"/>
            <a:ext cx="1920960" cy="3504960"/>
          </a:xfrm>
          <a:prstGeom prst="rect">
            <a:avLst/>
          </a:prstGeom>
          <a:ln w="0">
            <a:noFill/>
          </a:ln>
        </p:spPr>
      </p:pic>
      <p:sp>
        <p:nvSpPr>
          <p:cNvPr id="492" name="矩形 4"/>
          <p:cNvSpPr/>
          <p:nvPr/>
        </p:nvSpPr>
        <p:spPr>
          <a:xfrm>
            <a:off x="2214720" y="1714680"/>
            <a:ext cx="3857400" cy="33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喜欢自我表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富有想象力、创造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追求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喜欢多样性与变化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作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艺术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6623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社会型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helper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101680" cy="3672000"/>
          </a:xfrm>
          <a:prstGeom prst="rect">
            <a:avLst/>
          </a:prstGeom>
          <a:ln w="0">
            <a:noFill/>
          </a:ln>
        </p:spPr>
      </p:pic>
      <p:sp>
        <p:nvSpPr>
          <p:cNvPr id="495" name="矩形 4"/>
          <p:cNvSpPr/>
          <p:nvPr/>
        </p:nvSpPr>
        <p:spPr>
          <a:xfrm>
            <a:off x="1285920" y="1928880"/>
            <a:ext cx="4570200" cy="31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对人感兴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良好的人际交往技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服务他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帮助别人解决问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教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护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3800" y="475920"/>
            <a:ext cx="66340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企业型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persuader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6372360" y="2349360"/>
            <a:ext cx="1790640" cy="3353040"/>
          </a:xfrm>
          <a:prstGeom prst="rect">
            <a:avLst/>
          </a:prstGeom>
          <a:ln w="0">
            <a:noFill/>
          </a:ln>
        </p:spPr>
      </p:pic>
      <p:sp>
        <p:nvSpPr>
          <p:cNvPr id="498" name="矩形 4"/>
          <p:cNvSpPr/>
          <p:nvPr/>
        </p:nvSpPr>
        <p:spPr>
          <a:xfrm>
            <a:off x="1071720" y="1714680"/>
            <a:ext cx="491616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向人推销自己的产品或观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追寻领导力与社会影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有抱负，雄心勃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言语说服能力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销售、管理人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政治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2600" y="404640"/>
            <a:ext cx="71276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事务型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organizer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tretch/>
        </p:blipFill>
        <p:spPr>
          <a:xfrm>
            <a:off x="6286680" y="2143080"/>
            <a:ext cx="1636560" cy="3579840"/>
          </a:xfrm>
          <a:prstGeom prst="rect">
            <a:avLst/>
          </a:prstGeom>
          <a:ln w="0">
            <a:noFill/>
          </a:ln>
        </p:spPr>
      </p:pic>
      <p:sp>
        <p:nvSpPr>
          <p:cNvPr id="501" name="矩形 4"/>
          <p:cNvSpPr/>
          <p:nvPr/>
        </p:nvSpPr>
        <p:spPr>
          <a:xfrm>
            <a:off x="1285920" y="1785960"/>
            <a:ext cx="470376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喜欢有条理、程序化的工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愿意听从指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有组织有计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细致、准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会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文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ipr2275"/>
          <p:cNvPicPr/>
          <p:nvPr/>
        </p:nvPicPr>
        <p:blipFill>
          <a:blip r:embed="rId1"/>
          <a:stretch/>
        </p:blipFill>
        <p:spPr>
          <a:xfrm>
            <a:off x="0" y="0"/>
            <a:ext cx="3203640" cy="727236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68360" y="213012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2</a:t>
            </a:r>
            <a:br>
              <a:rPr sz="11000"/>
            </a:br>
            <a:r>
              <a:rPr b="1" lang="zh-CN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环境评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环境评估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54080" y="2358720"/>
            <a:ext cx="763272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家庭影响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学校因素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就业因素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家庭影响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父母的标榜作用或指示作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庭教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族文化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庭的社会关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庭经济情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父母及亲友的希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学校因素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专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校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老师的影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同学的影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校参加的社会活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校在同行中的地位及社会认可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所学东西的侧重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与同学相比的固有特长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250920" y="260280"/>
            <a:ext cx="86421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两兄弟爬楼的小故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50920" y="133344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一对兄弟家住在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8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层。他们旅行回来，却发现大楼停电了！兄弟俩背着大包小裹非常发愁，俩人商量决定无论如何也得回家，于是开始爬楼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爬到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2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层时，他们觉得累了。哥哥说： “包太重了，不如就放在这里，等来电后坐电梯来拿。”于是，他们把行李放下，轻松些，继续向上爬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但好景不长，到了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4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层，两人实在太累了。想到只爬了一半，两人开始互相埋怨，指责对方不注意大楼的停电公告，才会落得如此下场。他们边吵边爬楼，就这样一路爬到了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6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层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到了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6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层，他们累得连吵架的力气也没有了。弟弟对哥哥说：“咱们不要吵了，爬完它吧。”于是他们默默的继续爬楼，终于到了家门口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站在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8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层的楼梯口，兄弟俩互相望了望，想起了一件事：钥匙忘在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2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层，还在背包里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…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就业因素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所读专业与喜欢职业的关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现今就业的大环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竞争对手和行业职位需求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心仪职业或行业的前景及对大学生的要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心仪工作的典型工作情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己对该工作的客观评价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ipr2275"/>
          <p:cNvPicPr/>
          <p:nvPr/>
        </p:nvPicPr>
        <p:blipFill>
          <a:blip r:embed="rId1"/>
          <a:stretch/>
        </p:blipFill>
        <p:spPr>
          <a:xfrm>
            <a:off x="0" y="0"/>
            <a:ext cx="3203640" cy="72723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68360" y="213012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3</a:t>
            </a:r>
            <a:br>
              <a:rPr sz="11000"/>
            </a:br>
            <a:r>
              <a:rPr b="1" lang="zh-CN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职业定位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第一阶段  案例的广泛搜集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55280" y="2276640"/>
            <a:ext cx="7931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具有清晰的成长轨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典型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确实符合 “优秀”的定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必须具有现实针对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阶段  案例的深层次挖掘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25200" y="2420640"/>
            <a:ext cx="8218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竞争优劣势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成长轨迹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执行和反馈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多角度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挑战常规概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242480" y="6165720"/>
            <a:ext cx="1720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三阶段  确定清晰的思路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786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问题及外部环境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定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策略及优化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执行和反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d9"/>
            </a:gs>
            <a:gs pos="50000">
              <a:srgbClr val="ffffff"/>
            </a:gs>
            <a:gs pos="100000">
              <a:srgbClr val="ffd9d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最喜欢最擅长的技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于身体技能，我拥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于智力技能，我擅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于人际关系，我擅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d9"/>
            </a:gs>
            <a:gs pos="50000">
              <a:srgbClr val="ffffff"/>
            </a:gs>
            <a:gs pos="100000">
              <a:srgbClr val="ffd9d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地理环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出你居住过的所有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出每个地方你过去不喜欢或者至今不喜欢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你认为的重要度将所有原因排列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你的亲人及朋友的意见列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择自己感兴趣的三个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综合以上的确定你职业的归属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d9"/>
            </a:gs>
            <a:gs pos="50000">
              <a:srgbClr val="ffffff"/>
            </a:gs>
            <a:gs pos="100000">
              <a:srgbClr val="ffd9d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最大兴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8598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能引起你的强烈兴趣？什么能激发我的活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喜欢与人还是物打交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天生对什么比较敏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遇见或在书中独到的人物当中，谁的工作是我最喜欢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d9"/>
            </a:gs>
            <a:gs pos="50000">
              <a:srgbClr val="ffffff"/>
            </a:gs>
            <a:gs pos="100000">
              <a:srgbClr val="ffd9d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最大兴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147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喜欢的专业或兴趣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兴趣对我意味着什么领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个领域我最喜欢选择什么职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职业提供了这样的机会，让我在喜欢的领域从事喜欢的职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公司雇佣选择这种职业的人，同时也能满足我特有的价值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d9"/>
            </a:gs>
            <a:gs pos="50000">
              <a:srgbClr val="ffffff"/>
            </a:gs>
            <a:gs pos="100000">
              <a:srgbClr val="ffd9d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喜欢与之共事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3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用型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研究型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艺术型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交型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创业型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务型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564000" y="1773360"/>
            <a:ext cx="5040360" cy="4391640"/>
            <a:chOff x="3564000" y="1773360"/>
            <a:chExt cx="5040360" cy="4391640"/>
          </a:xfrm>
        </p:grpSpPr>
        <p:sp>
          <p:nvSpPr>
            <p:cNvPr id="532" name="Text Box 7"/>
            <p:cNvSpPr/>
            <p:nvPr/>
          </p:nvSpPr>
          <p:spPr>
            <a:xfrm>
              <a:off x="4643640" y="1773360"/>
              <a:ext cx="72072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8"/>
            <p:cNvSpPr/>
            <p:nvPr/>
          </p:nvSpPr>
          <p:spPr>
            <a:xfrm>
              <a:off x="6948720" y="1844640"/>
              <a:ext cx="7920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9"/>
            <p:cNvSpPr/>
            <p:nvPr/>
          </p:nvSpPr>
          <p:spPr>
            <a:xfrm>
              <a:off x="7956720" y="3573720"/>
              <a:ext cx="6476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0"/>
            <p:cNvSpPr/>
            <p:nvPr/>
          </p:nvSpPr>
          <p:spPr>
            <a:xfrm>
              <a:off x="4284720" y="2421000"/>
              <a:ext cx="3816360" cy="3240000"/>
            </a:xfrm>
            <a:prstGeom prst="hexagon">
              <a:avLst>
                <a:gd name="adj" fmla="val 29447"/>
                <a:gd name="vf" fmla="val 115470"/>
              </a:avLst>
            </a:prstGeom>
            <a:solidFill>
              <a:srgbClr val="ff7c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1"/>
            <p:cNvSpPr/>
            <p:nvPr/>
          </p:nvSpPr>
          <p:spPr>
            <a:xfrm>
              <a:off x="6804000" y="5516640"/>
              <a:ext cx="93672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2"/>
            <p:cNvSpPr/>
            <p:nvPr/>
          </p:nvSpPr>
          <p:spPr>
            <a:xfrm>
              <a:off x="4716360" y="5445360"/>
              <a:ext cx="79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564000" y="3789360"/>
              <a:ext cx="7920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 Box 14"/>
          <p:cNvSpPr/>
          <p:nvPr/>
        </p:nvSpPr>
        <p:spPr>
          <a:xfrm>
            <a:off x="5435640" y="3357720"/>
            <a:ext cx="14414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聚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3"/>
          <p:cNvSpPr/>
          <p:nvPr/>
        </p:nvSpPr>
        <p:spPr>
          <a:xfrm>
            <a:off x="250920" y="260280"/>
            <a:ext cx="87138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讨论：故事蕴含的人生道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有人说，这个故事其实就是反映了我们的人生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ts val="33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岁之前，我们活在家人、老师的期望之下，背负着很多的压力、包袱，自己也不够成熟、能力不足，因此步履难免不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ts val="33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岁之后，离开了众人的压力，卸下了包袱，开始全力以赴地追求自己的梦想，就这样愉快地过了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ts val="33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到了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岁，发现青春已逝，不免产生许多遗憾和追悔，于是开始遗憾这个、惋惜那个、抱怨这个、嫉恨那个，就这样在抱怨中度过了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ts val="33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到了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岁，发现人生已所剩不多，于是告诉自己不要在抱怨了，就珍惜剩下的日子吧！于是默默地走完了自己的余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ts val="33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到了生命的尽头，才想起自己好象有什么事情没有完成。原来，我们所有的梦想都留在了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岁的青春岁月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d9"/>
            </a:gs>
            <a:gs pos="50000">
              <a:srgbClr val="ffffff"/>
            </a:gs>
            <a:gs pos="100000">
              <a:srgbClr val="ffd9d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最重视的价值与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帮助那些需要帮助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通某些技术和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响人，并取得巨大反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人视为领导者，能够为自己的所作所为负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名气，被人认可，为人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物质、金钱等方面有所收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d9"/>
            </a:gs>
            <a:gs pos="50000">
              <a:srgbClr val="ffffff"/>
            </a:gs>
            <a:gs pos="100000">
              <a:srgbClr val="ffd9d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喜欢的工作条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4995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不能容忍的工作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噪音太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管制太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须从早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钟开始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高工作效率的关键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ipr2275"/>
          <p:cNvPicPr/>
          <p:nvPr/>
        </p:nvPicPr>
        <p:blipFill>
          <a:blip r:embed="rId1"/>
          <a:stretch/>
        </p:blipFill>
        <p:spPr>
          <a:xfrm>
            <a:off x="0" y="0"/>
            <a:ext cx="3203640" cy="727236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68360" y="213012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4</a:t>
            </a:r>
            <a:br>
              <a:rPr sz="11000"/>
            </a:br>
            <a:r>
              <a:rPr b="1" lang="zh-CN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计划执行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计划执行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16000" y="2349360"/>
            <a:ext cx="75708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终极计划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长期计划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短期计划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突击计划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ipr2275"/>
          <p:cNvPicPr/>
          <p:nvPr/>
        </p:nvPicPr>
        <p:blipFill>
          <a:blip r:embed="rId1"/>
          <a:stretch/>
        </p:blipFill>
        <p:spPr>
          <a:xfrm>
            <a:off x="0" y="0"/>
            <a:ext cx="3203640" cy="727236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68360" y="213012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5</a:t>
            </a:r>
            <a:br>
              <a:rPr sz="11000"/>
            </a:br>
            <a:r>
              <a:rPr b="1" lang="zh-CN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反馈修正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反馈修正的方法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16000" y="2204640"/>
            <a:ext cx="757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滚动计划法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备用计划法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封面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14240" y="2214720"/>
            <a:ext cx="82188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姓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性别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出生日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所在系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专业名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手机号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电子邮箱地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撰写时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标题 1"/>
          <p:cNvSpPr/>
          <p:nvPr/>
        </p:nvSpPr>
        <p:spPr>
          <a:xfrm>
            <a:off x="428760" y="35712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黑体"/>
              </a:rPr>
              <a:t>三、职业生涯规划书格式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黑体"/>
              </a:rPr>
              <a:t>目 录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7868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前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自我认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.1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职业生涯规划测评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.2   36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度评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.3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自我认知小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职业认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.1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外部环境分析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.2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目标职业分析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.3    SWO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析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.4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职业认知小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职业规划设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.1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职业目标的确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.2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制定行动计划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.3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动态反馈调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结束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42480" y="6165720"/>
            <a:ext cx="1720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黑体"/>
              </a:rPr>
              <a:t>前 言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64712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范文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今天这个人才竞争的时代，职业生涯规划开始成为在人争夺战中的另一重要利器。对企业而言，如何体现公司“以人为本”的人才理念，关注员工的人才理念，关注员工的持续成长，职业生涯规划是一种有效的手段；而对每个人而言，职业生命是有限的，如果不进行有效的规划，势必会造成生命和时间的浪费。作为当代大学生，若是带着一脸茫然，踏入这个拥挤的社会怎能满足社会的需要，使自己占有一席之地？因此，我试着为自己拟定一份职业生涯规划，将自己的未来好好的设计一下。有了目标，才会有动力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黑体"/>
              </a:rPr>
              <a:t>一、自我认知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55800" y="1879560"/>
            <a:ext cx="7121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、职业生涯规划测评报告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6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度评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、自我认知小结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涯与职业生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249480" y="1052280"/>
            <a:ext cx="91422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生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舒伯：指一个人在一生中所扮演的角色的综合及结果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职业生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罗斯威尔：人一生中与工作相关的活动、行为、态度、价值观、愿望的有机整体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施恩：内职业生涯 和 外职业生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·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外职业生涯：经历一种职业的过程，包括招聘、培训、晋升、解雇、退休等各个阶段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·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内职业生涯：注重所取得的成功或满足主观感情以及工作事务与家庭义务、个人休闲等其他需求的平衡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中国学者：广义的职业生涯 和 狭义的职业生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·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外职业生涯：从职业能力的获得、职业兴趣的培养、选择职业、就职，直到最后完全退出职业劳动的完整的职业发展过程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·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内职业生涯：从职业学习开始，踏入社会、从事工作，直到离开工作单位为止的人生职业工作历程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职业生涯规划测评报告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14200" y="1333440"/>
            <a:ext cx="871560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职业兴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我喜欢做什么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我的职业生涯规划测评显示，我的职业兴趣是现实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调研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常规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艺术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企业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社会型，这种类型的人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职业能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我能够做什么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我的职业生涯规划测评显示，我的智力水平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我的一般学习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语言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算术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空间判断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形态知觉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书写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运动协调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手指灵活度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手的灵巧度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职业性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我适合做什么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1a03"/>
                </a:solidFill>
                <a:latin typeface="华文行楷"/>
                <a:ea typeface="华文行楷"/>
              </a:rPr>
              <a:t>       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我的职业生涯规划测评显示，我的职业性格属于变化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重复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服从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独立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协作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劝服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机智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自我表现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严谨型，这种类型的人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职业价值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我最看重什么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我的职业生涯规划测评显示，我最看重金钱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家人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朋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知识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健康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自由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事业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美貌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经历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地位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213840" y="356760"/>
            <a:ext cx="86439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6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度评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28760" y="1357200"/>
          <a:ext cx="8143920" cy="4643280"/>
        </p:xfrm>
        <a:graphic>
          <a:graphicData uri="http://schemas.openxmlformats.org/drawingml/2006/table">
            <a:tbl>
              <a:tblPr/>
              <a:tblGrid>
                <a:gridCol w="2716200"/>
                <a:gridCol w="2712960"/>
                <a:gridCol w="27147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优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缺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自我评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家人评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老师评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亲密朋友评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同学评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其他社会关系评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642960" y="714240"/>
            <a:ext cx="70912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自我认知小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1a03"/>
                </a:solidFill>
                <a:latin typeface="Arial"/>
                <a:ea typeface="华文行楷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Verdana"/>
                <a:ea typeface="宋体"/>
              </a:rPr>
              <a:t>综上所述，我是一个</a:t>
            </a:r>
            <a:r>
              <a:rPr b="1" lang="en-US" sz="28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6580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黑体"/>
              </a:rPr>
              <a:t>二、职业认知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85010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外部环境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目标职业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SWO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职业认知小结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285840" y="1285560"/>
            <a:ext cx="88581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家庭环境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经济状况、家人期望、家族文化等对本人的影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学校环境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学校特色、专业学习、实践经验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   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社会环境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就业形势、就业政策、竞争对手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   ④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目标地域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工作单位所在城市的文化特点、气候水土、人际关系等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矩形 5"/>
          <p:cNvSpPr/>
          <p:nvPr/>
        </p:nvSpPr>
        <p:spPr>
          <a:xfrm>
            <a:off x="500040" y="34452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、外部环境分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556920" y="1093680"/>
            <a:ext cx="83818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   ①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目标职业名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   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岗位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   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工作内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   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任职资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   ⑤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工作条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   ⑥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就业和发展前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28400" y="285480"/>
            <a:ext cx="77929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目标职业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556920" y="1093680"/>
            <a:ext cx="83818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我的优势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trength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及其使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我的弱势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eakness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及其弥补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③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我的机会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o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pportunity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及其利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④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我面临的威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hreat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及其排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5"/>
          <p:cNvSpPr/>
          <p:nvPr/>
        </p:nvSpPr>
        <p:spPr>
          <a:xfrm>
            <a:off x="500040" y="42876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SWO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分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556920" y="1093680"/>
            <a:ext cx="83818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由此可见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矩形 5"/>
          <p:cNvSpPr/>
          <p:nvPr/>
        </p:nvSpPr>
        <p:spPr>
          <a:xfrm>
            <a:off x="428760" y="42876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、职业认知小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77929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黑体"/>
              </a:rPr>
              <a:t>三、职业生涯规划设计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28440" y="1643040"/>
            <a:ext cx="70722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职业目标的确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制定行动计划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动态反馈调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761760" y="1214280"/>
            <a:ext cx="83818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职业目标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将来从事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×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行业的）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×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职业发展策略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×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类型的组织（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×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地区发展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职业发展路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走专家路线（管理路线等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矩形 5"/>
          <p:cNvSpPr/>
          <p:nvPr/>
        </p:nvSpPr>
        <p:spPr>
          <a:xfrm>
            <a:off x="500040" y="415800"/>
            <a:ext cx="46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、职业目标的确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什么是职业生涯规划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62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职业生涯规划”是指个人结合自身情况、眼前的机遇和制约因素，为自己确立职业方向、职业目标，选择职业道路，确定教育计划、发展计划，为实现职业生涯目标而确定行动时间和行动方案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两大特征：个性化和开放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57120" y="1142640"/>
            <a:ext cx="83822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357120" y="1285920"/>
          <a:ext cx="8481960" cy="4603680"/>
        </p:xfrm>
        <a:graphic>
          <a:graphicData uri="http://schemas.openxmlformats.org/drawingml/2006/table">
            <a:tbl>
              <a:tblPr/>
              <a:tblGrid>
                <a:gridCol w="752400"/>
                <a:gridCol w="657360"/>
                <a:gridCol w="954000"/>
                <a:gridCol w="1494000"/>
                <a:gridCol w="1506240"/>
                <a:gridCol w="2176560"/>
                <a:gridCol w="941400"/>
              </a:tblGrid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计划名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时间跨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总目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分目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计划内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策略和措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备注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近期计划（大学计划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2011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-2014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大学毕业时要达到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 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：大一要达到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大二要达到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或在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×× 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方面要达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专业学习、职业技能培养、职业素质提升、职业实践计划等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大一以适应大学生活为主，大二以专业学习和掌握职业技能为主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或为了实现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××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目标我要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大学生职业规划的重点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远期计划（毕业后五年计划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2014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-2019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毕业后第五年时要达到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毕业后第一年要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第二年要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或在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××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方面要达到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职场适应、三脉积累（知脉、人脉、金脉）、岗位转换及升迁等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大学生职业规划的重点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3" name="矩形 6"/>
          <p:cNvSpPr/>
          <p:nvPr/>
        </p:nvSpPr>
        <p:spPr>
          <a:xfrm>
            <a:off x="642960" y="41580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、制定行动计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500040" y="1093320"/>
            <a:ext cx="843912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细执行计划如下：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①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本人现正就读大学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x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年级，我在大学期间计划是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大一探索期 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[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阶段目标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]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适应大学生活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,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接触职业规划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,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锻炼自己。具体方案如下：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大二定向期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[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阶段目标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]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初步确立自己努力方向以及进行相关能力的培养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大三准备期 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[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阶段目标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]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进一步加强学习，为不久的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做准备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大四冲刺期 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[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阶段目标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]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考上研究生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/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找到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工作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②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毕业后五年内计划为：（需扩展）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第一年：做好本职工作，给上级好印象；工作上和同事积极沟通，平时多帮助和关心别人，建立良好的人际关系。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第二年：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第三年：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第四年：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第五年：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矩形 5"/>
          <p:cNvSpPr/>
          <p:nvPr/>
        </p:nvSpPr>
        <p:spPr>
          <a:xfrm>
            <a:off x="500040" y="35712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、制定行动计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28760" y="999720"/>
            <a:ext cx="85104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是否需要重新选择职业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（假如一直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那么我将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是否需要调整发展方向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（当出现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的时候，我就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是否需要改变行动策略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（如果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我就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身体、家庭、经济状况以及机遇、意外情况的及时评估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矩形 5"/>
          <p:cNvSpPr/>
          <p:nvPr/>
        </p:nvSpPr>
        <p:spPr>
          <a:xfrm>
            <a:off x="428760" y="35712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、动态反馈调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黑体"/>
              </a:rPr>
              <a:t>结束语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7320" y="961560"/>
            <a:ext cx="838188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范文：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计划固然宏大而美好，但更重要的，在于其具体实践并取得成效。只说不做，所谓的职业规划目标就如空中楼阁般美好却遥不可及，到头来只是一个安慰自己的美丽谎言。然而，现实是未知多变的，定出的目标计划随时都可能遭遇问题，要求有清醒的头脑，巨大的勇气，克服困难，取得成功。也许最终我们的目标也不能达成，但至少我们努力过，奋斗过，拼搏过，人生也便无悔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每个人心中都有一座山峰，雕刻着理想、信念、追求、抱负；每个人心中都有一片森林，承载着收获、芬芳、失意、磨砺。一个人，若要获得成功，必须拿出勇气，付出努力、拼搏、奋斗。成功，不相信眼泪；成功，不相信颓废；成功不相信幻影，未来，要靠自己去打拼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42480" y="6237360"/>
            <a:ext cx="1720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职业生涯规划书的基本要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71720" y="1519200"/>
            <a:ext cx="71071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资料翔实，步骤齐全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论证有据，分析到位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言简意赅、结构紧凑，重点突出、逻辑严密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目标明确，合理适中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分解合理，组合科学，措施具体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格式清晰，图文并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作品的注意事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570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扉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创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真实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校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行性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业上交时间：下学期开学第一周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地点：招生就业处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631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j0301252"/>
          <p:cNvPicPr/>
          <p:nvPr/>
        </p:nvPicPr>
        <p:blipFill>
          <a:blip r:embed="rId1"/>
          <a:stretch/>
        </p:blipFill>
        <p:spPr>
          <a:xfrm>
            <a:off x="6372360" y="4437000"/>
            <a:ext cx="2303280" cy="19702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068840" y="5445000"/>
            <a:ext cx="502344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8" name="矩形 4"/>
            <p:cNvSpPr/>
            <p:nvPr/>
          </p:nvSpPr>
          <p:spPr>
            <a:xfrm>
              <a:off x="578160" y="0"/>
              <a:ext cx="6742440" cy="9471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7"/>
            <p:cNvSpPr/>
            <p:nvPr/>
          </p:nvSpPr>
          <p:spPr>
            <a:xfrm rot="20926800">
              <a:off x="1964160" y="3568320"/>
              <a:ext cx="466704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当代大学生对职业规划的认知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33520" y="2216160"/>
            <a:ext cx="8415360" cy="4183920"/>
            <a:chOff x="533520" y="2216160"/>
            <a:chExt cx="8415360" cy="4183920"/>
          </a:xfrm>
        </p:grpSpPr>
        <p:pic>
          <p:nvPicPr>
            <p:cNvPr id="355" name="Object 5" descr=""/>
            <p:cNvPicPr/>
            <p:nvPr/>
          </p:nvPicPr>
          <p:blipFill>
            <a:blip r:embed="rId1"/>
            <a:stretch/>
          </p:blipFill>
          <p:spPr>
            <a:xfrm>
              <a:off x="533520" y="2216160"/>
              <a:ext cx="5727600" cy="37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6"/>
            <p:cNvSpPr/>
            <p:nvPr/>
          </p:nvSpPr>
          <p:spPr>
            <a:xfrm>
              <a:off x="666720" y="6033960"/>
              <a:ext cx="828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900000" indent="-900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结果：</a:t>
              </a: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6.6%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的大学生对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如何规划自己的职业生涯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”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毫无头绪或仅有初步了解！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7"/>
            <p:cNvSpPr/>
            <p:nvPr/>
          </p:nvSpPr>
          <p:spPr>
            <a:xfrm>
              <a:off x="6462720" y="3089160"/>
              <a:ext cx="24130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marL="343080" indent="-343080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一：毫无概念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二：了解一点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三：比较熟悉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四：深入了解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5:15:45Z</dcterms:created>
  <dc:creator>中创教育</dc:creator>
  <dc:description/>
  <dc:language>en-US</dc:language>
  <cp:lastModifiedBy>xubo</cp:lastModifiedBy>
  <cp:lastPrinted>1899-12-30T00:00:00Z</cp:lastPrinted>
  <dcterms:modified xsi:type="dcterms:W3CDTF">2014-05-21T03:19:39Z</dcterms:modified>
  <cp:revision>182</cp:revision>
  <dc:subject/>
  <dc:title>规划人生，成就未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