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30E-3BB2-4533-AD9F-8D7AD85C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25B-378C-4192-813D-F3903B9C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1EA-3D83-4447-A12D-D948381B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616-C53D-4F14-99F6-D1029279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484-CF1A-4AC8-B608-87E40F38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D13-26DD-45DE-A121-56C43107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335-7B9F-43C7-8DE9-D96D4B42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D64-3AEE-4CAD-AD0F-E9DA09BB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305-2753-494A-97A9-CCAF42DD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93A-9BF9-49E0-9CA9-908FD63C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2A2-2015-44E8-AA02-91E3AECD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9DC-682B-4E13-8E8E-735460F0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7080" y="6507000"/>
            <a:ext cx="798480" cy="33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D3B3-3FAA-4EF6-BBE5-0B0BA4A3B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8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cp:lastPrinted>1899-12-30T00:00:00Z</cp:lastPrinted>
  <dcterms:modified xsi:type="dcterms:W3CDTF">2014-05-26T06:18:01Z</dcterms:modified>
  <cp:revision>17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