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1652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2438280"/>
            <a:ext cx="7315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228600" y="4667400"/>
            <a:ext cx="7315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1652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243828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977280" y="243828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28600" y="466740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3977280" y="466740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28600" y="1652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28600" y="2438280"/>
            <a:ext cx="23551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701800" y="2438280"/>
            <a:ext cx="23551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175000" y="2438280"/>
            <a:ext cx="23551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28600" y="4667400"/>
            <a:ext cx="23551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2701800" y="4667400"/>
            <a:ext cx="23551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175000" y="4667400"/>
            <a:ext cx="23551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1652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228600" y="2438280"/>
            <a:ext cx="73152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1652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28600" y="2438280"/>
            <a:ext cx="7315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28600" y="1652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28600" y="2438280"/>
            <a:ext cx="35697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977280" y="2438280"/>
            <a:ext cx="35697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1652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228600" y="1676520"/>
            <a:ext cx="7315200" cy="331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1652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243828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977280" y="2438280"/>
            <a:ext cx="35697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228600" y="466740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28600" y="1652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228600" y="2438280"/>
            <a:ext cx="73152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1652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2438280"/>
            <a:ext cx="35697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977280" y="243828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977280" y="466740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1652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600" y="243828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977280" y="243828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28600" y="4667400"/>
            <a:ext cx="7315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600" y="1652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600" y="2438280"/>
            <a:ext cx="7315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228600" y="4667400"/>
            <a:ext cx="7315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1652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600" y="243828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977280" y="243828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28600" y="466740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3977280" y="466740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600" y="1652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2438280"/>
            <a:ext cx="23551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701800" y="2438280"/>
            <a:ext cx="23551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75000" y="2438280"/>
            <a:ext cx="23551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228600" y="4667400"/>
            <a:ext cx="23551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2701800" y="4667400"/>
            <a:ext cx="23551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175000" y="4667400"/>
            <a:ext cx="23551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28600" y="1652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228600" y="2438280"/>
            <a:ext cx="7315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1652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2438280"/>
            <a:ext cx="35697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3977280" y="2438280"/>
            <a:ext cx="35697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1652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228600" y="1676520"/>
            <a:ext cx="7315200" cy="331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1652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28600" y="243828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3977280" y="2438280"/>
            <a:ext cx="35697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228600" y="466740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1652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2438280"/>
            <a:ext cx="35697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977280" y="243828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977280" y="466740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1652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243828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977280" y="243828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228600" y="4667400"/>
            <a:ext cx="7315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1676520"/>
            <a:ext cx="73152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Microsoft Sans Serif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2438280"/>
            <a:ext cx="7315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Click to edit the outline text format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1" marL="743040" indent="-285840">
              <a:spcBef>
                <a:spcPts val="799"/>
              </a:spcBef>
              <a:buClr>
                <a:srgbClr val="4d4d4d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econd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2" marL="11430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Third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3" marL="16002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Four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4" marL="20574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Fif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5" marL="20574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ix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6" marL="20574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even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80880" y="2963880"/>
            <a:ext cx="77724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icrosoft Sans Serif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Microsoft Sans Serif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Microsoft Sans Serif"/>
              </a:rPr>
              <a:t>Second Outline Level</a:t>
            </a: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  <a:p>
            <a:pPr lvl="2" marL="914400" algn="ctr">
              <a:spcBef>
                <a:spcPts val="601"/>
              </a:spcBef>
              <a:buClr>
                <a:srgbClr val="4d4d4d"/>
              </a:buClr>
              <a:buFont typeface="Microsoft Sans Serif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Microsoft Sans Serif"/>
              </a:rPr>
              <a:t>Third Outline Level</a:t>
            </a: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  <a:p>
            <a:pPr lvl="3" marL="1371600" algn="ctr">
              <a:spcBef>
                <a:spcPts val="499"/>
              </a:spcBef>
              <a:buClr>
                <a:srgbClr val="4d4d4d"/>
              </a:buClr>
              <a:buFont typeface="Microsoft Sans Serif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Microsoft Sans Serif"/>
              </a:rPr>
              <a:t>Fourth Outline Level</a:t>
            </a:r>
            <a:endParaRPr b="0" lang="en-US" sz="2000" spc="-1" strike="noStrike">
              <a:solidFill>
                <a:srgbClr val="4d4d4d"/>
              </a:solidFill>
              <a:latin typeface="Microsoft Sans Serif"/>
            </a:endParaRPr>
          </a:p>
          <a:p>
            <a:pPr lvl="4" marL="1828800" algn="ctr">
              <a:spcBef>
                <a:spcPts val="499"/>
              </a:spcBef>
              <a:buClr>
                <a:srgbClr val="4d4d4d"/>
              </a:buClr>
              <a:buFont typeface="Microsoft Sans Serif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Microsoft Sans Serif"/>
              </a:rPr>
              <a:t>Fifth Outline Level</a:t>
            </a:r>
            <a:endParaRPr b="0" lang="en-US" sz="2000" spc="-1" strike="noStrike">
              <a:solidFill>
                <a:srgbClr val="4d4d4d"/>
              </a:solidFill>
              <a:latin typeface="Microsoft Sans Serif"/>
            </a:endParaRPr>
          </a:p>
          <a:p>
            <a:pPr lvl="5" marL="1828800">
              <a:spcBef>
                <a:spcPts val="4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Microsoft Sans Serif"/>
              </a:rPr>
              <a:t>Sixth Outline Level</a:t>
            </a:r>
            <a:endParaRPr b="0" lang="en-US" sz="2000" spc="-1" strike="noStrike">
              <a:solidFill>
                <a:srgbClr val="4d4d4d"/>
              </a:solidFill>
              <a:latin typeface="Microsoft Sans Serif"/>
            </a:endParaRPr>
          </a:p>
          <a:p>
            <a:pPr lvl="6" marL="1828800">
              <a:spcBef>
                <a:spcPts val="4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Microsoft Sans Serif"/>
              </a:rPr>
              <a:t>Seventh Outline Level</a:t>
            </a:r>
            <a:endParaRPr b="0" lang="en-US" sz="20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4560" y="2666880"/>
            <a:ext cx="518148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304560" y="3657240"/>
            <a:ext cx="5181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78" name=""/>
          <p:cNvSpPr/>
          <p:nvPr/>
        </p:nvSpPr>
        <p:spPr>
          <a:xfrm>
            <a:off x="7164360" y="638172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315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1532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微软雅黑"/>
              <a:ea typeface="微软雅黑"/>
            </a:endParaRPr>
          </a:p>
        </p:txBody>
      </p:sp>
      <p:sp>
        <p:nvSpPr>
          <p:cNvPr id="81" name=""/>
          <p:cNvSpPr/>
          <p:nvPr/>
        </p:nvSpPr>
        <p:spPr>
          <a:xfrm>
            <a:off x="7164360" y="638172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78168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4d4d"/>
              </a:solidFill>
              <a:latin typeface="微软雅黑"/>
              <a:ea typeface="微软雅黑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133720" y="1142640"/>
            <a:ext cx="67816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微软雅黑"/>
              <a:ea typeface="微软雅黑"/>
            </a:endParaRPr>
          </a:p>
        </p:txBody>
      </p:sp>
      <p:sp>
        <p:nvSpPr>
          <p:cNvPr id="84" name=""/>
          <p:cNvSpPr/>
          <p:nvPr/>
        </p:nvSpPr>
        <p:spPr>
          <a:xfrm>
            <a:off x="2513160" y="6324480"/>
            <a:ext cx="56332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697b8f"/>
                </a:solidFill>
                <a:uFillTx/>
                <a:latin typeface="楷体"/>
                <a:ea typeface="楷体"/>
                <a:hlinkClick r:id="rId2"/>
              </a:rPr>
              <a:t>PPT之家</a:t>
            </a:r>
            <a:r>
              <a:rPr b="1" lang="zh-CN" sz="1800" spc="-1" strike="noStrike">
                <a:solidFill>
                  <a:srgbClr val="1c1c1c"/>
                </a:solidFill>
                <a:latin typeface="楷体"/>
                <a:ea typeface="楷体"/>
              </a:rPr>
              <a:t>整理发布，更多免费</a:t>
            </a:r>
            <a:r>
              <a:rPr b="1" lang="zh-CN" sz="1800" spc="-1" strike="noStrike">
                <a:solidFill>
                  <a:srgbClr val="1c1c1c"/>
                </a:solidFill>
                <a:latin typeface="楷体"/>
                <a:ea typeface="楷体"/>
              </a:rPr>
              <a:t>PPT</a:t>
            </a:r>
            <a:r>
              <a:rPr b="1" lang="zh-CN" sz="1800" spc="-1" strike="noStrike">
                <a:solidFill>
                  <a:srgbClr val="1c1c1c"/>
                </a:solidFill>
                <a:latin typeface="楷体"/>
                <a:ea typeface="楷体"/>
              </a:rPr>
              <a:t>模板下载请访问：</a:t>
            </a:r>
            <a:r>
              <a:rPr b="1" lang="zh-CN" sz="1800" spc="-1" strike="noStrike">
                <a:solidFill>
                  <a:srgbClr val="1c1c1c"/>
                </a:solidFill>
                <a:latin typeface="楷体"/>
                <a:ea typeface="楷体"/>
              </a:rPr>
              <a:t>www.eeppt.com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86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4d4d4d"/>
                </a:solidFill>
                <a:latin typeface="Arial"/>
              </a:endParaRPr>
            </a:p>
          </p:txBody>
        </p:sp>
        <p:pic>
          <p:nvPicPr>
            <p:cNvPr id="87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697b8f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697b8f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697b8f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8T20:13:27Z</dcterms:created>
  <dc:creator>SmileTemplates.com</dc:creator>
  <dc:description/>
  <dc:language>en-US</dc:language>
  <cp:lastModifiedBy>Root</cp:lastModifiedBy>
  <cp:lastPrinted>1899-12-30T00:00:00Z</cp:lastPrinted>
  <dcterms:modified xsi:type="dcterms:W3CDTF">2014-06-05T07:02:26Z</dcterms:modified>
  <cp:revision>7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</Properties>
</file>