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E37-14CD-4F2D-867D-898140E0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145-FE91-4C31-9FAB-6A3C3B28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36C-BE76-46D9-9C72-4B20E569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CB4-DD6E-4914-8450-42446A95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B634-C260-4C5B-8545-5FAF79B0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C1AC-D6E1-4BB2-9806-B0DCFAE9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E956-EF00-4935-9E04-F0C3E5CC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BCDB-D3EF-43AA-AD6F-A3C7CC24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473B-B0EC-462B-8016-857D8A7C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D043-10F2-4E26-8E58-8A50A982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1832-6E3C-42E1-B6A9-DC6A83C0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5F1-3585-4E80-9D35-13A679CE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3313-EBB6-4256-B7F1-DDCA8C1A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D62E-FF5A-4DF9-A414-ABC329FA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4AF1-8157-4F17-9F67-ABBF8BC4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59DF-F0FA-40A1-81E9-D4D20365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6D0E-2DC6-4D97-8B72-1362FF5B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2283-9D30-45E9-B180-926C366D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D07A-5B72-4311-94E6-189325CA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1D318-AD0A-46A2-B35F-7734A92D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94C8-0A28-462B-A7A4-197B9925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6F6F1-E1BD-4170-976C-9DA824D6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ABF-C74A-40EF-9391-3E377BD3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F7E60-8940-47C3-99E7-F62FE13B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B137B-CCB0-4038-AF31-0BCDDAD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4705-BA64-4499-A449-709C11C7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2D61E-DCB9-44CB-B154-2826C01B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D862-40D6-43EC-9134-C3CBC39E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DDD83-EAFD-45B2-AE41-466DA99C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1C5BD-5DFB-4E63-BAD5-EC2B6B1A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045-A287-463E-98B7-56AE1650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EB6-10B9-4F7C-A229-A5A27044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B8F-4E13-4B90-82E5-6FE96C9A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E93-F86C-4F4B-A01F-6FE0CAB0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EF7-5556-417A-B3A4-2219C0DD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8BD-C42B-4B0C-BE9B-45E10808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rcRect l="0" t="0" r="0" b="72674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 rot="5400000">
            <a:off x="5295600" y="3009960"/>
            <a:ext cx="6858000" cy="8380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322C-88BB-4BF2-9126-4830B0077E08}" type="slidenum"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63548" t="44973" r="2585" b="29879"/>
          <a:stretch/>
        </p:blipFill>
        <p:spPr>
          <a:xfrm>
            <a:off x="380880" y="1066680"/>
            <a:ext cx="6172200" cy="3812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rcRect l="32999" t="32000" r="0" b="0"/>
          <a:stretch/>
        </p:blipFill>
        <p:spPr>
          <a:xfrm>
            <a:off x="6477120" y="4815000"/>
            <a:ext cx="2666880" cy="2043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>
            <a:lum bright="6000"/>
          </a:blip>
          <a:srcRect l="0" t="0" r="0" b="6667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36000" r="42004" b="0"/>
          <a:stretch/>
        </p:blipFill>
        <p:spPr>
          <a:xfrm>
            <a:off x="0" y="2836800"/>
            <a:ext cx="4876920" cy="4035600"/>
          </a:xfrm>
          <a:prstGeom prst="rect">
            <a:avLst/>
          </a:prstGeom>
          <a:ln w="0">
            <a:noFill/>
          </a:ln>
        </p:spPr>
      </p:pic>
      <p:sp>
        <p:nvSpPr>
          <p:cNvPr id="49" name="Freeform 27"/>
          <p:cNvSpPr/>
          <p:nvPr/>
        </p:nvSpPr>
        <p:spPr>
          <a:xfrm rot="16200000">
            <a:off x="566640" y="-567000"/>
            <a:ext cx="1152360" cy="2286000"/>
          </a:xfrm>
          <a:prstGeom prst="pi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7"/>
          <p:cNvSpPr/>
          <p:nvPr/>
        </p:nvSpPr>
        <p:spPr>
          <a:xfrm rot="5400000">
            <a:off x="5705280" y="3419280"/>
            <a:ext cx="2305080" cy="4572000"/>
          </a:xfrm>
          <a:prstGeom prst="pi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1BC6-434F-40F1-9346-819DD8681EA2}" type="slidenum"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icrosoft JhengHe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icrosoft JhengHe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icrosoft JhengHe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57D6-8BA8-486A-BD26-F59F2994E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825200"/>
            <a:ext cx="71625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4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7" name=""/>
          <p:cNvSpPr/>
          <p:nvPr/>
        </p:nvSpPr>
        <p:spPr>
          <a:xfrm>
            <a:off x="1059840" y="6400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D29-EDAF-4533-A271-A558E11F49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A32-FCB0-4F8E-B159-3D4241F826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06:57:43Z</dcterms:created>
  <dc:creator/>
  <dc:description/>
  <dc:language>en-US</dc:language>
  <cp:lastModifiedBy>MC SYSTEM</cp:lastModifiedBy>
  <dcterms:modified xsi:type="dcterms:W3CDTF">2014-05-16T07:19:52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