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4140200" cy="25923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6280" y="104400"/>
            <a:ext cx="3726000" cy="43164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ctr">
            <a:noAutofit/>
          </a:bodyPr>
          <a:p>
            <a:pPr indent="0" algn="ctr">
              <a:buNone/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6280" y="604440"/>
            <a:ext cx="3726000" cy="81540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06280" y="1497600"/>
            <a:ext cx="3726000" cy="81540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04400"/>
            <a:ext cx="3726000" cy="43164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ctr">
            <a:noAutofit/>
          </a:bodyPr>
          <a:p>
            <a:pPr indent="0" algn="ctr">
              <a:buNone/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6280" y="604440"/>
            <a:ext cx="1818000" cy="81540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15720" y="604440"/>
            <a:ext cx="1818000" cy="81540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6280" y="1497600"/>
            <a:ext cx="1818000" cy="81540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2115720" y="1497600"/>
            <a:ext cx="1818000" cy="81540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6280" y="104400"/>
            <a:ext cx="3726000" cy="43164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ctr">
            <a:noAutofit/>
          </a:bodyPr>
          <a:p>
            <a:pPr indent="0" algn="ctr">
              <a:buNone/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06280" y="604440"/>
            <a:ext cx="1199520" cy="81540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66280" y="604440"/>
            <a:ext cx="1199520" cy="81540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25920" y="604440"/>
            <a:ext cx="1199520" cy="81540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06280" y="1497600"/>
            <a:ext cx="1199520" cy="81540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1466280" y="1497600"/>
            <a:ext cx="1199520" cy="81540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2725920" y="1497600"/>
            <a:ext cx="1199520" cy="81540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06280" y="104400"/>
            <a:ext cx="3726000" cy="43164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ctr">
            <a:noAutofit/>
          </a:bodyPr>
          <a:p>
            <a:pPr indent="0" algn="ctr">
              <a:buNone/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06280" y="604440"/>
            <a:ext cx="3726000" cy="17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6280" y="104400"/>
            <a:ext cx="3726000" cy="43164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ctr">
            <a:noAutofit/>
          </a:bodyPr>
          <a:p>
            <a:pPr indent="0" algn="ctr">
              <a:buNone/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6280" y="604440"/>
            <a:ext cx="3726000" cy="170964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6280" y="104400"/>
            <a:ext cx="3726000" cy="43164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ctr">
            <a:noAutofit/>
          </a:bodyPr>
          <a:p>
            <a:pPr indent="0" algn="ctr">
              <a:buNone/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6280" y="604440"/>
            <a:ext cx="1818000" cy="170964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115720" y="604440"/>
            <a:ext cx="1818000" cy="170964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04400"/>
            <a:ext cx="3726000" cy="43164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ctr">
            <a:noAutofit/>
          </a:bodyPr>
          <a:p>
            <a:pPr indent="0" algn="ctr">
              <a:buNone/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06280" y="104400"/>
            <a:ext cx="3726000" cy="20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04400"/>
            <a:ext cx="3726000" cy="43164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ctr">
            <a:noAutofit/>
          </a:bodyPr>
          <a:p>
            <a:pPr indent="0" algn="ctr">
              <a:buNone/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6280" y="604440"/>
            <a:ext cx="1818000" cy="81540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115720" y="604440"/>
            <a:ext cx="1818000" cy="170964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06280" y="1497600"/>
            <a:ext cx="1818000" cy="81540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6280" y="104400"/>
            <a:ext cx="3726000" cy="43164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ctr">
            <a:noAutofit/>
          </a:bodyPr>
          <a:p>
            <a:pPr indent="0" algn="ctr">
              <a:buNone/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06280" y="604440"/>
            <a:ext cx="3726000" cy="17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6280" y="104400"/>
            <a:ext cx="3726000" cy="43164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ctr">
            <a:noAutofit/>
          </a:bodyPr>
          <a:p>
            <a:pPr indent="0" algn="ctr">
              <a:buNone/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6280" y="604440"/>
            <a:ext cx="1818000" cy="170964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115720" y="604440"/>
            <a:ext cx="1818000" cy="81540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115720" y="1497600"/>
            <a:ext cx="1818000" cy="81540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6280" y="104400"/>
            <a:ext cx="3726000" cy="43164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ctr">
            <a:noAutofit/>
          </a:bodyPr>
          <a:p>
            <a:pPr indent="0" algn="ctr">
              <a:buNone/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6280" y="604440"/>
            <a:ext cx="1818000" cy="81540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115720" y="604440"/>
            <a:ext cx="1818000" cy="81540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06280" y="1497600"/>
            <a:ext cx="3726000" cy="81540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6280" y="104400"/>
            <a:ext cx="3726000" cy="43164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ctr">
            <a:noAutofit/>
          </a:bodyPr>
          <a:p>
            <a:pPr indent="0" algn="ctr">
              <a:buNone/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6280" y="604440"/>
            <a:ext cx="3726000" cy="81540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06280" y="1497600"/>
            <a:ext cx="3726000" cy="81540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6280" y="104400"/>
            <a:ext cx="3726000" cy="43164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ctr">
            <a:noAutofit/>
          </a:bodyPr>
          <a:p>
            <a:pPr indent="0" algn="ctr">
              <a:buNone/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6280" y="604440"/>
            <a:ext cx="1818000" cy="81540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115720" y="604440"/>
            <a:ext cx="1818000" cy="81540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06280" y="1497600"/>
            <a:ext cx="1818000" cy="81540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2115720" y="1497600"/>
            <a:ext cx="1818000" cy="81540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04400"/>
            <a:ext cx="3726000" cy="43164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ctr">
            <a:noAutofit/>
          </a:bodyPr>
          <a:p>
            <a:pPr indent="0" algn="ctr">
              <a:buNone/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6280" y="604440"/>
            <a:ext cx="1199520" cy="81540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66280" y="604440"/>
            <a:ext cx="1199520" cy="81540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725920" y="604440"/>
            <a:ext cx="1199520" cy="81540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206280" y="1497600"/>
            <a:ext cx="1199520" cy="81540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1466280" y="1497600"/>
            <a:ext cx="1199520" cy="81540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2725920" y="1497600"/>
            <a:ext cx="1199520" cy="81540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06280" y="104400"/>
            <a:ext cx="3726000" cy="43164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ctr">
            <a:noAutofit/>
          </a:bodyPr>
          <a:p>
            <a:pPr indent="0" algn="ctr">
              <a:buNone/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06280" y="604440"/>
            <a:ext cx="3726000" cy="170964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6280" y="104400"/>
            <a:ext cx="3726000" cy="43164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ctr">
            <a:noAutofit/>
          </a:bodyPr>
          <a:p>
            <a:pPr indent="0" algn="ctr">
              <a:buNone/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06280" y="604440"/>
            <a:ext cx="1818000" cy="170964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2115720" y="604440"/>
            <a:ext cx="1818000" cy="170964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04400"/>
            <a:ext cx="3726000" cy="43164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ctr">
            <a:noAutofit/>
          </a:bodyPr>
          <a:p>
            <a:pPr indent="0" algn="ctr">
              <a:buNone/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06280" y="104400"/>
            <a:ext cx="3726000" cy="20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6280" y="104400"/>
            <a:ext cx="3726000" cy="43164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ctr">
            <a:noAutofit/>
          </a:bodyPr>
          <a:p>
            <a:pPr indent="0" algn="ctr">
              <a:buNone/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6280" y="604440"/>
            <a:ext cx="1818000" cy="81540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115720" y="604440"/>
            <a:ext cx="1818000" cy="170964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06280" y="1497600"/>
            <a:ext cx="1818000" cy="81540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6280" y="104400"/>
            <a:ext cx="3726000" cy="43164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ctr">
            <a:noAutofit/>
          </a:bodyPr>
          <a:p>
            <a:pPr indent="0" algn="ctr">
              <a:buNone/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6280" y="604440"/>
            <a:ext cx="1818000" cy="170964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115720" y="604440"/>
            <a:ext cx="1818000" cy="81540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15720" y="1497600"/>
            <a:ext cx="1818000" cy="81540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6280" y="104400"/>
            <a:ext cx="3726000" cy="43164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ctr">
            <a:noAutofit/>
          </a:bodyPr>
          <a:p>
            <a:pPr indent="0" algn="ctr">
              <a:buNone/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6280" y="604440"/>
            <a:ext cx="1818000" cy="81540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115720" y="604440"/>
            <a:ext cx="1818000" cy="81540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06280" y="1497600"/>
            <a:ext cx="3726000" cy="81540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04400"/>
            <a:ext cx="3726000" cy="43164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ctr">
            <a:noAutofit/>
          </a:bodyPr>
          <a:p>
            <a:pPr indent="0" algn="ctr">
              <a:buNone/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6280" y="604440"/>
            <a:ext cx="3726000" cy="170964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marL="150840" indent="-1508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26880" indent="-126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501480" indent="-99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01640" indent="-10008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903240" indent="-100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903240" indent="-100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903240" indent="-100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1040" y="804600"/>
            <a:ext cx="3517920" cy="55548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ctr">
            <a:noAutofit/>
          </a:bodyPr>
          <a:p>
            <a:pPr indent="0" algn="ctr">
              <a:buNone/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207000" y="606240"/>
            <a:ext cx="3725640" cy="150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00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200160" indent="0" algn="ctr">
              <a:spcBef>
                <a:spcPts val="249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401760" algn="ctr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  <a:tab algn="l" pos="84344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601560" algn="ctr"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  <a:tab algn="l" pos="8434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4" marL="803160" algn="ctr"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  <a:tab algn="l" pos="8434440"/>
                <a:tab algn="l" pos="88362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5" marL="803160"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6" marL="803160"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1040" y="804600"/>
            <a:ext cx="3517920" cy="55548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ctr">
            <a:noAutofit/>
          </a:bodyPr>
          <a:p>
            <a:pPr indent="0" algn="ctr">
              <a:buNone/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20640" y="1468080"/>
            <a:ext cx="2897280" cy="66204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620440" y="2232000"/>
            <a:ext cx="152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Arial"/>
                <a:ea typeface="黑体"/>
              </a:rPr>
              <a:t>免费</a:t>
            </a:r>
            <a:r>
              <a:rPr b="1" lang="zh-CN" sz="9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1" lang="zh-CN" sz="900" spc="-1" strike="noStrike">
                <a:solidFill>
                  <a:srgbClr val="ffffff"/>
                </a:solidFill>
                <a:latin typeface="Arial"/>
                <a:ea typeface="黑体"/>
              </a:rPr>
              <a:t>模板下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zh-CN" sz="9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1" lang="zh-CN" sz="9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</a:t>
            </a:r>
            <a:r>
              <a:rPr b="1" lang="zh-CN" sz="800" spc="-1" strike="noStrike">
                <a:solidFill>
                  <a:srgbClr val="ffffff"/>
                </a:solidFill>
                <a:latin typeface="华文中宋"/>
                <a:ea typeface="华文中宋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06280" y="104400"/>
            <a:ext cx="3726000" cy="43164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ctr">
            <a:noAutofit/>
          </a:bodyPr>
          <a:p>
            <a:pPr indent="0" algn="ctr">
              <a:buNone/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06280" y="604440"/>
            <a:ext cx="3726000" cy="1709640"/>
          </a:xfrm>
          <a:prstGeom prst="rect">
            <a:avLst/>
          </a:prstGeom>
          <a:noFill/>
          <a:ln w="0">
            <a:noFill/>
          </a:ln>
        </p:spPr>
        <p:txBody>
          <a:bodyPr lIns="39960" rIns="39960" tIns="20160" bIns="20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03520" y="2314440"/>
            <a:ext cx="2297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7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7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7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7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3833640" cy="2590920"/>
            <a:chOff x="0" y="0"/>
            <a:chExt cx="3833640" cy="2590920"/>
          </a:xfrm>
        </p:grpSpPr>
        <p:sp>
          <p:nvSpPr>
            <p:cNvPr id="83" name="矩形 4"/>
            <p:cNvSpPr/>
            <p:nvPr/>
          </p:nvSpPr>
          <p:spPr>
            <a:xfrm>
              <a:off x="53640" y="0"/>
              <a:ext cx="3469320" cy="39888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647640"/>
              <a:ext cx="383364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Box 7"/>
            <p:cNvSpPr/>
            <p:nvPr/>
          </p:nvSpPr>
          <p:spPr>
            <a:xfrm rot="20926800">
              <a:off x="874080" y="1348920"/>
              <a:ext cx="21132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1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1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1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1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1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7T13:59:06Z</dcterms:created>
  <dc:creator>Administrator</dc:creator>
  <dc:description/>
  <dc:language>en-US</dc:language>
  <cp:lastModifiedBy/>
  <cp:lastPrinted>1899-12-30T00:00:00Z</cp:lastPrinted>
  <dcterms:modified xsi:type="dcterms:W3CDTF">2014-06-03T05:35:2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