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81BE-ACB1-413E-9952-853AD8888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-158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457d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457d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45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004B-2447-404E-B23A-E7E9B6AAC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-158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457d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457d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457d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457d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457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CA14-A782-42F4-8937-222F45B13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-158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457d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457d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457d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457d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457d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457d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457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E1B4-04C1-43DD-BF59-7BEAF6983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A2E79-E37F-4294-865A-1A91D9D0E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158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457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45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67073-AABD-4265-8738-30FA246EC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158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457d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45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FE4BF-310D-4A8D-865D-F56444589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158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457d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457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45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61956-F223-4AF5-B1FC-47D4D589A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158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45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40BE8-E3FC-45F8-B15F-531A60EDB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-1584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45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90F89-496D-4B38-9CC1-12D8273A0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158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457d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457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457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45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7F8DF-4996-4AC6-A92D-E355E34ED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158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457d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45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B14E-48A1-46D2-8694-EEC57410D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-158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457d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457d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457d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45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B0A99-DBB4-4FE3-A380-35F2AA40A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-158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457d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457d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457d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45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200EB-32CF-4F42-98C8-DAA82EAAE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-158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45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457d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45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D2001-8154-43E4-A6D6-4E905C72D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158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457d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457d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457d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457d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457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9A1D0-CB17-4510-BA92-213AF32E9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158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45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457d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457d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457d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457d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457d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457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3D926-0A34-444D-B349-1C07B1FA9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158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457d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45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310E-F0E1-4301-A392-0C6835F34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-158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457d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457d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45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EF72-5C3C-4276-9FD1-3D1C7DE20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158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45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BBE8-C27F-47BF-A2FD-1A23A9C27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-1584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45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C250-C07A-4FD4-BC38-8BEC6DFEC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-158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457d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457d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457d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45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BFDF-92A5-42F9-AF8B-85697D797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-158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457d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457d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457d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45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E6B2-9AAC-4A46-BE58-96DFDF505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-158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457d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457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457d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45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DCD9-D25D-467A-B97E-77C796034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49188-005B-4E7C-B887-66CABEBC2E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158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457d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66457d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45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457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6457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45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457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6457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6645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457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6457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6645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457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6457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6645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457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6457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457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6457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457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6457d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E18E7-42B4-400E-868B-7EB652A1D6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457d"/>
              </a:solidFill>
              <a:latin typeface="黑体"/>
              <a:ea typeface="黑体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457d"/>
              </a:solidFill>
              <a:latin typeface="黑体"/>
              <a:ea typeface="黑体"/>
            </a:endParaRPr>
          </a:p>
        </p:txBody>
      </p:sp>
      <p:sp>
        <p:nvSpPr>
          <p:cNvPr id="86" name=""/>
          <p:cNvSpPr/>
          <p:nvPr/>
        </p:nvSpPr>
        <p:spPr>
          <a:xfrm>
            <a:off x="7080480" y="645336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-158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457d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457d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938600" y="508644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华文新魏"/>
                <a:ea typeface="华文新魏"/>
                <a:hlinkClick r:id="rId1"/>
              </a:rPr>
              <a:t>PPT之家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91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2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4T16:04:53Z</dcterms:created>
  <dc:creator/>
  <dc:description/>
  <dc:language>en-US</dc:language>
  <cp:lastModifiedBy/>
  <cp:lastPrinted>1899-12-30T00:00:00Z</cp:lastPrinted>
  <dcterms:modified xsi:type="dcterms:W3CDTF">2014-05-21T05:35:21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