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4394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E0A9-933D-4F69-B88A-0AB396321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939564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000" y="3093120"/>
            <a:ext cx="939564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79CD-D02C-4C6D-AF8E-F584FD00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664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9021-0EF3-47DA-9C2C-B3F195C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34784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5280" y="134784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2000" y="309312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309312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5280" y="309312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E784-7828-4FC6-86EB-B85A74A475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E6F-26C5-49D4-AF49-46915EA614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22000" y="1347840"/>
            <a:ext cx="93956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D46-C6AD-4F0D-AE1E-330D8809F4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93956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BEF-0ED3-4829-B184-67BFFCC123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D34-F02D-4C75-9281-B8DE56E4C4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F29-A4E2-492B-9E01-2DFFFE453E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22000" y="229680"/>
            <a:ext cx="9395640" cy="44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DBB-D16E-42EF-A402-3D4FA10907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9FB-569A-4DC8-97BE-B5267DBD05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2000" y="1347840"/>
            <a:ext cx="93956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43B1-CD35-442C-A566-416809D8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664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1A6-755C-4578-977D-6E93EDEEDD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2000" y="3093120"/>
            <a:ext cx="939564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C15-D069-40CF-9E8E-DAD14EAD0C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939564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2000" y="3093120"/>
            <a:ext cx="939564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D8D-73BC-40EF-BF10-0987227216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200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664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76A-7FA2-4E3A-AE48-44AD6B48FF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8640" y="134784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75280" y="134784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2000" y="309312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8640" y="309312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875280" y="3093120"/>
            <a:ext cx="302508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6EE-CFEA-41A9-BCAF-A8589B7F03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93956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5C51-40B9-4BD6-9DBB-E254BC93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4932-A1C6-413A-9D02-242A8E1D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C5A4-B1C0-4EF3-A1F7-B1B35B10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2000" y="229680"/>
            <a:ext cx="9395640" cy="44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6D6C-CB89-4178-9B4B-90F14FBC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200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7037-C7B6-469A-A79C-1D4AA192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6640" y="309312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EAFC-3810-44E8-9622-1C26B829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00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6640" y="1347840"/>
            <a:ext cx="458496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000" y="3093120"/>
            <a:ext cx="9395640" cy="15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D7E3-2A77-4552-AC0F-1BC1D660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"/>
          <p:cNvSpPr/>
          <p:nvPr/>
        </p:nvSpPr>
        <p:spPr>
          <a:xfrm>
            <a:off x="0" y="0"/>
            <a:ext cx="10441080" cy="5761080"/>
          </a:xfrm>
          <a:prstGeom prst="rect">
            <a:avLst/>
          </a:prstGeom>
          <a:solidFill>
            <a:srgbClr val="f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1" name="矩形 12"/>
          <p:cNvSpPr/>
          <p:nvPr/>
        </p:nvSpPr>
        <p:spPr>
          <a:xfrm>
            <a:off x="0" y="0"/>
            <a:ext cx="10441080" cy="576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2" name="图片 13" descr="图形2.png"/>
          <p:cNvPicPr/>
          <p:nvPr/>
        </p:nvPicPr>
        <p:blipFill>
          <a:blip r:embed="rId2"/>
          <a:stretch/>
        </p:blipFill>
        <p:spPr>
          <a:xfrm>
            <a:off x="2664000" y="0"/>
            <a:ext cx="7777080" cy="57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537040" y="5362560"/>
            <a:ext cx="138924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diHau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diHaus"/>
              </a:rPr>
              <a:t>p. </a:t>
            </a:r>
            <a:fld id="{CF17823B-12ED-4818-B30A-FED68CDFBBE8}" type="slidenum">
              <a:rPr b="0" i="1" lang="en-US" sz="1000" spc="-1" strike="noStrike">
                <a:solidFill>
                  <a:srgbClr val="000000"/>
                </a:solidFill>
                <a:latin typeface="AdiHaus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6416280" y="5357520"/>
            <a:ext cx="1849320" cy="1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i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i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0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i="1" lang="en-US" sz="12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8"/>
          <p:cNvSpPr/>
          <p:nvPr/>
        </p:nvSpPr>
        <p:spPr>
          <a:xfrm>
            <a:off x="504720" y="379440"/>
            <a:ext cx="9574200" cy="500040"/>
          </a:xfrm>
          <a:prstGeom prst="rect">
            <a:avLst/>
          </a:prstGeom>
          <a:solidFill>
            <a:srgbClr val="eeeef9"/>
          </a:solidFill>
          <a:ln w="0">
            <a:noFill/>
          </a:ln>
          <a:effectLst>
            <a:outerShdw dist="38183" dir="81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2" name="Line 37"/>
          <p:cNvSpPr/>
          <p:nvPr/>
        </p:nvSpPr>
        <p:spPr>
          <a:xfrm>
            <a:off x="4065480" y="5205240"/>
            <a:ext cx="0" cy="55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3" name="Line 67"/>
          <p:cNvSpPr/>
          <p:nvPr/>
        </p:nvSpPr>
        <p:spPr>
          <a:xfrm>
            <a:off x="6299280" y="5205240"/>
            <a:ext cx="0" cy="55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4" name="Line 68"/>
          <p:cNvSpPr/>
          <p:nvPr/>
        </p:nvSpPr>
        <p:spPr>
          <a:xfrm>
            <a:off x="8381880" y="5205240"/>
            <a:ext cx="0" cy="55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45" name="图片 12" descr="wawa.png"/>
          <p:cNvPicPr/>
          <p:nvPr/>
        </p:nvPicPr>
        <p:blipFill>
          <a:blip r:embed="rId2"/>
          <a:stretch/>
        </p:blipFill>
        <p:spPr>
          <a:xfrm rot="21161400">
            <a:off x="324000" y="4190760"/>
            <a:ext cx="253044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3" descr="123.png"/>
          <p:cNvPicPr/>
          <p:nvPr/>
        </p:nvPicPr>
        <p:blipFill>
          <a:blip r:embed="rId3"/>
          <a:stretch/>
        </p:blipFill>
        <p:spPr>
          <a:xfrm>
            <a:off x="7292880" y="22320"/>
            <a:ext cx="2381400" cy="739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ldNum" idx="3"/>
          </p:nvPr>
        </p:nvSpPr>
        <p:spPr>
          <a:xfrm>
            <a:off x="8537040" y="5362560"/>
            <a:ext cx="138924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diHau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diHaus"/>
              </a:rPr>
              <a:t>p. </a:t>
            </a:r>
            <a:fld id="{9703D6C4-9E99-4180-96DB-8B9FB867EA7D}" type="slidenum">
              <a:rPr b="0" i="1" lang="en-US" sz="1000" spc="-1" strike="noStrike">
                <a:solidFill>
                  <a:srgbClr val="000000"/>
                </a:solidFill>
                <a:latin typeface="AdiHaus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22000" y="229680"/>
            <a:ext cx="939564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diHaus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522000" y="1347840"/>
            <a:ext cx="93956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iHau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  <a:p>
            <a:pPr lvl="1" marL="184320" indent="-182880">
              <a:spcBef>
                <a:spcPts val="451"/>
              </a:spcBef>
              <a:buClr>
                <a:srgbClr val="000000"/>
              </a:buClr>
              <a:buFont typeface="AdiHaus"/>
              <a:buChar char="•"/>
              <a:tabLst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iHau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diHaus"/>
            </a:endParaRPr>
          </a:p>
          <a:p>
            <a:pPr lvl="2" marL="351000" indent="-165240">
              <a:spcBef>
                <a:spcPts val="400"/>
              </a:spcBef>
              <a:buClr>
                <a:srgbClr val="000000"/>
              </a:buClr>
              <a:buFont typeface="AdiHaus"/>
              <a:buChar char="-"/>
              <a:tabLst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diHau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diHaus"/>
            </a:endParaRPr>
          </a:p>
          <a:p>
            <a:pPr lvl="3" marL="536400" indent="-183960">
              <a:spcBef>
                <a:spcPts val="400"/>
              </a:spcBef>
              <a:buClr>
                <a:srgbClr val="000000"/>
              </a:buClr>
              <a:buFont typeface="AdiHaus"/>
              <a:buChar char="-"/>
              <a:tabLst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  <a:tab algn="l" pos="5902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diHau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diHaus"/>
            </a:endParaRPr>
          </a:p>
          <a:p>
            <a:pPr lvl="4" marL="711360" indent="-166680">
              <a:spcBef>
                <a:spcPts val="400"/>
              </a:spcBef>
              <a:buClr>
                <a:srgbClr val="000000"/>
              </a:buClr>
              <a:buFont typeface="AdiHaus"/>
              <a:buChar char="-"/>
              <a:tabLst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  <a:tab algn="l" pos="5634000"/>
                <a:tab algn="l" pos="5902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diHau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diHaus"/>
            </a:endParaRPr>
          </a:p>
          <a:p>
            <a:pPr lvl="5" marL="711360" indent="-166680">
              <a:spcBef>
                <a:spcPts val="400"/>
              </a:spcBef>
              <a:buClr>
                <a:srgbClr val="000000"/>
              </a:buClr>
              <a:buFont typeface="AdiHa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diHau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diHaus"/>
            </a:endParaRPr>
          </a:p>
          <a:p>
            <a:pPr lvl="6" marL="711360" indent="-166680">
              <a:spcBef>
                <a:spcPts val="400"/>
              </a:spcBef>
              <a:buClr>
                <a:srgbClr val="000000"/>
              </a:buClr>
              <a:buFont typeface="AdiHau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diHau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7280" y="53290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diHaus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3"/>
          <p:cNvSpPr/>
          <p:nvPr/>
        </p:nvSpPr>
        <p:spPr>
          <a:xfrm>
            <a:off x="8537400" y="5362560"/>
            <a:ext cx="13892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diHaus"/>
              </a:rPr>
              <a:t>p. </a:t>
            </a:r>
            <a:fld id="{534B6BD1-4CC2-4FF9-B6A2-6E70FC4F1C56}" type="slidenum">
              <a:rPr b="0" i="1" lang="en-US" sz="1000" spc="-1" strike="noStrike">
                <a:solidFill>
                  <a:srgbClr val="000000"/>
                </a:solidFill>
                <a:latin typeface="AdiHaus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88" name="Picture 8" descr="@]5FX736C9SC2LR`WHDF2DT"/>
          <p:cNvPicPr/>
          <p:nvPr/>
        </p:nvPicPr>
        <p:blipFill>
          <a:blip r:embed="rId1"/>
          <a:stretch/>
        </p:blipFill>
        <p:spPr>
          <a:xfrm>
            <a:off x="4871880" y="2589120"/>
            <a:ext cx="695520" cy="581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@]5FX736C9SC2LR`WHDF2DT"/>
          <p:cNvPicPr/>
          <p:nvPr/>
        </p:nvPicPr>
        <p:blipFill>
          <a:blip r:embed="rId2"/>
          <a:stretch/>
        </p:blipFill>
        <p:spPr>
          <a:xfrm>
            <a:off x="4871880" y="2589120"/>
            <a:ext cx="695520" cy="58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@]5FX736C9SC2LR`WHDF2DT"/>
          <p:cNvPicPr/>
          <p:nvPr/>
        </p:nvPicPr>
        <p:blipFill>
          <a:blip r:embed="rId3"/>
          <a:stretch/>
        </p:blipFill>
        <p:spPr>
          <a:xfrm>
            <a:off x="4871880" y="2589120"/>
            <a:ext cx="695520" cy="581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@]5FX736C9SC2LR`WHDF2DT"/>
          <p:cNvPicPr/>
          <p:nvPr/>
        </p:nvPicPr>
        <p:blipFill>
          <a:blip r:embed="rId4"/>
          <a:stretch/>
        </p:blipFill>
        <p:spPr>
          <a:xfrm>
            <a:off x="4871880" y="2589120"/>
            <a:ext cx="695520" cy="581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4284720" y="5040360"/>
            <a:ext cx="1439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8537400" y="5362560"/>
            <a:ext cx="13892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diHaus"/>
              </a:rPr>
              <a:t>p. </a:t>
            </a:r>
            <a:fld id="{792A4E1D-9572-4667-A5FF-561320A23624}" type="slidenum">
              <a:rPr b="0" i="1" lang="en-US" sz="1000" spc="-1" strike="noStrike">
                <a:solidFill>
                  <a:srgbClr val="000000"/>
                </a:solidFill>
                <a:latin typeface="AdiHaus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94" name="日期占位符 4"/>
          <p:cNvSpPr/>
          <p:nvPr/>
        </p:nvSpPr>
        <p:spPr>
          <a:xfrm>
            <a:off x="6416640" y="5357880"/>
            <a:ext cx="184932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i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i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0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i="1" lang="en-US" sz="1200" spc="-1" strike="noStrike">
              <a:solidFill>
                <a:srgbClr val="000000"/>
              </a:solidFill>
              <a:latin typeface="AdiHaus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0" y="0"/>
            <a:ext cx="10441080" cy="576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i="1" lang="en-US" sz="1800" spc="-1" strike="noStrike">
              <a:solidFill>
                <a:srgbClr val="000000"/>
              </a:solidFill>
              <a:latin typeface="AdiHaus"/>
            </a:endParaRPr>
          </a:p>
        </p:txBody>
      </p:sp>
      <p:pic>
        <p:nvPicPr>
          <p:cNvPr id="96" name="图片 15" descr="123.png"/>
          <p:cNvPicPr/>
          <p:nvPr/>
        </p:nvPicPr>
        <p:blipFill>
          <a:blip r:embed="rId1"/>
          <a:stretch/>
        </p:blipFill>
        <p:spPr>
          <a:xfrm>
            <a:off x="2505240" y="3738600"/>
            <a:ext cx="5240160" cy="1623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080" y="5257800"/>
            <a:ext cx="4874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3333cc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600" spc="-1" strike="noStrike">
              <a:solidFill>
                <a:srgbClr val="000000"/>
              </a:solidFill>
              <a:latin typeface="AdiHa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667800" cy="5760720"/>
            <a:chOff x="0" y="0"/>
            <a:chExt cx="9667800" cy="5760720"/>
          </a:xfrm>
        </p:grpSpPr>
        <p:sp>
          <p:nvSpPr>
            <p:cNvPr id="99" name="矩形 4"/>
            <p:cNvSpPr/>
            <p:nvPr/>
          </p:nvSpPr>
          <p:spPr>
            <a:xfrm>
              <a:off x="124020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diHaus"/>
              </a:endParaRPr>
            </a:p>
          </p:txBody>
        </p:sp>
        <p:pic>
          <p:nvPicPr>
            <p:cNvPr id="1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40000"/>
              <a:ext cx="9667800" cy="43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7"/>
            <p:cNvSpPr/>
            <p:nvPr/>
          </p:nvSpPr>
          <p:spPr>
            <a:xfrm rot="20926800">
              <a:off x="2207880" y="2998800"/>
              <a:ext cx="53294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diHau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2:25:10Z</dcterms:created>
  <dc:creator>kerstin</dc:creator>
  <dc:description/>
  <dc:language>en-US</dc:language>
  <cp:lastModifiedBy>微软用户</cp:lastModifiedBy>
  <cp:lastPrinted>1899-12-30T00:00:00Z</cp:lastPrinted>
  <dcterms:modified xsi:type="dcterms:W3CDTF">2014-05-29T06:09:51Z</dcterms:modified>
  <cp:revision>1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