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8453-F09A-46E7-9060-12904F2FF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0040" y="142200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0040" y="378720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6C96-D6F7-4D8F-AD31-682150A4A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0040" y="14220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7080" y="14220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0040" y="3787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7080" y="3787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A6E9-5803-47BF-A3BA-0C17AC203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0040" y="14220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2480" y="14220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4920" y="14220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0040" y="37872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2480" y="37872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4920" y="37872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55EA-2426-4575-B3D9-FD96ECB46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9DD2B-0368-4488-94E8-304CA03CF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0040" y="14220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32A87-1072-4ADE-A30C-C1D0DFE99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0040" y="14220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D095F-F574-407F-B169-5915B24DA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0040" y="14220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7080" y="14220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88819-9639-4AE7-9BA7-A73E86296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7230E-49FE-4136-9EAB-814832D3A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0040" y="480960"/>
            <a:ext cx="822960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E8344-39B7-4751-A7B1-DFF06C729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0040" y="14220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7080" y="14220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0040" y="3787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D6BB5-DD37-42BF-B2C5-B49D043C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0040" y="14220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3EE7-7ABD-4826-BC1B-C10856DF5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0040" y="14220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4220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7080" y="3787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8EBD9-303C-4582-8D7A-14329C5D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0040" y="14220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14220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0040" y="378720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6D317-A62B-4498-8F08-267D3C70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0040" y="142200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0040" y="378720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63F31-06BF-4B90-92F4-8A050D979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0040" y="14220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7080" y="14220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0040" y="3787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7080" y="3787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B3BD5-9F30-4E59-BB2A-94D7F0566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0040" y="14220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82480" y="14220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64920" y="14220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0040" y="37872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82480" y="37872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64920" y="37872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9CF33-3DB7-4422-9C7A-075686CAA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0040" y="14220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4BC6-8B87-40B6-A4D3-DF5DF6990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0040" y="14220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7080" y="14220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E1DF-F63D-4B15-AF7C-E801EF7B9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4C1E-224B-4077-8EE4-DE8564F52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0040" y="480960"/>
            <a:ext cx="822960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B24F-E912-4502-B13A-EDC8A3E7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0040" y="14220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7080" y="14220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0040" y="3787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1A0C-E77C-43F2-8B2C-D94CBC91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0040" y="14220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4220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7080" y="3787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19E4-F945-47A5-9D51-295C951B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0040" y="14220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4220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0040" y="378720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C353-B00A-433D-86CB-D58CAE6C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0040" y="14220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黑体"/>
                <a:ea typeface="黑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5604E-68E9-4E33-AE7B-E885560C8D62}" type="slidenum">
              <a:rPr b="0" lang="zh-CN" sz="1200" spc="-1" strike="noStrike">
                <a:solidFill>
                  <a:srgbClr val="898989"/>
                </a:solidFill>
                <a:latin typeface="黑体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84000" y="2133360"/>
            <a:ext cx="6335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黑体"/>
                <a:ea typeface="黑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黑体"/>
                <a:ea typeface="黑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黑体"/>
                <a:ea typeface="黑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E8F65-5139-445A-905C-F93C8598BAEE}" type="slidenum">
              <a:rPr b="0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484000" y="2133360"/>
            <a:ext cx="6335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413080" y="3213000"/>
            <a:ext cx="6400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4" name=""/>
          <p:cNvSpPr/>
          <p:nvPr/>
        </p:nvSpPr>
        <p:spPr>
          <a:xfrm>
            <a:off x="723744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0040" y="14220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84000" y="2133360"/>
            <a:ext cx="6335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</a:rPr>
              <a:t>感谢欣赏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8" name=""/>
          <p:cNvSpPr/>
          <p:nvPr/>
        </p:nvSpPr>
        <p:spPr>
          <a:xfrm>
            <a:off x="1938600" y="645336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17bbfd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17bbfd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17bbfd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17bbfd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31T05:52:40Z</dcterms:created>
  <dc:creator/>
  <dc:description/>
  <dc:language>en-US</dc:language>
  <cp:lastModifiedBy>User</cp:lastModifiedBy>
  <cp:lastPrinted>1899-12-30T00:00:00Z</cp:lastPrinted>
  <dcterms:modified xsi:type="dcterms:W3CDTF">2014-05-21T04:25:58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