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0C3-6C25-4784-9527-F1EAE773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B35-BF43-458C-A70C-C2DEF6B5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54D-DC9C-4F89-8551-9D1D35CB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13F-54F1-4F9D-BDE8-8ADB0E200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F711-8190-414D-9B12-77D289D0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E10D-27CF-4AEE-8F05-D90EF00D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6436-8ED3-468A-893C-3A4F41C0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7C9C-FFA0-4908-AE7C-910FF2FA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08D3-69B0-4AC5-B621-8B217FBF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6AE0-5B73-4A14-A88A-7ED66257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BB77-053E-4912-810C-4057FB1E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EBA-A1B1-48C6-AD1B-466E51A8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FDCD-872D-4D98-A01E-D7474F89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D1FA-ADCE-447C-9A85-41D90DC8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0377-66FF-47AB-8B62-4DC8233F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87D0-68ED-4E43-BF23-8859AFDB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8B30-0C70-4FCD-B088-908A54F5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418-8EAA-4C6A-9AF0-B86CB0C2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775-DFA0-4470-B257-E49D7F5F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97AD-DA87-48D2-A876-5BF50FBF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C83-4C32-497E-9A7D-98D6E2B4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0A7-895A-4F1C-8B6E-A3BA9351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7EB-566E-48B0-AF3A-B12B58B7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35B-ACCE-4284-958A-DCFDBE39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1E6D-DABB-45EB-A077-6107BE9743C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572C-D720-4E8F-8A73-34E95C4BEFC8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4067280" y="2205000"/>
            <a:ext cx="4681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单击添加幻灯片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5219640" y="3213000"/>
            <a:ext cx="312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0" y="614376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模板的使用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28760" y="1214280"/>
            <a:ext cx="82072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"/>
          <p:cNvSpPr/>
          <p:nvPr/>
        </p:nvSpPr>
        <p:spPr>
          <a:xfrm>
            <a:off x="1745640" y="61722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b5353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db535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db535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db535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0:01:56Z</dcterms:created>
  <dc:creator>lxym148</dc:creator>
  <dc:description/>
  <dc:language>en-US</dc:language>
  <cp:lastModifiedBy>king</cp:lastModifiedBy>
  <cp:lastPrinted>1899-12-30T00:00:00Z</cp:lastPrinted>
  <dcterms:modified xsi:type="dcterms:W3CDTF">2014-06-03T08:37:21Z</dcterms:modified>
  <cp:revision>12</cp:revision>
  <dc:subject/>
  <dc:title>母亲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