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85F-D037-42F6-A030-15C8731A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DA5-BDC3-4201-902F-538B4F8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973-3A19-4B3F-9E46-4EF89818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354-C4B6-4815-B8F3-E9828CC3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08F0-8F4D-4F08-B48B-137F2609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499-45E4-41B4-8CBE-EE2AAC4E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9813-4C61-4572-9AC3-83890FF2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B5B-7B23-4E3C-A053-B85AB06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D6C5-8070-4140-A899-29539ED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A73-3DF6-4B88-BF79-9F0834A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50B-953F-46D0-8E17-1E4CCF8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EC5-B435-4996-94B2-3E01F1B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1CE-FE7C-4F82-B8AD-7E0183A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5A1-415F-498A-8F00-B144103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93A-980D-49AF-8C81-AFD67EE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4328-A604-479C-BDFD-9489E218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E520-3AC9-41C4-AA18-BBA4A7FA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93B-AB99-4A02-89B7-0A144A4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FB1-FE4E-4B7C-A73B-110A254F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1FF-73D6-4F24-845B-F7B7E78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489-19F9-4AE5-A695-B8A630F1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801-6C08-4421-8D15-E9852E7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CFD-D095-4666-A176-A12C964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6F6-2EAD-4C79-8D91-3B2D2F8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4000" cy="1268280"/>
            <a:chOff x="0" y="0"/>
            <a:chExt cx="9144000" cy="1268280"/>
          </a:xfrm>
        </p:grpSpPr>
        <p:pic>
          <p:nvPicPr>
            <p:cNvPr id="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8" descr=""/>
          <p:cNvPicPr/>
          <p:nvPr/>
        </p:nvPicPr>
        <p:blipFill>
          <a:blip r:embed="rId4"/>
          <a:stretch/>
        </p:blipFill>
        <p:spPr>
          <a:xfrm>
            <a:off x="-117360" y="-19080"/>
            <a:ext cx="1671480" cy="244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77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f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af2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af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2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f2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B9A-497F-4874-8707-B90D8A8EB6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图片 7" descr=""/>
          <p:cNvPicPr/>
          <p:nvPr/>
        </p:nvPicPr>
        <p:blipFill>
          <a:blip r:embed="rId3"/>
          <a:stretch/>
        </p:blipFill>
        <p:spPr>
          <a:xfrm>
            <a:off x="-1112760" y="692280"/>
            <a:ext cx="5735520" cy="8499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4000" y="1580760"/>
            <a:ext cx="5548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77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f2777"/>
                </a:solidFill>
                <a:latin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f2777"/>
                </a:solidFill>
                <a:latin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0E60-46B2-461D-BAB6-1F120A9E87EE}" type="slidenum">
              <a:rPr b="0" lang="en-US" sz="1400" spc="-1" strike="noStrike">
                <a:solidFill>
                  <a:srgbClr val="af2777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af2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77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2777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af277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af277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1580760"/>
            <a:ext cx="5548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  <a:ea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63640" y="4532040"/>
            <a:ext cx="554508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23276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650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1:43:03Z</dcterms:created>
  <dc:creator>王琳</dc:creator>
  <dc:description/>
  <dc:language>en-US</dc:language>
  <cp:lastModifiedBy>微软用户</cp:lastModifiedBy>
  <dcterms:modified xsi:type="dcterms:W3CDTF">2014-05-21T03:21:16Z</dcterms:modified>
  <cp:revision>6</cp:revision>
  <dc:subject/>
  <dc:title>粉红色调主调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